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3DB4-0D4E-4FFB-8E9D-2D3AC935C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685E-0EC4-4A62-AE97-012CAF51E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7E3D-696E-47F3-B048-572564D5B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930-5B5A-4BF4-85D7-8F24CBC9D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8067-22E1-484D-BE85-8C8C0D4DB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1531-D823-47E4-B338-0723B1F98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0359-D4F8-4B02-92D5-2D92289ED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054F-4B27-4B14-87CF-279829A01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92BA-792B-4831-805C-A619CC3C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C6A5-8295-4EBE-B72F-B2CAB10AE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B897-9225-4AF9-9404-143028256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9E0B-039E-412E-8DF6-EB0F7ED64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AF44-0A76-4B1F-9344-656FF7995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2F81-C42C-458A-8053-6BC02887D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8C89-7B8F-4ABB-8F0E-A22796471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9F4A-2F26-4A66-995A-58E56368B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304B-01AE-4E98-A675-C2116AEE7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BE6E-75E4-4EB1-9528-84BE2BC89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5EC3-07A4-46DB-9A05-F7C7A6D78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7BEE-F659-4DE7-AB22-49A9E568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7F96-BF11-4D1C-88C1-1D3C67C14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E485-B45D-4F30-9458-187476774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B6E1-B380-4098-9035-DC1DA82DF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LYRICS OF "THE STAR-SPANGLED BANNER", WHAT IS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ROM THE EN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  (OY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OPEYE'S GIRL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WINDOW PROTRUDES FROM THE MAIN WALLS OF A BUIL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/ HORROR FILM HAD TAG LINE "HORROR HAS FOUND A NEW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AR  AND) 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95480" y="76824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HREE-WORD TITLE OF LEO TOLSTOY'S BEST-KNOWN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14280" y="762120"/>
            <a:ext cx="8515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7 BASIC NECESSITIES OF CHINESE LIFE" ARE FIREWOOD, RICE, OIL, SALT, SOY SAUCE, VINEGA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EST PICTURE NOMINEE IS ABOUT A WOMAN AND HER SON WHO ESCAPE CAPTIV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1560" y="762120"/>
            <a:ext cx="7400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OPEYE'S GIRL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30320" y="762120"/>
            <a:ext cx="7083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HAT DID CHE GUEVARA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26708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  (OF  THE  FREE  AND  THE  HOME  OF  THE  BRA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LYRICS OF "THE STAR-SPANGLED BANNER", WHAT IS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ROM THE E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33360" y="4800600"/>
            <a:ext cx="847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GRE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WINDOW PROTRUDES FROM THE MAIN WALLS OF A BUIL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/ HORROR FILM HAD TAG LINE "HORROR HAS FOUND A NEW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HREE-WORD TITLE OF LEO TOLSTOY'S BEST-KNOWN 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7 BASIC NECESSITIES OF CHINESE LIFE" ARE FIREWOOD, RICE, OIL, SALT, SOY SAUCE, VINEGA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38240" y="762120"/>
            <a:ext cx="706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EST PICTURE NOMINEE IS ABOUT A WOMAN AND HER SON WHO ESCAPE CAPTIVI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HAT DID CHE GUEVARA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8:06Z</dcterms:modified>
  <cp:revision>345</cp:revision>
  <dc:subject/>
  <dc:title>Slide 1</dc:title>
</cp:coreProperties>
</file>