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B5C8-018D-4CBA-A02E-36534977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392A-80B9-4A26-B217-DC53396F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5F5-9143-4325-9E8E-B9479B11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17A-7307-4A5A-BBEE-AF2ED38F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E3A-B593-40FE-9370-4BEA9606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902-3116-4874-A21A-25EBC59D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E46-03C7-46E7-8260-329BF1251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2E1-5217-414A-B0E8-984BB705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DF41-0E52-412F-935A-9BFB86636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6FF-70BD-429A-8897-C9E90CA1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AC36-6B01-4279-8874-8E8C7CE7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D9B-D153-45E3-8664-73090162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6D9-B1AE-4D1D-B21A-5FFD1404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7FC-A3E1-45D7-BC0C-96A1DDD3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1A77-1104-497A-892C-5481E00B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EA68-47F2-45EC-BE5B-C06B49CA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C59-BF6F-446D-B820-BF8B6B12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720-FD2C-4D8D-BA27-CD379895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268-C0A7-42D9-81F2-A21F54D3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7D7-0E53-49FA-9A32-BEAE9F02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BF47-4935-4079-BBFF-7939A0DC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47A3-0CFB-4B62-A2D1-6AFFC628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4A86-F774-4599-9B87-232262A2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  (OY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AR  AND)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14280" y="762120"/>
            <a:ext cx="851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40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0320" y="762120"/>
            <a:ext cx="708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2670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(OF  THE  FREE  AND  THE  HOME  OF  THE  BRA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33360" y="4800600"/>
            <a:ext cx="847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RE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06Z</dcterms:modified>
  <cp:revision>345</cp:revision>
  <dc:subject/>
  <dc:title>Slide 1</dc:title>
</cp:coreProperties>
</file>