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D91E-6E8A-4A67-B73E-2C8C89ED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11B7-F68E-442B-A1F7-4C65C1C9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0568-7884-4B11-A059-AE355108E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43F-5008-4751-8C81-248A0C519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D91F-D64C-4121-A844-FFE7A2BC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09DE-361B-49D7-B5BA-9F226404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0051-42EE-4D90-AFD0-F9EB9691D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D468-D238-4F1E-A3C5-46FE55523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4BBC-3297-4176-A29B-8D10FB8A8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EC8C-72F1-47BC-835D-9C5207EDA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D29D-C1C1-42DE-89C4-E0F35C084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473B-A86E-4D80-A577-EAC50EE47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D646-6FEB-48E7-BEF4-713A758AB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E866-53AE-4040-B517-AC50BB15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CA90-D449-4804-8918-8CE523DE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9EF2-CAC1-4317-983A-49D9F7659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10D2-10FE-461F-97FA-833B8E67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5579-E00F-4307-A868-8BADF0F9B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4A1B-21C8-46E7-AEE5-4963478DD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FD91-9991-4B3A-BBB9-2BBA9D702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3D20-1DA2-447F-81FD-B5A780DC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8FFE-7BFC-4174-B399-D3DD7BEB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5B81-386C-42F3-B5DF-26B59AB4A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YRICS OF "THE STAR-SPANGLED BANNER", WHAT IS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ROM THE EN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  (OY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OPEYE'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INDOW PROTRUDES FROM THE MAIN WALLS OF A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/ HORROR FILM HAD TAG LINE "HORROR HAS FOUND A NEW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AR  AND) 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HREE-WORD TITLE OF LEO TOLSTOY'S BEST-KNOWN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14280" y="762120"/>
            <a:ext cx="8515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7 BASIC NECESSITIES OF CHINESE LIFE" ARE FIREWOOD, RICE, OIL, SALT, SOY SAUCE, VINEGA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EST PICTURE NOMINEE IS ABOUT A WOMAN AND HER SON WHO ESCAPE CAPTIV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40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OPEYE'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30320" y="762120"/>
            <a:ext cx="708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HAT DID CHE GUEVARA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2670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  (OF  THE  FREE  AND  THE  HOME  OF  THE  BRA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YRICS OF "THE STAR-SPANGLED BANNER", WHAT IS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ROM THE E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33360" y="4800600"/>
            <a:ext cx="847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GRE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INDOW PROTRUDES FROM THE MAIN WALLS OF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/ HORROR FILM HAD TAG LINE "HORROR HAS FOUND A NEW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HREE-WORD TITLE OF LEO TOLSTOY'S BEST-KNOWN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7 BASIC NECESSITIES OF CHINESE LIFE" ARE FIREWOOD, RICE, OIL, SALT, SOY SAUCE, VINEGA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EST PICTURE NOMINEE IS ABOUT A WOMAN AND HER SON WHO ESCAPE CAPTIV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HAT DID CHE GUEVARA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06Z</dcterms:modified>
  <cp:revision>345</cp:revision>
  <dc:subject/>
  <dc:title>Slide 1</dc:title>
</cp:coreProperties>
</file>