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9417-0D43-40B7-B510-766354A33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10A9-03C6-4B53-A9A5-704682CE8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FFD2-CF7C-4398-9025-6A243B4E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6EF-839A-484F-82A5-F3E85A053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5730-A5B9-4D93-AAC3-113D86C03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DA81-A2AE-45D6-9A3E-586D5AF8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24BC-70FF-4DD7-84B4-9AC65A0B5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664D-8E8A-4774-88B1-E681ECFB8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CB2B-580A-4D3F-ACC4-CEE5C1010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8C62-7AEE-44B9-932F-F27DF75B0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0B53-90CC-4A69-876A-D6C225F1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303-5FB3-4412-B0DC-AB883EC9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7E74-EA0B-40F6-A180-26CE9EA2F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11D9-2117-40ED-A77F-3F6DEE16C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0B03-D304-4435-A2A1-2ADCAA69E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C9DC-4F66-4AE8-8F0C-3A53B0DDE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77E6-9908-4084-B372-6A1D34C4B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82A6-D6E6-4B8F-9E72-54D518FFC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D501-E1FF-4CE8-BF52-BD19B8C1F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82D6-FC47-40A9-A7B2-2C7759562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D4F4-F9A5-4CEF-A037-1D9352BAB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68DE-89A0-4D14-967E-48F995AD7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61F2-DACA-4E4B-B472-0DCDE309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6120" y="761760"/>
            <a:ext cx="7869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HALL-OF-FAMER JERRY KRAMER PLAY FOR THE GREEN BAY PACKERS WHEN THEY WON THE FIRST 2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 OF PAUL BUNYAN SERVES AS THE TROPHY FOR THE ANNUAL MINNESOTA – WISCONSIN COLLEGE FOOTBALL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8200" y="762120"/>
            <a:ext cx="752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NDICATES THAT A SPARKLING WINE HAS ALMOST NO SUG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G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17600" y="762120"/>
            <a:ext cx="650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LYNOMIAL 6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7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8x+9, 3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85960" y="762120"/>
            <a:ext cx="7372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LOGO IS A BUNNY IN A BOWT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9600" y="762120"/>
            <a:ext cx="8524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BUS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9600" y="762120"/>
            <a:ext cx="7984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OK OF GENESIS, WHAT SORT OF BIRD BRINGS NEWS THAT THE FLOOD WATERS HAVE RECED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L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85960" y="762120"/>
            <a:ext cx="7372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DIUM'S ADDRESS IS 1 PATRIOT PLACE, FOXBOROUGH, 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 OF PAUL BUNYAN SERVES AS THE TROPHY FOR THE ANNUAL MINNESOTA – WISCONSIN COLLEGE FOOTBALL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UNITED  STATES)  SECRET  (SERV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MIDDLE "S" STAND FOR IN "US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  GU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7240" y="762120"/>
            <a:ext cx="7769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HALL-OF-FAMER JERRY KRAMER PLAY FOR THE GREEN BAY PACKERS WHEN THEY WON THE FIRST 2 SUPER BOW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6640" y="4876920"/>
            <a:ext cx="747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DEODO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NDICATES THAT A SPARKLING WINE HAS ALMOST NO SUG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7200" y="762120"/>
            <a:ext cx="642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LYNOMIAL 6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7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8x+9, 3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LOGO IS A BUNNY IN A BOWT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BUS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OK OF GENESIS, WHAT SORT OF BIRD BRINGS NEWS THAT THE FLOOD WATERS HAVE RECED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DIUM'S ADDRESS IS 1 PATRIOT PLACE, FOXBOROUGH, 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MIDDLE "S" STAND FOR IN "US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8:24Z</dcterms:modified>
  <cp:revision>394</cp:revision>
  <dc:subject/>
  <dc:title>Slide 1</dc:title>
</cp:coreProperties>
</file>