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C6A9-86B5-47B9-998A-93FD3EDA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4D5-2C6F-4ECA-9A5C-7572DDA3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91B8-DD80-45CD-B075-8E2C7502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49E-5011-4599-A338-A3C4A447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9289-1CDF-43DD-B48C-3A1A4884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E96-4A56-4EA5-A0C7-F136FE91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6EC-DB94-4CE4-A03F-BEFAFEA5B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DB16-CE1F-4D7D-AB54-0E749CAA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393-C913-404F-9F45-19747DD2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C8C-EC2B-4F9F-829B-1E872442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88A-F03B-49BA-A417-BF9BCBC1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C71-EFEF-4701-BF42-43FF9D07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3C6-F29C-455C-8B1F-2B02319E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150-E696-4EE0-84ED-8EFD6C70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902-86C0-46C7-AE1C-D1AC9981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B27-EB4C-455C-AD31-94A84B97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1C06-6412-46F6-807A-70D095F66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30C6-E1F0-4E5B-975C-ADCE523E7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5F5-E7DB-4131-8E6C-D7B7DF7A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33B-6C36-4584-A724-11954EE1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5D6-CFDB-44CB-A773-0010647C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0AD-DB0A-4B8F-AA67-362C1C1F8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2B4-E4D8-4EB1-9634-AB82997B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6120" y="761760"/>
            <a:ext cx="786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8200" y="762120"/>
            <a:ext cx="752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7600" y="762120"/>
            <a:ext cx="650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85960" y="762120"/>
            <a:ext cx="737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SECRET  (SERV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  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DEODO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24Z</dcterms:modified>
  <cp:revision>394</cp:revision>
  <dc:subject/>
  <dc:title>Slide 1</dc:title>
</cp:coreProperties>
</file>