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415C-6CD6-4052-8592-A614F4DC5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F42-6B35-4DD4-802C-E10C4B9C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EA52-686C-476E-89DF-3F01CD1F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65D-9361-4B5A-9B3C-EEF3C973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21B6-79AB-4152-AF75-2756F200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5F0-5AD5-4212-BB74-BABA550A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DAB-EC23-40D1-8609-3F61AF48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1198-AB2A-4107-AE6F-AFFFC4EC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176-ADCD-4547-8173-16E81662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A25-057D-48CD-A655-8567627F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788-101F-4C3C-8FF7-6E5B6695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540-B048-4BA6-B2C5-7291690E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10E1-8EF8-47B7-9393-EA39F58B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D76-ACE2-4DBF-9E9E-C154FE90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E87-7786-4FBE-94B9-B47D031A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B3B5-239A-4BA0-9F30-B985DAE0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8AA-741C-4641-8E1C-0A8187D7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4C3-84AF-4A4A-856F-83D5C49B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505E-B50E-4CDF-85DE-9FF6EEA3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2D1-71C0-4527-9F39-6D3AA2CD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D64-E786-42C5-981B-7D368930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838F-6A80-44EC-9CA6-9988245A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D643-1C1B-44C2-A3F2-7790023A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6120" y="761760"/>
            <a:ext cx="786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8200" y="762120"/>
            <a:ext cx="752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7600" y="762120"/>
            <a:ext cx="650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85960" y="762120"/>
            <a:ext cx="737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SECRET  (SERV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  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DEODO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24Z</dcterms:modified>
  <cp:revision>394</cp:revision>
  <dc:subject/>
  <dc:title>Slide 1</dc:title>
</cp:coreProperties>
</file>