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8B86A-E512-4327-A66A-8B13950C2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71B8E-0D68-4FA3-AF79-ADC10607B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4BC24-1804-4AF2-9DBB-82FD4939D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F75D3-C176-4F62-9E38-BADA10EE0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9CD7F-F36F-4D28-BEAB-49119BC8A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45BE4-6D84-439D-934C-55076596A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E553D-8723-4BC7-884B-28492C499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AC4CB-DE29-4CE0-A985-6DE95155A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438D8-38AA-4F2A-98C0-362234F7F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DEB18-93D7-48A2-BC04-7ED0C673E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DCF7A-9CD2-4638-8B67-DFB3E3474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F3C7F-47B7-4D1A-A2CD-D591DDC99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EF0C8-42C9-43C9-962C-B09FEC70F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3347-A916-4CE7-BC7A-DA9D291D8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BAB9C-D382-4696-8899-760FCCB17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AF8A6-4EDA-4BD6-8B23-B50CA11B9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46754-65DF-4ACC-A7B8-E21CD3954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96163-80E5-4084-9BCA-2BF4AF653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63061-525B-4373-BD15-BD7E80927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28B87-E473-41EC-8D99-71F1681F1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DA822-6308-430A-B1A3-8D9C5601D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AE468-419E-43C7-967A-9087543E9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12004-A6A5-49AD-8344-468DF2A0B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51920" y="761760"/>
            <a:ext cx="4459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IN THE TITLE OF THE FILM WITH THIS POS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"/>
          <p:cNvPicPr/>
          <p:nvPr/>
        </p:nvPicPr>
        <p:blipFill>
          <a:blip r:embed="rId1"/>
          <a:stretch/>
        </p:blipFill>
        <p:spPr>
          <a:xfrm>
            <a:off x="5257800" y="450720"/>
            <a:ext cx="3481560" cy="450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533520" y="762120"/>
            <a:ext cx="80769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4 FILM ABOUT RACIAL AND SOCIAL TENSIONS IN LOS ANGELES WON THE OSCAR FOR BEST PI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RLIA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627120" y="762120"/>
            <a:ext cx="788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HOUSE OF COMMONS, THE HOUSE OF LORDS, AND THE QUEEN TOGETHER COMPRISE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587520" y="762120"/>
            <a:ext cx="7967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IX FLAVORS OF QUARK ARE BOTTOM, TOP, DOWN, UP, STRANGE,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515880" y="4876920"/>
            <a:ext cx="811224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1138320" y="762120"/>
            <a:ext cx="686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FOOTBALL TEAM IS THE BLACK KNIGH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495360" y="4876920"/>
            <a:ext cx="8153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U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1214280" y="762120"/>
            <a:ext cx="67136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SLIM, FLAT HANDBAG WITHOUT HANDLES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1106640" y="4876920"/>
            <a:ext cx="6930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URDER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668160" y="762120"/>
            <a:ext cx="78076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30 HITCHCOCK FILM IS AN INNOCENT ACTRESS ON TRIAL FOR KILLING A TROUPE MEMB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VO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1143000" y="762120"/>
            <a:ext cx="6858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ATHERING MARKS THE FORMAL BEGINNING OF THE YEAR AT MANY UNIVERSITI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4 FILM ABOUT RACIAL AND SOCIAL TENSIONS IN LOS ANGELES WON THE OSCAR FOR BEST PICTU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1752480" y="4876920"/>
            <a:ext cx="5639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728640" y="762120"/>
            <a:ext cx="7686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 7 DEADLY SINS IS THOUGHT TO SEVER THE SOUL FROM GRA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HOOL  (OF  ROC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76320" y="876240"/>
            <a:ext cx="475272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WORD IN THE TITLE OF THE FILM WITH THIS POSTER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2" descr=""/>
          <p:cNvPicPr/>
          <p:nvPr/>
        </p:nvPicPr>
        <p:blipFill>
          <a:blip r:embed="rId1"/>
          <a:stretch/>
        </p:blipFill>
        <p:spPr>
          <a:xfrm>
            <a:off x="5257800" y="457200"/>
            <a:ext cx="3481560" cy="450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304920" y="480060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LLECTIVE  NOUNS  OF  ANIM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54200" y="761760"/>
            <a:ext cx="7635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HOUSE OF COMMONS, THE HOUSE OF LORDS, AND THE QUEEN TOGETHER COMPRISE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IX FLAVORS OF QUARK ARE BOTTOM, TOP, DOWN, UP, STRANGE,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100160" y="762120"/>
            <a:ext cx="69436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FOOTBALL TEAM IS THE BLACK KNIGH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114560" y="762120"/>
            <a:ext cx="6914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SLIM, FLAT HANDBAG WITHOUT HANDLES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20280" y="762120"/>
            <a:ext cx="7900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30 HITCHCOCK FILM IS AN INNOCENT ACTRESS ON TRIAL FOR KILLING A TROUPE MEMB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135080" y="761760"/>
            <a:ext cx="6873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ATHERING MARKS THE FORMAL BEGINNING OF THE YEAR AT MANY UNIVERSIT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95160" y="762120"/>
            <a:ext cx="77536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 7 DEADLY SINS IS THOUGHT TO SEVER THE SOUL FROM GRA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20:26:15Z</dcterms:created>
  <dc:creator>Jennifer Budzinski</dc:creator>
  <dc:description/>
  <dc:language>en-US</dc:language>
  <cp:lastModifiedBy>Erich Friedman</cp:lastModifiedBy>
  <dcterms:modified xsi:type="dcterms:W3CDTF">2020-08-31T12:28:43Z</dcterms:modified>
  <cp:revision>386</cp:revision>
  <dc:subject/>
  <dc:title>Slide 1</dc:title>
</cp:coreProperties>
</file>