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F0DC-3BA1-4615-AA5B-6EB4FFB7B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5FD6-CC43-4E66-9AD6-6F5D31AAD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EC29-2B29-4EDA-84AE-F12BB44FA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4FE5-678C-4107-A61C-6019AE80D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2D50-6F79-48E7-888D-5876F370E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EFFC-3770-48EC-8288-6487EF9D9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55D0-7489-428C-B9DD-9C3082789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0EBA-7145-4721-B385-0D861EC5B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2185-16DB-48D0-A86B-A82ACAD06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48C6-7DBB-4B11-AE4A-A3AD277AD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1EC3-C8EB-4BC3-AA24-3E30532EB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EF1E-F029-4D34-BED2-95DAF2205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2323-4198-46B2-8F20-9446B717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E125-3238-4779-8312-03C8CBB57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6E97-9FCE-4C54-93F4-B21F630B1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C2C4-DE7F-4332-9A1A-132CFCD0A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A86B-354F-4177-B03D-7418B3165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7D97-FCCF-411B-A0D1-D6AB0BA69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CB7E-29F6-4E83-BD52-E540E8F0A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22E3-3B88-48AD-A2BA-F84617828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DC27-A081-49B2-BAEE-D62743E97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23B9-1375-4EB1-99B3-CADB9407F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5E6E-45C4-468D-AD9E-4401EA30A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51920" y="761760"/>
            <a:ext cx="4459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FILM WITH THIS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5257800" y="450720"/>
            <a:ext cx="3481560" cy="45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33520" y="762120"/>
            <a:ext cx="807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ABOUT RACIAL AND SOCIAL TENSIONS IN LOS ANGELES WON THE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27120" y="762120"/>
            <a:ext cx="788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OUSE OF COMMONS, THE HOUSE OF LORDS, AND THE QUEEN TOGETHER COMPRIS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87520" y="762120"/>
            <a:ext cx="79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X FLAVORS OF QUARK ARE BOTTOM, TOP, DOWN, UP, STRANG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15880" y="4876920"/>
            <a:ext cx="81122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38320" y="762120"/>
            <a:ext cx="686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OOTBALL TEAM IS THE BLACK KNIGH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214280" y="762120"/>
            <a:ext cx="6713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SLIM, FLAT HANDBAG WITHOUT HANDL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D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68160" y="762120"/>
            <a:ext cx="7807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30 HITCHCOCK FILM IS AN INNOCENT ACTRESS ON TRIAL FOR KILLING A TROUPE ME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V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THERING MARKS THE FORMAL BEGINNING OF THE YEAR AT MANY UNIVERSIT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ABOUT RACIAL AND SOCIAL TENSIONS IN LOS ANGELES WON THE OSCAR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28640" y="762120"/>
            <a:ext cx="768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7 DEADLY SINS IS THOUGHT TO SEVER THE SOUL FROM GR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OOL  (OF  RO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76320" y="876240"/>
            <a:ext cx="4752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FILM WITH THIS POST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481560" cy="45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LECTIVE  NOUNS  OF 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5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OUSE OF COMMONS, THE HOUSE OF LORDS, AND THE QUEEN TOGETHER COMPRIS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X FLAVORS OF QUARK ARE BOTTOM, TOP, DOWN, UP, STRANG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0160" y="762120"/>
            <a:ext cx="6943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OOTBALL TEAM IS THE BLACK KNIGH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14560" y="762120"/>
            <a:ext cx="6914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SLIM, FLAT HANDBAG WITHOUT HANDL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20280" y="762120"/>
            <a:ext cx="7900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30 HITCHCOCK FILM IS AN INNOCENT ACTRESS ON TRIAL FOR KILLING A TROUPE ME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35080" y="761760"/>
            <a:ext cx="6873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THERING MARKS THE FORMAL BEGINNING OF THE YEAR AT MANY UNIVERSI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7 DEADLY SINS IS THOUGHT TO SEVER THE SOUL FROM GR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8:43Z</dcterms:modified>
  <cp:revision>386</cp:revision>
  <dc:subject/>
  <dc:title>Slide 1</dc:title>
</cp:coreProperties>
</file>