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96CB-B4B8-46BE-9279-5C911BDAB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1E28-C4E9-431B-9030-F8FA18DEF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E8BE-C116-426F-A05B-A44B06919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740C-B739-4DCC-9D46-14F81A79D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71F7-9038-46D0-969A-9C4269651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FF42-7A42-4086-A6FA-CD8DF5833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E6BD-4433-4648-8D9B-B8D153A1C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DF7B-89A7-409C-BF78-B00D0C10E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44CC-D015-4BD6-A74E-F02DAB2A1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F0B2-A434-4826-9CD4-AF3A22FD7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E78A-4F82-4250-B4E7-11AC4D98F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5BF2-66F1-40E3-BCE8-CFC681B81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B5C4-28B2-447A-B333-09AB03530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E864-1752-4FA4-9E12-06C71FD1A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4BC8-26AB-4BD4-9ED2-1C965388A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E1F5-3688-48A8-BD31-6B4714DE8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5269-4609-47B3-B557-3F2465286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48F1-E5D6-45DF-B995-4C6B15437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2975-A6EC-4DFC-9411-5D937C9A1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EF72-493C-4F9E-A9C9-BA1A040AD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2C6E-EC2C-4458-974A-E345C1A66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E9B6-5D33-44AF-9C26-BA05C868F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0D16-E0F9-404E-8C99-7D3D78EC9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51920" y="761760"/>
            <a:ext cx="4459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THE FILM WITH THIS PO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5257800" y="450720"/>
            <a:ext cx="3481560" cy="45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533520" y="762120"/>
            <a:ext cx="80769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FILM ABOUT RACIAL AND SOCIAL TENSIONS IN LOS ANGELES WON THE OSCAR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LIA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27120" y="762120"/>
            <a:ext cx="788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OUSE OF COMMONS, THE HOUSE OF LORDS, AND THE QUEEN TOGETHER COMPRIS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587520" y="762120"/>
            <a:ext cx="79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IX FLAVORS OF QUARK ARE BOTTOM, TOP, DOWN, UP, STRANGE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515880" y="4876920"/>
            <a:ext cx="81122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138320" y="762120"/>
            <a:ext cx="686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FOOTBALL TEAM IS THE BLACK KNIGH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95360" y="48769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U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214280" y="762120"/>
            <a:ext cx="6713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SLIM, FLAT HANDBAG WITHOUT HANDLE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RDE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68160" y="762120"/>
            <a:ext cx="7807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30 HITCHCOCK FILM IS AN INNOCENT ACTRESS ON TRIAL FOR KILLING A TROUPE MEMB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VO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THERING MARKS THE FORMAL BEGINNING OF THE YEAR AT MANY UNIVERSIT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FILM ABOUT RACIAL AND SOCIAL TENSIONS IN LOS ANGELES WON THE OSCAR FOR BEST PI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752480" y="48769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728640" y="762120"/>
            <a:ext cx="7686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7 DEADLY SINS IS THOUGHT TO SEVER THE SOUL FROM GR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HOOL  (OF  ROC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76320" y="876240"/>
            <a:ext cx="47527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THE FILM WITH THIS POST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5257800" y="457200"/>
            <a:ext cx="3481560" cy="450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04920" y="4800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LECTIVE  NOUNS  OF 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54200" y="761760"/>
            <a:ext cx="7635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OUSE OF COMMONS, THE HOUSE OF LORDS, AND THE QUEEN TOGETHER COMPRIS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IX FLAVORS OF QUARK ARE BOTTOM, TOP, DOWN, UP, STRANGE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00160" y="762120"/>
            <a:ext cx="6943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FOOTBALL TEAM IS THE BLACK KNIGH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14560" y="762120"/>
            <a:ext cx="6914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SLIM, FLAT HANDBAG WITHOUT HANDLE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20280" y="762120"/>
            <a:ext cx="7900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30 HITCHCOCK FILM IS AN INNOCENT ACTRESS ON TRIAL FOR KILLING A TROUPE MEMB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35080" y="761760"/>
            <a:ext cx="6873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THERING MARKS THE FORMAL BEGINNING OF THE YEAR AT MANY UNIVERSIT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7 DEADLY SINS IS THOUGHT TO SEVER THE SOUL FROM GR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2:28:43Z</dcterms:modified>
  <cp:revision>386</cp:revision>
  <dc:subject/>
  <dc:title>Slide 1</dc:title>
</cp:coreProperties>
</file>