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F9E4-DBCA-4FC8-A216-09F36C074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C8A0-4B93-4865-A0EC-ABCF7ED0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2603-7B84-4EE7-A0F4-4CE69465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3446-13D8-44C2-A237-B04310E8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9250-9EEA-4123-8876-2372928F6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FBF3-25A9-4F68-AD43-C4FF69BB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0C2F-AE12-404D-9A8C-AB998D72E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9246-1325-46FF-AA53-2605FE765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DD8-977D-4E88-893A-B2DDFF3D7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7880-7079-4237-83CB-1BB569AD5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E334-1F35-46B7-94AD-82966D8B0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C94-4655-40AB-B0EB-789B25F05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43FF-A2DD-4D90-B726-4C15A549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E3C0-0DCC-4C60-AC1D-642DC29E7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6372-272D-4D0E-9B79-268D5553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E217-DCAC-44D5-955D-122137B2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FAE8-B30C-4CCE-AD2B-F495F516E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A3B4-EACF-4081-A6E9-878C5B756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C049-54BE-479F-8C2A-77E60AFE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E6CA-0D99-46BE-9A54-0117BE1FF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8439-30A2-45C6-8E4E-536409398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7B76-0E09-49C9-8E1A-3DD79B24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B1B1-B6AC-494A-8ED0-5C612F377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'S REAL NAME IS TRAMAR LACEL DILL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WO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RLANDO", "TO THE LIGHTHOUSE", AND "MRS. DALLO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IR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79560" y="762120"/>
            <a:ext cx="7184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LEGEND OF SLEEPY HO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AH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LTER EGO OF MILEY CYRUS 2006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93680" y="4419720"/>
            <a:ext cx="39625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  O'KEE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63680" y="91440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23216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  F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SAG AWARD NOMINEE EVER, AT AGE 8, FOR HER ROLE IN "I AM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01640" y="762120"/>
            <a:ext cx="5940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 ON A HOT TIN ROOF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OTAGONIST OF "RAIDERS OF THE LOST ARK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1560" y="762120"/>
            <a:ext cx="739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RLANDO", "TO THE LIGHTHOUSE", AND "MRS. DALLO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INA  HERR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NEZUELAN FASHION DESIGNER FOUNDED A LUXURY CLOTHING LINE WORN BY 3 FIRST LA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  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'S REAL NAME IS TRAMAR LACEL DILLA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909720" y="4800600"/>
            <a:ext cx="7324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0400" y="761760"/>
            <a:ext cx="7240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LEGEND OF SLEEPY HOL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LTER EGO OF MILEY CYRUS 2006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2321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SAG AWARD NOMINEE EVER, AT AGE 8, FOR HER ROLE IN "I AM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41520" y="762120"/>
            <a:ext cx="606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 ON A HOT TIN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OTAGONIST OF "RAIDERS OF THE LOST 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NEZUELAN FASHION DESIGNER FOUNDED A LUXURY CLOTHING LINE WORN BY 3 FIRST LAD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9:15Z</dcterms:modified>
  <cp:revision>374</cp:revision>
  <dc:subject/>
  <dc:title>Slide 1</dc:title>
</cp:coreProperties>
</file>