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D5E8-EA8D-424E-A7B0-942ACB4B4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B558-34EB-49E5-9DD8-AACD84FA4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9F78-81D6-46B7-9981-FCEB24659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309C-DEF0-4A58-83EF-1EC15406E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B795-EC8D-4690-939E-3E24A1F7E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3DA4-3B97-4213-AB8C-F665FDA9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6D7F-4E27-4B0F-8BDD-78C8F572E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0BAB-1671-4913-AD29-864C829A5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050B-6E44-4E2B-AE07-CFE9FE1CF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FE61-5637-4D7D-B800-06B72179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C64A-6DD4-4E8D-87E5-D9D6B3914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0366-DC75-4FA2-AAD8-9671F25EE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FD0-599B-47AF-838E-EC31CFE0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E100-411E-48D6-9CAA-891968BB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FC32-6E24-4451-A552-43777737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7CF8-F312-4CDF-B870-0C3938755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234B-1508-4769-BA4D-FFA505CA2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D755-614C-41B7-B7DC-509327BF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4B60-572A-40FE-9E26-B98A49BEB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ED58-8380-4BDF-BD77-B5443B586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F591-BACC-4257-B8FC-EEF03D2C2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36AA-9C87-4F90-9DC1-EA3D813B4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4003-BD6D-4541-9682-8A5BF2ECF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'S REAL NAME IS TRAMAR LACEL DILL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RLANDO", "TO THE LIGHTHOUSE", AND "MRS. DALLO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IR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79560" y="762120"/>
            <a:ext cx="7184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LEGEND OF SLEEPY HO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H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30080" y="762120"/>
            <a:ext cx="768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LTER EGO OF MILEY CYRUS 2006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93680" y="4419720"/>
            <a:ext cx="396252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O'KEE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63680" y="914400"/>
            <a:ext cx="3429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232160" cy="472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  F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SAG AWARD NOMINEE EVER, AT AGE 8, FOR HER ROLE IN "I AM S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01640" y="762120"/>
            <a:ext cx="5940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 ON A HOT TIN ROOF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OTAGONIST OF "RAIDERS OF THE LOST AR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39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RLANDO", "TO THE LIGHTHOUSE", AND "MRS. DALLO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INA  HERR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NEZUELAN FASHION DESIGNER FOUNDED A LUXURY CLOTHING LINE WORN BY 3 FIRST LA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  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93720" y="762120"/>
            <a:ext cx="7755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'S REAL NAME IS TRAMAR LACEL DILL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909720" y="4800600"/>
            <a:ext cx="7324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0400" y="761760"/>
            <a:ext cx="7240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LEGEND OF SLEEPY HO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35120" y="762120"/>
            <a:ext cx="767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ALTER EGO OF MILEY CYRUS 2006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350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AINTED THIS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2321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SAG AWARD NOMINEE EVER, AT AGE 8, FOR HER ROLE IN "I AM S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41520" y="762120"/>
            <a:ext cx="606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 ON A HOT TIN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OTAGONIST OF "RAIDERS OF THE LOST 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NEZUELAN FASHION DESIGNER FOUNDED A LUXURY CLOTHING LINE WORN BY 3 FIRST LAD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9:15Z</dcterms:modified>
  <cp:revision>374</cp:revision>
  <dc:subject/>
  <dc:title>Slide 1</dc:title>
</cp:coreProperties>
</file>