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88B-91E9-412B-9D30-72A849B0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AA9-88FD-47A4-8C30-A3860BD79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7105-449B-4743-A22D-417FD666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650A-FFF1-4016-AA9C-7CD7A759D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D21-CB5E-4C45-9B1A-E3413DAA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9877-AF10-4911-8DD0-9A51B27A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2643-C57C-423A-B210-D76187A3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67F-2030-4247-84BB-F2FE179C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D40-1DA0-4A16-8465-0C1A53F82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E74-4633-4CB1-893F-82EDC414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78C-563D-46ED-9E07-BC87B49A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E58C-422D-4069-B8DC-6F26497A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7F96-0C2C-4C42-BF69-4E892740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F061-3D0B-4A73-A935-BCF307F2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C4D-1495-42E3-B082-CFB69697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D071-093A-4192-A295-208493CF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F1A-F496-4EC1-89C8-4C0DDFB5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5B3-9E6C-4632-804C-6022B447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E49-1D61-4DE1-AF09-E7218C3C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3B8-C969-46BD-AB75-4710BDD0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991C-37E6-4E47-B47C-98DE564C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E60-7170-4049-A6F4-471FF4C8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F18B-DE3E-47F2-9B9D-B47E0938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IR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9560" y="762120"/>
            <a:ext cx="7184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93680" y="4419720"/>
            <a:ext cx="3962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368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1640" y="762120"/>
            <a:ext cx="5940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39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A  HE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  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909720" y="4800600"/>
            <a:ext cx="7324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0400" y="761760"/>
            <a:ext cx="7240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15Z</dcterms:modified>
  <cp:revision>374</cp:revision>
  <dc:subject/>
  <dc:title>Slide 1</dc:title>
</cp:coreProperties>
</file>