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AC06-199D-444C-97AA-FF623D406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D63A-F192-4C23-B413-2B7F3F989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1F4F-D555-4A86-9095-4E1DA8C8F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E74C-8ED0-4E59-8371-EFE093015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D733-0DDF-4290-B7A1-344FD84DD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5E8C-2C05-4CBC-BCF2-434D804A0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91F9-BACD-4EEF-8DD9-2849712A4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89C4-57BB-486D-BD9C-10D0C9983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24A2-5B98-422D-B88C-AD66A3840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2F58-1F88-41B9-AF35-9DB52E2FF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F1C8-23F1-4EDA-BD40-3F448899C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3C35-EBC4-41C4-B796-77D6EBB2F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37DF-266B-4F24-A2DC-FE8BFB59B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7FF6-A7E6-463D-A7CE-9C63070DF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9444-AE02-477D-AB08-19CF34C9D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E54C-4EBC-4DE1-84C2-44356AAB2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E827-1F34-4418-9996-6E6A5AECF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8327-E67C-4B77-982E-E72791F3C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B8CE-F60F-4EF5-8865-8A2BDF117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A3CF-F745-4937-BFAE-7FA9DA34C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C321-5212-407C-B91E-316DF0543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8F28-BD11-456A-B00D-A3780E097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758A-693E-412E-9E8E-1673FC596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OKER, IF YOU MATCH THE BET BUT DON'T RAISE, WHAT HAVE YOU D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69720" y="762120"/>
            <a:ext cx="840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A 20% KURDISH POP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68360" y="762120"/>
            <a:ext cx="820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WHY CAN'T WE BE 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CESS IS RESPONSIBLE FOR MOST OF A STAR'S ENER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85720" y="777960"/>
            <a:ext cx="797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WIKIPEDIA, THE FOUNDER OF WHAT 60'S BAND HAD THE REPUTATION OF BEING "ROCK'S FIRST SUPERSTAR DRUMM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61840" y="762120"/>
            <a:ext cx="7420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ASCOT FOR RICE KRISPIES HAS A NAME THAT IS A DIFFERENT WORD BACK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61960" y="762120"/>
            <a:ext cx="8020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X SLAVES USED BY THE JAPANESE IN WWII ARE CONTROVERSIALLY KNOWN AS WHAT SORT OF WO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65120" y="762120"/>
            <a:ext cx="821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THE MUSICAL ABBREVIATION "BS&amp;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0840" y="762120"/>
            <a:ext cx="884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A 20% KURDISH POPU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U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20640" y="762120"/>
            <a:ext cx="790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CAPULA IS LOCATED IN WHAT PART OF THE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4960" y="762120"/>
            <a:ext cx="753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OKER, IF YOU MATCH THE BET BUT DON'T RAISE, WHAT HAVE YOU D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46040" y="4800600"/>
            <a:ext cx="81774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COL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WHY CAN'T WE BE FRIE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CESS IS RESPONSIBLE FOR MOST OF A STAR'S ENER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23880" y="762120"/>
            <a:ext cx="7894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WIKIPEDIA, THE FOUNDER OF WHAT 60'S BAND HAD THE REPUTATION OF BEING "ROCK'S FIRST SUPERSTAR DRUMM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ASCOT FOR RICE KRISPIES HAS A NAME THAT IS A DIFFERENT WORD BACK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0680" y="761760"/>
            <a:ext cx="8162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X SLAVES USED BY THE JAPANESE IN WWII ARE CONTROVERSIALLY KNOWN AS WHAT SORT OF WO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46040" y="761760"/>
            <a:ext cx="825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THE MUSICAL ABBREVIATION "BS&amp;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CAPULA IS LOCATED IN WHAT PART OF THE BO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31T12:29:34Z</dcterms:modified>
  <cp:revision>417</cp:revision>
  <dc:subject/>
  <dc:title>Slide 1</dc:title>
</cp:coreProperties>
</file>