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81F0-0F35-4D05-8729-DB21620E9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4430-8F2C-4ADA-BB7B-9731138E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8634-CCA8-4B12-8AF8-B531BF4AD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2AA4-97D6-4F22-B001-EFEBC83E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3A0C-004A-4A89-BD55-B18030891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A19D-053E-4727-AA9D-561E3529B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F80A-4CB7-4090-B7AE-0C6AD803C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E566-C06D-4F55-BA46-A8971B9EB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C0FB-A218-44DB-87BA-BBFDBD9FD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13D9-99F3-4412-932E-FC50BC5D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B157-6E32-4E40-85BC-3F42BB48B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96A0-078D-4CB7-B2A1-436BDC1B5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D9F2-7DC2-4CE7-97DD-0EB1B7684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90F3-C5BC-421E-BDB2-2FE43B23C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A75-AE18-48B7-87B7-0DA584EB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5E54-CEC0-43C1-8382-46CA6070B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E3F-2DB8-419D-973F-CC6C1059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C4BA-5226-4FDC-A15E-0D96AE182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6BA8-0065-400B-81C2-61B10BBF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308-BED6-46A9-B0F2-E936C886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334F-523F-4B81-941C-1F3A9B19A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352E-F1FF-46BE-8481-07BE64FFC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82F9-FCB8-4EEA-8B26-11D960AC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IF YOU MATCH THE BET BUT DON'T RAISE, WHAT HAVE YOU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20% KURDISH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5720" y="77796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WIKIPEDIA, THE FOUNDER OF WHAT 60'S BAND HAD THE REPUTATION OF BEING "ROCK'S FIRST SUPERSTAR DRU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61840" y="762120"/>
            <a:ext cx="7420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SCOT FOR RICE KRISPIES HAS A NAME THAT IS A DIFFERENT WORD BACK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61960" y="762120"/>
            <a:ext cx="802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X SLAVES USED BY THE JAPANESE IN WWII ARE CONTROVERSIALLY KNOWN AS WHAT SORT OF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MUSICAL ABBREVIATION "BS&amp;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20% KURDISH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APULA IS LOCATED IN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IF YOU MATCH THE BET BUT DON'T RAISE, WHAT HAVE YOU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46040" y="4800600"/>
            <a:ext cx="817740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CO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WIKIPEDIA, THE FOUNDER OF WHAT 60'S BAND HAD THE REPUTATION OF BEING "ROCK'S FIRST SUPERSTAR DRU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SCOT FOR RICE KRISPIES HAS A NAME THAT IS A DIFFERENT WORD BACK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X SLAVES USED BY THE JAPANESE IN WWII ARE CONTROVERSIALLY KNOWN AS WHAT SORT OF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MUSICAL ABBREVIATION "BS&amp;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APULA IS LOCATED IN WHAT PART OF TH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1T12:29:34Z</dcterms:modified>
  <cp:revision>417</cp:revision>
  <dc:subject/>
  <dc:title>Slide 1</dc:title>
</cp:coreProperties>
</file>