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1FE1-120A-4217-8847-099EBA054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42E1-A5BF-4BDE-9132-BB8CCA025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BAFF-66F4-438E-A353-F73799819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3B06-CDCC-4CE4-8C51-88947753C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2F51-B3D1-47E5-A67A-B073649F0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5A4C-E553-4D69-8066-A335C2D46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FF54-9D25-43B3-AD1D-930FD1242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D0CE-8B3F-4D3F-B170-79AA1F734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473B-8AD9-45D9-861B-F97F255A7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C9B5-8BE7-41DC-8B63-EEFABC8E0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38DB-EF47-4EBC-9A39-A2285CFA4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8A0A-5FDF-4CA5-A318-B7FAF6683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2F2E-3596-4ACC-B027-323A77C0E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A3CB-A2C2-42D8-8D1B-84A801702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E815-F32D-467A-861F-ADFBFA996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C6C2-9019-4E63-9038-D1454025D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CCC5-5971-4FA0-ABB9-3F967FC4A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FA27-E237-45BA-8999-7F9B31D31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C8F1-7297-4C0B-8981-1E41BD18B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D57D-957D-4851-BCFF-6C9326823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727B-3991-4E93-AE3B-998990F7A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13D1-C4F1-410E-845E-4EB14E4EC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352F-053E-4FA7-B112-39A9A5C91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OKER, IF YOU MATCH THE BET BUT DON'T RAISE, WHAT HAVE YOU D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69720" y="762120"/>
            <a:ext cx="840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A 20% KURDISH POP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68360" y="762120"/>
            <a:ext cx="820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WHY CAN'T WE BE 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CESS IS RESPONSIBLE FOR MOST OF A STAR'S ENER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85720" y="777960"/>
            <a:ext cx="797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WIKIPEDIA, THE FOUNDER OF WHAT 60'S BAND HAD THE REPUTATION OF BEING "ROCK'S FIRST SUPERSTAR DRUMM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61840" y="762120"/>
            <a:ext cx="7420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ASCOT FOR RICE KRISPIES HAS A NAME THAT IS A DIFFERENT WORD BACK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61960" y="762120"/>
            <a:ext cx="8020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X SLAVES USED BY THE JAPANESE IN WWII ARE CONTROVERSIALLY KNOWN AS WHAT SORT OF WO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65120" y="762120"/>
            <a:ext cx="821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THE MUSICAL ABBREVIATION "BS&amp;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0840" y="762120"/>
            <a:ext cx="884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A 20% KURDISH POPU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U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20640" y="762120"/>
            <a:ext cx="790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CAPULA IS LOCATED IN WHAT PART OF THE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4960" y="762120"/>
            <a:ext cx="753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OKER, IF YOU MATCH THE BET BUT DON'T RAISE, WHAT HAVE YOU D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46040" y="4800600"/>
            <a:ext cx="81774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COL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WHY CAN'T WE BE FRIE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CESS IS RESPONSIBLE FOR MOST OF A STAR'S ENER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23880" y="762120"/>
            <a:ext cx="7894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WIKIPEDIA, THE FOUNDER OF WHAT 60'S BAND HAD THE REPUTATION OF BEING "ROCK'S FIRST SUPERSTAR DRUMM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ASCOT FOR RICE KRISPIES HAS A NAME THAT IS A DIFFERENT WORD BACK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0680" y="761760"/>
            <a:ext cx="8162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X SLAVES USED BY THE JAPANESE IN WWII ARE CONTROVERSIALLY KNOWN AS WHAT SORT OF WO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46040" y="761760"/>
            <a:ext cx="825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THE MUSICAL ABBREVIATION "BS&amp;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CAPULA IS LOCATED IN WHAT PART OF THE BO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31T12:29:34Z</dcterms:modified>
  <cp:revision>417</cp:revision>
  <dc:subject/>
  <dc:title>Slide 1</dc:title>
</cp:coreProperties>
</file>