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E97B-3BE5-48F1-BAA2-7FD35071B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B43C-E48D-44BD-9FE0-E1B66C70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C181-096D-4FC9-ADE6-4B8E900D6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314D-A1C4-47C7-B201-0D5F7156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3F5E-54DD-48DF-B617-F17239AF9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5350-7ED4-4CD5-9270-BACB768C4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E0DA-47BB-47E9-8411-CD47F927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426-7CD7-4016-93E0-4D1E6DE8B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151-F5F0-47B4-AA1D-8855B932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0F93-2807-42F0-81CD-F742E44A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EC5C-4AA6-4C31-BA5D-2FB7F5E9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A3F4-2A06-4BA5-8271-D65C8A9B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352-5A30-4651-B091-F050426B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C45-831D-466A-A6FB-F684697D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C67-089C-4D33-B93F-DA3A8368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E438-59AD-4381-AA87-C59EE6DF9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20EE-D075-4CE7-9F4B-B47E6369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B77F-93D9-4C14-B2FA-D9B2E9CA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3628-95EB-41C4-83A5-0ECF33A3A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7AAC-01F9-4E40-AF8F-8497DABB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9990-A2CA-4DB1-B3F8-57E8042E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0010-277F-4185-827E-A3934ADC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FD33-D164-4377-A4AA-E2C9906E2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93880" y="761760"/>
            <a:ext cx="735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HEN  A  MAN)  LOVES  (A  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0800" y="762120"/>
            <a:ext cx="804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4880" y="711360"/>
            <a:ext cx="773424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200" y="762120"/>
            <a:ext cx="852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9600" y="762120"/>
            <a:ext cx="7984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PERCY SLEDGE'S BEST-KNOWN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ORBIT AROUND AN ATOM'S NUCLEUS THAT CAN HOLD A CERTAIN NUMBER OF ELECTRONS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GAS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ER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ENT STRIPES" ON    U.S. ARMY INSIGNIA (1 FOR PRIVATE, 2 FOR CORPORAL, 3 FOR SERGEANT) ARE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R HAD CODE NAMES OPERATION DESERT SHIELD AND OPERATION DESERT ST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ED   ELVIS PRESLEY AS A RACE CAR DRIVER AND NANCY SINATRA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WERE IN THE SIGNATURE SONG FROM THE 1957 MUSICAL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DEPUTY FÜHRER OF THE NAZI PARTY 1933-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E IS BETWEEN 26 AND 27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56Z</dcterms:modified>
  <cp:revision>389</cp:revision>
  <dc:subject/>
  <dc:title>Slide 1</dc:title>
</cp:coreProperties>
</file>