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0CCB-587B-4AE8-84B5-196E2E618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6172-C39A-4D1F-A007-B50BDAD1E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8341-7162-4EF3-991C-44755C454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3673-C5A5-473D-BAFD-D1F03B14D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1F17-F142-41D2-BAB5-485A83E94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94C4-7BE3-41DB-A85D-2DAF332F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ABBE-853F-410E-B918-9BE40F0A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831E-B36C-4C79-BBEF-6ED6F373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8CEE-B150-4F19-ABCD-39700684A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3F4E-1DFB-4D2F-9BBA-6FDCB772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D3A3-AD5A-40E8-9057-B68C95105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BDC5-4BEF-42EA-94AC-F740F72D6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76AD-F086-4848-B9EB-8C707727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A0CB-C8E1-4801-8DFB-76F3A0EE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4080-0437-4A8B-9916-971666FBA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F577-FAD3-4A65-A99C-5434D8F08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F38F-9630-4B14-9430-8ED040997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E03C-D5D0-4F1B-8B57-CAA0B30BB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9D0C-9F37-470C-B979-EF7E8756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F150-85CD-41FB-A726-E7455F4F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1E56-5963-4400-B2CF-31FE1027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1F85-082D-46F8-A628-977EE28C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3F43-39BE-484C-BA41-0EB745A6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93880" y="761760"/>
            <a:ext cx="735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RBIT AROUND AN ATOM'S NUCLEUS THAT CAN HOLD A CERTAIN NUMBER OF ELECTRONS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HEN  A  MAN)  LOVES  (A  WO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PERCY SLEDGE'S BEST-KNOWN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0800" y="762120"/>
            <a:ext cx="804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ERI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ENT STRIPES" ON    U.S. ARMY INSIGNIA (1 FOR PRIVATE, 2 FOR CORPORAL, 3 FOR SERGEANT) ARE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4880" y="711360"/>
            <a:ext cx="77342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R HAD CODE NAMES OPERATION DESERT SHIELD AND OPERATION DESERT ST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0200" y="762120"/>
            <a:ext cx="852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ED   ELVIS PRESLEY AS A RACE CAR DRIVER AND NANCY SINATRA AS HIS LOVE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9600" y="762120"/>
            <a:ext cx="7984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WERE IN THE SIGNATURE SONG FROM THE 1957 MUSICAL "THE MUSIC MA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DEPUTY FÜHRER OF THE NAZI PARTY 1933-19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PERCY SLEDGE'S BEST-KNOWN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A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E IS BETWEEN 26 AND 27 MIL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5400" y="762120"/>
            <a:ext cx="715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RBIT AROUND AN ATOM'S NUCLEUS THAT CAN HOLD A CERTAIN NUMBER OF ELECTRONS IS CALLE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GAS 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ERI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ENT STRIPES" ON    U.S. ARMY INSIGNIA (1 FOR PRIVATE, 2 FOR CORPORAL, 3 FOR SERGEANT) ARE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R HAD CODE NAMES OPERATION DESERT SHIELD AND OPERATION DESERT ST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ED   ELVIS PRESLEY AS A RACE CAR DRIVER AND NANCY SINATRA AS HIS LOVE INTE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WERE IN THE SIGNATURE SONG FROM THE 1957 MUSICAL "THE MUSIC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DEPUTY FÜHRER OF THE NAZI PARTY 1933-19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E IS BETWEEN 26 AND 27 MIL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9:56Z</dcterms:modified>
  <cp:revision>389</cp:revision>
  <dc:subject/>
  <dc:title>Slide 1</dc:title>
</cp:coreProperties>
</file>