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3DC-9E9C-43AD-AC3A-CC595F44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F6C-8A20-4F07-9472-FE69B254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F67-C77B-4D95-8E36-FA22649C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C57-5ED4-45CD-8516-F889862A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868F-0CF7-4431-BFBE-83B08AA9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A94-9546-44BE-B09A-B0CADD28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49B-7F9C-492F-AF3F-4D2F69BF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E9BE-A569-48A2-B11D-802BC7AE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F9D-8EB0-492E-99E2-0D9784548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197-E5C5-4B16-8931-7E701509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468-12AF-4345-A807-EDCFFE83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863-1085-4792-8048-A56CB507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567-432C-4690-B96B-C8C27641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D88-A5FE-4090-B722-CA333881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746-61DE-4122-B6E0-E187F4C5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3B9-E0EC-4B52-8D62-65BAF33B9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2E8-FED7-4A6F-9C3D-29B5C1DE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5AD3-404B-4B6A-AE88-4505ADD0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90F-C85F-4353-BB6E-678867EB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2E09-3AAC-4667-837F-E95566FB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3D2-A1C5-44F3-89A5-3E154C1C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447-CCA6-488F-BE09-98001519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0F4-B018-44E6-8192-3E85CFA3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93880" y="761760"/>
            <a:ext cx="735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HEN  A  MAN)  LOVES  (A  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11360"/>
            <a:ext cx="77342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200" y="762120"/>
            <a:ext cx="852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GAS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56Z</dcterms:modified>
  <cp:revision>389</cp:revision>
  <dc:subject/>
  <dc:title>Slide 1</dc:title>
</cp:coreProperties>
</file>