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A7C7-3645-40A0-AEC3-C80C1E505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1B87-6B34-4D3F-B20A-84EE94108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5D8B-758F-4AB4-891C-31AFF314A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53A8-248D-4191-9C20-E4476813D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11ED-537E-4270-90EB-76400FCBC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35FF-71D2-425A-8D7C-DC7F01A8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2150-5020-46BC-B1EC-1EAEB1676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FD0A-CB22-44AD-ADD5-CCDD53BE2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844F-7761-4A75-B1DD-3771F2E4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AE4-D9EC-4A6A-AC52-3CE03A904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F2CE-521B-479A-A234-ABCA2E4AD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A2AD-9796-473F-B4BC-22AAF2951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1E29-290A-45D2-91F9-40306A31F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8038-DFB4-45C8-9EA2-F3D5E586B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F960-633D-475E-9584-801B4B45A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1F95-41B9-4F6D-B556-1DDBFD35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8ED-C9EE-4A42-B8F1-9625C73A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A8A4-9C54-4368-A0E2-25DBD0439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6031-6E21-493D-B2E5-DBC50347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2B33-00A7-49D2-A6F8-3868DDF11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5D2B-ED50-4ECE-94F6-23035CA1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99C3-8281-48AD-9DD9-F7CAF61DD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5B03-5C03-4747-B565-50861919B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EAT IS ALSO A WORD WHEN READ IN RE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FASTER THAN ANYTHING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79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9520" y="75564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+P (ON A PC) OR COMMAND+P (ON A MAC) 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  HURT)  LO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680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WAR FILM THAT WON BEST PICTURE OF 2008, THE FIRST WITH A FEMALE DIR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62040" y="762120"/>
            <a:ext cx="60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PS SUPPOSEDLY SINK SH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  (OF  SP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2015 COLD WAR FILM STARRING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UCILLE)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AS MARRIED TO DESI ARNAZ FOR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HIGHWAY SIGNS ARE USUALLY FOR WHAT SORT OF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FASTER THAN ANYTHING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OF LIBERTY HAS 354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EAT IS ALSO A WORD WHEN READ IN RE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OO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+P (ON A PC) OR COMMAND+P (ON A MAC) 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OF THE TITLE OF THE WAR FILM THAT WON BEST PICTURE OF 2008, THE FIRST WITH A FEMALE DIR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PS SUPPOSEDLY SINK SH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2015 COLD WAR FILM STARRING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AS MARRIED TO DESI ARNAZ FOR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UE HIGHWAY SIGNS ARE USUALLY FOR WHAT SORT OF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UE OF LIBERTY HAS 354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6:45:26Z</dcterms:created>
  <dc:creator>Jennifer Budzinski</dc:creator>
  <dc:description/>
  <dc:language>en-US</dc:language>
  <cp:lastModifiedBy>Erich Friedman</cp:lastModifiedBy>
  <dcterms:modified xsi:type="dcterms:W3CDTF">2020-08-24T14:04:51Z</dcterms:modified>
  <cp:revision>371</cp:revision>
  <dc:subject/>
  <dc:title>Slide 1</dc:title>
</cp:coreProperties>
</file>