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E834-A9EF-4722-BDEB-0FE9D56CF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C7A8-6B49-4ED1-9CD6-8D0F1ECF7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36B7-1D27-4731-8524-300AD4BD3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F342-EBF7-489C-891A-F3FC09644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0B3D-E1DF-4E4C-BDB9-CA4C5EE1F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F8FE-2E32-48FF-89A2-EABD11DA0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5840-97A3-479C-87EA-1E21EA704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8230-36C2-438F-B4F5-E9F03FB20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5719-BDEA-440E-A790-8768D9BFA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23C0-22B9-4222-BD07-3062122BD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B892-BF89-4C34-8948-516843A0C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EE28-42FD-45BA-95E5-1665BF83E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C819-358D-4F82-92A4-97DEBA57E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704C-65C3-441F-970D-304ED06B4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661E-C2E6-43CC-8F10-23C4751DB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D8DF-67FF-44ED-A78E-730082951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CC55-F674-4262-B4B4-26379B29B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B587-D10B-424F-BA2E-D3CA5B842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A644-6094-4E32-B439-473A3FFE8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67B0-D7F2-4F26-A901-8FBD6A833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FE62-482C-4F7B-B6D5-ADCB9DDA7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CFEC-4038-4AF8-BC45-754E64F67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1E7A-0799-4595-BF1E-238C5267E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SEAT IS ALSO A WORD WHEN READ IN REVE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81160" y="762120"/>
            <a:ext cx="6781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VELS FASTER THAN ANYTHING E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79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79520" y="75564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CONTROL+P (ON A PC) OR COMMAND+P (ON A MAC)  A SHORTCUT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16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HE  HURT)  LO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680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TITLE OF THE WAR FILM THAT WON BEST PICTURE OF 2008, THE FIRST WITH A FEMALE DIRE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562040" y="762120"/>
            <a:ext cx="601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LIPS SUPPOSEDLY SINK SHI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DGE  (OF  SPI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 OF THE 2015 COLD WAR FILM STARRING TOM HAN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LUCILLE)  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WAS MARRIED TO DESI ARNAZ FOR 2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UE HIGHWAY SIGNS ARE USUALLY FOR WHAT SORT OF AR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VELS FASTER THAN ANYTHING EL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TUE OF LIBERTY HAS 354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33440" y="762120"/>
            <a:ext cx="6477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SEAT IS ALSO A WORD WHEN READ IN RE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9536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FOO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CONTROL+P (ON A PC) OR COMMAND+P (ON A MAC)  A SHORTCUT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TITLE OF THE WAR FILM THAT WON BEST PICTURE OF 2008, THE FIRST WITH A FEMALE DIRE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LIPS SUPPOSEDLY SINK SHIP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 OF THE 2015 COLD WAR FILM STARRING TOM HAN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WAS MARRIED TO DESI ARNAZ FOR 2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UE HIGHWAY SIGNS ARE USUALLY FOR WHAT SORT OF ARE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TUE OF LIBERTY HAS 354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16:45:26Z</dcterms:created>
  <dc:creator>Jennifer Budzinski</dc:creator>
  <dc:description/>
  <dc:language>en-US</dc:language>
  <cp:lastModifiedBy>Erich Friedman</cp:lastModifiedBy>
  <dcterms:modified xsi:type="dcterms:W3CDTF">2020-08-24T14:04:51Z</dcterms:modified>
  <cp:revision>371</cp:revision>
  <dc:subject/>
  <dc:title>Slide 1</dc:title>
</cp:coreProperties>
</file>