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3DFB-C965-44FA-8609-817848B3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7B15-E253-4C8E-B7B0-2C2420848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ECF2-2618-4726-B437-A10FA81B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4FC5-C812-4183-AA4B-524F9890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BE47-7B81-453E-9E4D-AB53CE577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76C-32B6-4D17-BD0D-3E3A1E0D8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41DF-889A-46CE-BDCF-E630D6C8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57D-2687-48DD-86DD-622E596A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55A9-BAF5-4CC0-86D5-282572C90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6414-910E-4580-8A76-E68F4336B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CF6C-F75D-4841-94B0-99C7DF189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986-35E4-4720-9AF5-89061CA23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81A4-110C-4678-9EC2-C2B92F4C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6C43-BFB6-4C3C-BAA2-0AE2CB885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381D-58CD-457A-8E16-028720A2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0C0-2697-4976-BD15-86E8D1458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D73A-3C7D-4300-8B93-642C15D6C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79C6-DD68-49E1-BF2B-4DA4DD5E9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2DD0-2AEC-4159-92FF-3E70A318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9059-F45F-40FD-84B5-371DFA78B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0BF8-CE60-4052-B4C2-5AA64F8A7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C08E-1B69-49C3-98A3-DB91F464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7AAE-611B-4694-8D31-EBA097DE4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EAT IS ALSO A WORD WHEN READ IN RE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FASTER THAN ANYTHING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79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9520" y="75564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+P (ON A PC) OR COMMAND+P (ON A MAC)  A SHORTCUT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 HURT)  LO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6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WAR FILM THAT WON BEST PICTURE OF 2008, THE FIRST WITH A FEMALE DIR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62040" y="76212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PS SUPPOSEDLY SINK SH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  (OF  SP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2015 COLD WAR FILM STARRING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UCILLE)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AS MARRIED TO DESI ARNAZ FOR 2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HIGHWAY SIGNS ARE USUALLY FOR WHAT SORT OF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FASTER THAN ANYTHING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OF LIBERTY HAS 354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EAT IS ALSO A WORD WHEN READ IN RE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FOO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+P (ON A PC) OR COMMAND+P (ON A MAC)  A SHORTCUT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WAR FILM THAT WON BEST PICTURE OF 2008, THE FIRST WITH A FEMALE DIR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PS SUPPOSEDLY SINK SHI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2015 COLD WAR FILM STARRING TOM HA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AS MARRIED TO DESI ARNAZ FOR 2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HIGHWAY SIGNS ARE USUALLY FOR WHAT SORT OF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OF LIBERTY HAS 354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6:45:26Z</dcterms:created>
  <dc:creator>Jennifer Budzinski</dc:creator>
  <dc:description/>
  <dc:language>en-US</dc:language>
  <cp:lastModifiedBy>Erich Friedman</cp:lastModifiedBy>
  <dcterms:modified xsi:type="dcterms:W3CDTF">2020-08-24T14:04:51Z</dcterms:modified>
  <cp:revision>371</cp:revision>
  <dc:subject/>
  <dc:title>Slide 1</dc:title>
</cp:coreProperties>
</file>