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667D-AA30-4681-AAFF-6300AEB1C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0DD2-DED7-4CD0-A515-9E3E7ADE6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CE99-3E9E-4E3B-960D-4C7894A02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58DE-E754-4B71-805B-90E303D5E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7784-FB84-4D6E-960F-272FA0697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ACE7-04E6-4BE5-A6E6-B12218D5F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25D6-1878-4D09-B125-69FEDEE21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4D33-48CD-4984-8079-C57D4EDF5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934A-E134-4DE5-874B-B3D7F6F91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2A79-8E92-4416-8F7D-23CD0ED95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9534-8634-477E-BF6B-4D30F48E0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E7C2-5FCF-445A-9202-D928762B1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8A1C-0FF0-49E2-B291-FECB21637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3B50-9560-4209-95C4-6B61209B5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DC17-7EAA-47B8-A82F-D090C2666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D7D7-A69B-4DAA-BD80-3FAB8A5C7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F5B0-AF67-4A1C-A03F-6DE1F02A2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5E83-C8C4-4D81-8706-00A590CF6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BA32-A3DB-4AE9-9284-D485E4482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12B8-F446-4E1B-B4C8-B52F3C81F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0FF9-8B78-462F-A9B4-E0B3D6DDE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D4C5-CCB7-441F-92D4-3EE8BBBCA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0EEE-75AF-41F3-9C48-94C83DB9F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TOWN IN SOUTH DAKOTA, AFTER SIOUX FA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  DIDN'T  START  THE 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JOEL'S LAST #1 HIT SONG, WHICH IS USED IN SOME HISTORY CLAS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EP 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RMAGEDDON" AND WHAT OTHER FILM ABOUT A KILLER COMET WERE BOTH RELEASED IN THE SUMMER OF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BEATLES SONG TO APPEAR IN A TV COMMERCIAL, FOR NIKE IN 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625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THQU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CHTER SCALE MEASURES THE INTENSITY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MSON  DYN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FOE OF IRON MAN IS MENTIONED IN PAUL MCCARTNEY'S SONG "MAGNETO AND TITANIUM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A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SMART PHONE PRODUCED BY SAMS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52400" y="762120"/>
            <a:ext cx="763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AL NOTATION, WHAT DOES THE SYMBOL "U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JOEL'S LAST #1 HIT SONG, WHICH IS USED IN SOME HISTORY CLAS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22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AIRLINE, AFTER AMERICAN AND DEL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PID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TOWN IN SOUTH DAKOTA, AFTER SIOUX FA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4840" y="416088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U.S.  PRO  SOCCER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318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RMAGEDDON" AND WHAT OTHER FILM ABOUT A KILLER COMET WERE BOTH RELEASED IN THE SUMMER OF 199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BEATLES SONG TO APPEAR IN A TV COMMERCIAL, FOR NIKE IN 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CHTER SCALE MEASURES THE INTENSITY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FOE OF IRON MAN IS MENTIONED IN PAUL MCCARTNEY'S SONG "MAGNETO AND TITANIUM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SMART PHONE PRODUCED BY SAMSU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AL NOTATION, WHAT DOES THE SYMBOL "U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AIRLINE, AFTER AMERICAN AND DEL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22:31:33Z</dcterms:created>
  <dc:creator>Jennifer Budzinski</dc:creator>
  <dc:description/>
  <dc:language>en-US</dc:language>
  <cp:lastModifiedBy>Erich Friedman</cp:lastModifiedBy>
  <dcterms:modified xsi:type="dcterms:W3CDTF">2020-08-31T12:30:22Z</dcterms:modified>
  <cp:revision>402</cp:revision>
  <dc:subject/>
  <dc:title>Slide 1</dc:title>
</cp:coreProperties>
</file>