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CBB-180D-4344-BA05-05EC8B6FD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DA63-9CE5-4443-AC28-378DA0760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FE91-594D-4594-A45D-827A9E79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87397-FD99-4B3F-AEBD-E923674E4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25F5-1062-4F6E-96A1-71A4041E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F92-F496-46C4-9D99-5941CA64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0D92-F2FF-423B-BC64-B62404AF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6777-7C9C-4004-8B0B-D785FCAE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69FD-3EB4-4FD1-892C-F20423360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01DE-6544-4C41-B8BA-F405DD6B3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07A3-4093-424F-9F02-E39113DC7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AF0B-3258-457F-B759-682FA9597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333C-F4C5-493C-BDB0-19ADCCB0D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4055-F718-49F0-A23C-C47A26A54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1168-420A-4C4D-A3D9-DE993706C2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AC99-DAAC-4561-94DD-C2DA06F1B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4DA2-B781-4B2E-A2E8-C37C3697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356B-24D9-4AAB-961D-26D82723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9AE7-E5E2-49B3-8DB4-C848BF1A4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0DFE-6B56-47C3-9E5F-BAB0B2C5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341C-CB3C-4367-B914-39CE4DD5C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AFC87-AFAB-46FB-B2D8-5EEC6D627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A999-B1FB-45FA-BF41-5500165BF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OWN IN SOUTH DAKOTA, AFTER SIOUX FA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DIDN'T  START  THE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LAST #1 HIT SONG, WHICH IS USED IN SOME HISTORY CLAS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EP 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AGEDDON" AND WHAT OTHER FILM ABOUT A KILLER COMET WERE BOTH RELEASED IN THE SUMMER OF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BEATLES SONG TO APPEAR IN A TV COMMERCIAL, FOR NIKE IN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2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QU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CHTER SCALE MEASURES THE INTENSITY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SON  DYN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FOE OF IRON MAN IS MENTIONED IN PAUL MCCARTNEY'S SONG "MAGNETO AND TITANIUM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SMART PHONE PRODUCED BY SAM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52400" y="762120"/>
            <a:ext cx="763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AL NOTATION, WHAT DOES THE SYMBOL "U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JOEL'S LAST #1 HIT SONG, WHICH IS USED IN SOME HISTORY CLAS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22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LINE, AFTER AMERICAN AND DEL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ID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TOWN IN SOUTH DAKOTA, AFTER SIOUX FA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16088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U.S.  PRO  SOCCER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318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MAGEDDON" AND WHAT OTHER FILM ABOUT A KILLER COMET WERE BOTH RELEASED IN THE SUMMER OF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BEATLES SONG TO APPEAR IN A TV COMMERCIAL, FOR NIKE IN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CHTER SCALE MEASURES THE INTENSITY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FOE OF IRON MAN IS MENTIONED IN PAUL MCCARTNEY'S SONG "MAGNETO AND TITANIUM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OST POPULAR SMART PHONE PRODUCED BY SAMS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AL NOTATION, WHAT DOES THE SYMBOL "U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AIRLINE, AFTER AMERICAN AND DEL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22:31:33Z</dcterms:created>
  <dc:creator>Jennifer Budzinski</dc:creator>
  <dc:description/>
  <dc:language>en-US</dc:language>
  <cp:lastModifiedBy>Erich Friedman</cp:lastModifiedBy>
  <dcterms:modified xsi:type="dcterms:W3CDTF">2020-08-31T12:30:22Z</dcterms:modified>
  <cp:revision>402</cp:revision>
  <dc:subject/>
  <dc:title>Slide 1</dc:title>
</cp:coreProperties>
</file>