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B6EC-330A-4D86-9372-FBC67B67F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108B-7F78-45DC-B8E2-2F85350CC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9F14-BADC-4628-BD39-283D8027E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1581-D546-4F9A-B675-B187C3336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2FF4-66EE-4C0E-B99B-B599717B2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E411-F329-4DDF-9135-CE0A7B48F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37E2-8E7A-4B6C-89D2-3539536E3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6FEF-04E9-44AC-B2CF-73791138D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5A06-0166-4675-8903-026DB9C83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3F4C-2E19-4A83-8B9A-19CA4774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FA59-63FF-40C2-B229-3A85A5C5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7547-A9FB-4735-A36C-FD66450FD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47DA-6108-477E-8141-9EDF6DE72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A3B8-BC98-4B05-8AC1-BBACF739F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9D9E-272D-4AC4-85DF-FAB7ED10E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4FAA-C708-4F11-9D1C-3C8027463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339D-2BE6-4AAA-AC2E-CF9BB17B0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E645-B8EE-472F-ADB6-374DA98E8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FDF4-D2D7-4E4E-AADA-3F0DD63A0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9835-A89E-46D0-A8E5-75FBFD0D2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40A4-F5A7-41CC-9BFE-BE20032EB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F555-A29B-44AE-BEED-F00DFF54C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443F-AAF1-4E40-889C-9A4DFF709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OWN IN SOUTH DAKOTA, AFTER SIOUX FA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  DIDN'T  START  THE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LAST #1 HIT SONG, WHICH IS USED IN SOME HISTORY CLAS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EP 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MAGEDDON" AND WHAT OTHER FILM ABOUT A KILLER COMET WERE BOTH RELEASED IN THE SUMMER OF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BEATLES SONG TO APPEAR IN A TV COMMERCIAL, FOR NIKE IN 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625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THQU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CHTER SCALE MEASURES THE INTENSITY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MSON  DYN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FOE OF IRON MAN IS MENTIONED IN PAUL MCCARTNEY'S SONG "MAGNETO AND TITANIUM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SMART PHONE PRODUCED BY SAMS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52400" y="762120"/>
            <a:ext cx="763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AL NOTATION, WHAT DOES THE SYMBOL "U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LAST #1 HIT SONG, WHICH IS USED IN SOME HISTORY CLAS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22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AIRLINE, AFTER AMERICAN AND DEL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PID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OWN IN SOUTH DAKOTA, AFTER SIOUX FA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16088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U.S.  PRO  SOCCER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318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MAGEDDON" AND WHAT OTHER FILM ABOUT A KILLER COMET WERE BOTH RELEASED IN THE SUMMER OF 199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BEATLES SONG TO APPEAR IN A TV COMMERCIAL, FOR NIKE IN 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CHTER SCALE MEASURES THE INTENSITY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FOE OF IRON MAN IS MENTIONED IN PAUL MCCARTNEY'S SONG "MAGNETO AND TITANIUM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SMART PHONE PRODUCED BY SAMSU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AL NOTATION, WHAT DOES THE SYMBOL "U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AIRLINE, AFTER AMERICAN AND DEL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22:31:33Z</dcterms:created>
  <dc:creator>Jennifer Budzinski</dc:creator>
  <dc:description/>
  <dc:language>en-US</dc:language>
  <cp:lastModifiedBy>Erich Friedman</cp:lastModifiedBy>
  <dcterms:modified xsi:type="dcterms:W3CDTF">2020-08-31T12:30:22Z</dcterms:modified>
  <cp:revision>402</cp:revision>
  <dc:subject/>
  <dc:title>Slide 1</dc:title>
</cp:coreProperties>
</file>