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9FBB-7BF9-427F-B140-B1DCE8E7F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1D18-EACB-4DA0-8D43-023F43B06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D0F7-CEFA-4D0A-ADA3-86843069E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DB4D-84F7-4477-9CF3-C5D9D488E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7D3C-A485-4904-A17F-972DD069F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03E1-788D-4E7A-9B2F-D202DACAE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F964-0A00-4738-90DA-E2E3C9000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0CC6-DDF9-4068-973D-56C3E90B6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40C9-827D-432B-9DCE-433661178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3076-1D10-4312-97B4-FB3AA4961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6941-51CF-45B7-85FD-573367E98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DAAF-1636-445C-8AE1-242175922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1A52-257A-4EC1-9EA2-DD846E70D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63CE-2F64-4EA2-8857-607FFD183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ADF5-3482-4DDD-9663-B99584C4A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C94C-8324-42E2-B9EF-0587CE0D7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75FF-78B5-40F0-94FD-20A77A383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934C-DFF6-47C7-AE43-82515E98E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3458-82BF-4FD9-958C-4BBCB1260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50B8-1896-4BC7-8A57-829A8B8A2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61FA-4C4C-48A2-9A68-F2CBF9F89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9E55-6CA7-4EBD-96BB-CF506AFD5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A399-C339-42C7-9CF6-78D6CFB1D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6200" y="761760"/>
            <a:ext cx="785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 MAIN CATEGORY OF FINANCIAL INSTRUMENTS, BESIDES STOCKS AND BO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APONS ARE PART OF A FIREFIGHTER'S USUAL G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27120" y="762120"/>
            <a:ext cx="788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OCENTRIC ONLINE MAGAZINE WAS FOUNDED BY HENRY LOUIS GATES JR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87520" y="762120"/>
            <a:ext cx="79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ICH FILM DID JAMIE FOXX WIN ALL 5 MAJOR BEST ACTOR AWARDS (OSCAR, GOLDEN GLOBE, SAG, BAFTA, AND CRITICS' CHOIC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515880" y="4876920"/>
            <a:ext cx="81122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54200" y="762120"/>
            <a:ext cx="763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HEAVIEST REGULAR PATRON ON TV'S "CHE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14280" y="762120"/>
            <a:ext cx="6713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FORD'S COMPACT CAR MOD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5400" y="762120"/>
            <a:ext cx="76932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RUCE HORNSBY'S BACKUP BAND UNTIL THE LATE 9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33600" y="762120"/>
            <a:ext cx="6076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GHT "THE CONFEDERACY" IN THE U.S. CIVIL W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9080" y="762120"/>
            <a:ext cx="7305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APONS ARE PART OF A FIREFIGHTER'S USUAL G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00080" y="762120"/>
            <a:ext cx="7143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VICE OFFERED BY AMAZON GIVES FREE 2-DAY DELIV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RIV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5400" y="762120"/>
            <a:ext cx="7153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 MAIN CATEGORY OF FINANCIAL INSTRUMENTS, BESIDES STOCKS AND BOND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7520" y="4876920"/>
            <a:ext cx="6708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H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23880" y="761760"/>
            <a:ext cx="7896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OCENTRIC ONLINE MAGAZINE WAS FOUNDED BY HENRY LOUIS GATES JR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ICH FILM DID JAMIE FOXX WIN ALL 5 MAJOR BEST ACTOR AWARDS (OSCAR, GOLDEN GLOBE, SAG, BAFTA, AND CRITICS' CHOIC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HEAVIEST REGULAR PATRON ON TV'S "CHE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14560" y="762120"/>
            <a:ext cx="6914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FORD'S COMPACT CAR MOD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09560" y="762120"/>
            <a:ext cx="7724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RUCE HORNSBY'S BACKUP BAND UNTIL THE LATE 9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430280" y="761760"/>
            <a:ext cx="6283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GHT "THE CONFEDERACY" IN THE U.S. CIVIL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VICE OFFERED BY AMAZON GIVES FREE 2-DAY DELIVE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30:39Z</dcterms:modified>
  <cp:revision>381</cp:revision>
  <dc:subject/>
  <dc:title>Slide 1</dc:title>
</cp:coreProperties>
</file>