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C136-6755-4997-B282-3CC61E0E5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87E9-AC71-4198-AA1D-F97D76F84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B5B6-1E9A-4351-9E1B-C1613323B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7E2A-7324-4D68-A52E-10BD08913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8259-E5C5-47CD-A10D-EF317244F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1EF2-96CB-402B-B999-A9B58470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A0B3-23D9-42D0-8B03-C71A75419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5687-F39F-4FC3-B310-CEF3F0C98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CBB-7481-474B-8145-043D6A1B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547-F346-4A4D-A140-91EB3BC4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E16E-2061-41D5-B4B2-2FC8A2D7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B3CE-581A-42F4-B83A-303093FE9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600-46AF-496E-8FF3-FE4B47C3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0782-0567-4D58-B973-8EDFB03F9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2500-257C-459E-873D-4B6AF5942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0EDB-68B6-4FD6-B9CB-0DFB45126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2D2C-304C-4F30-81AE-61EF54269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F34C-FC4C-4F8C-8EF9-DF7E6D7C0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0C13-5FB9-4F2F-80BA-FCA5ACBE1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A99D-4B9D-44D6-AA8F-589AF23B6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A711-1730-433D-BC24-45E520A7E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CD0-D821-481A-A713-E7B48889A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FA12-2B4A-4620-81E8-F44E7F5E5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AIN CATEGORY OF FINANCIAL INSTRUMENTS, BESIDES STOCKS AND B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S ARE PART OF A FIREFIGHTER'S USUAL G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OCENTRIC ONLINE MAGAZINE WAS FOUNDED BY HENRY LOUIS GATES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87520" y="76212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ICH FILM DID JAMIE FOXX WIN ALL 5 MAJOR BEST ACTOR AWARDS (OSCAR, GOLDEN GLOBE, SAG, BAFTA, AND CRITICS' CHOIC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54200" y="762120"/>
            <a:ext cx="763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IEST REGULAR PATRON ON TV'S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4280" y="762120"/>
            <a:ext cx="67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OMPACT CAR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5400" y="762120"/>
            <a:ext cx="7693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RUCE HORNSBY'S BACKUP BAND UNTIL THE LATE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33600" y="762120"/>
            <a:ext cx="607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"THE CONFEDERACY" IN THE U.S. CIVIL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9080" y="762120"/>
            <a:ext cx="7305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PONS ARE PART OF A FIREFIGHTER'S USUAL G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ICE OFFERED BY AMAZON GIVES FREE 2-DAY DELIV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5400" y="762120"/>
            <a:ext cx="7153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AIN CATEGORY OF FINANCIAL INSTRUMENTS, BESIDES STOCKS AND BON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7520" y="4876920"/>
            <a:ext cx="6708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OCENTRIC ONLINE MAGAZINE WAS FOUNDED BY HENRY LOUIS GATES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ICH FILM DID JAMIE FOXX WIN ALL 5 MAJOR BEST ACTOR AWARDS (OSCAR, GOLDEN GLOBE, SAG, BAFTA, AND CRITICS' CHOIC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IEST REGULAR PATRON ON TV'S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14560" y="762120"/>
            <a:ext cx="6914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D'S COMPACT CAR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RUCE HORNSBY'S BACKUP BAND UNTIL THE LATE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30280" y="761760"/>
            <a:ext cx="628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"THE CONFEDERACY" IN THE U.S.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ICE OFFERED BY AMAZON GIVES FREE 2-DAY DELIV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30:39Z</dcterms:modified>
  <cp:revision>381</cp:revision>
  <dc:subject/>
  <dc:title>Slide 1</dc:title>
</cp:coreProperties>
</file>