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0A2-9902-4960-A151-0F342A31E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AB7A-8949-4BB4-9C09-D7E17FB2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4FE3-D485-42BA-8DEE-E9B5ADE8D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1E15-60E7-497E-A5E6-15AFA0890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4051-D118-412A-9471-23CA2A53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718E-D07F-4DAB-803A-4E40B3D24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A2EC-D548-4A09-941C-36B9E8CC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247D-49DF-44D4-B4BC-610F2BE1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47E8-5C8E-404A-9153-C9B46C0E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AEBF-7FB0-40CA-9158-B5CE4986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07CE-794A-4B61-B1D8-3F58E84EB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B1A9-C347-46BD-8087-AAB045C6D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C6BC-CD35-4283-9178-7FB80202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D48C-41E8-462B-B966-269611ED7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86C3-6408-48A9-9F99-11E309E24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7B0-3966-4A55-A0C7-498BD1D7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6690-A4A5-4774-AB13-424A9ACB2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EE78-D1E1-435F-A472-F0492E22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2EAD-F20D-4928-A882-F0FC1775C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ADBD-E4F1-429E-BEC4-3CDD17AF3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D074-BE54-4E14-95EF-E16A0819C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62DA-6EC3-444E-9B18-6475CEA0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8666-A397-4347-A911-56AC1993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AIN CATEGORY OF FINANCIAL INSTRUMENTS, BESIDES STOCKS AND B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S ARE PART OF A FIREFIGHTER'S USUAL G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OCENTRIC ONLINE MAGAZINE WAS FOUNDED BY HENRY LOUIS GATES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87520" y="76212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ICH FILM DID JAMIE FOXX WIN ALL 5 MAJOR BEST ACTOR AWARDS (OSCAR, GOLDEN GLOBE, SAG, BAFTA, AND CRITICS' CHOIC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54200" y="76212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IEST REGULAR PATRON ON TV'S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4280" y="762120"/>
            <a:ext cx="67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OMPACT CAR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5400" y="762120"/>
            <a:ext cx="7693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RUCE HORNSBY'S BACKUP BAND UNTIL THE LATE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33600" y="762120"/>
            <a:ext cx="607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"THE CONFEDERACY" IN THE U.S. CIVIL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9080" y="762120"/>
            <a:ext cx="7305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S ARE PART OF A FIREFIGHTER'S USUAL G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ICE OFFERED BY AMAZON GIVES FREE 2-DAY DELIV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5400" y="762120"/>
            <a:ext cx="715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AIN CATEGORY OF FINANCIAL INSTRUMENTS, BESIDES STOCKS AND BON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7520" y="4876920"/>
            <a:ext cx="6708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OCENTRIC ONLINE MAGAZINE WAS FOUNDED BY HENRY LOUIS GATES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ICH FILM DID JAMIE FOXX WIN ALL 5 MAJOR BEST ACTOR AWARDS (OSCAR, GOLDEN GLOBE, SAG, BAFTA, AND CRITICS' CHOIC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IEST REGULAR PATRON ON TV'S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14560" y="762120"/>
            <a:ext cx="6914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OMPACT CAR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RUCE HORNSBY'S BACKUP BAND UNTIL THE LATE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30280" y="761760"/>
            <a:ext cx="628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"THE CONFEDERACY" IN THE U.S.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ICE OFFERED BY AMAZON GIVES FREE 2-DAY DELIV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30:39Z</dcterms:modified>
  <cp:revision>381</cp:revision>
  <dc:subject/>
  <dc:title>Slide 1</dc:title>
</cp:coreProperties>
</file>