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E3D0-8C2D-48E9-A009-2C7E9E8C9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6A69-E77B-44FF-B1F9-F61D74BE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BB73-CFF9-4F3B-A5E9-EB215846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B7F-3833-4968-8693-E4E65E3B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32AA-D7F8-4C79-8FA7-FB450893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ECF-32C2-4908-BE3E-2779ADDC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ACFE-085D-4E4A-9922-8DDCD005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0069-E497-4D5F-84BB-9F0E7581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CDFB-8589-4DBD-87C5-C8DB5C4F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6EDA-2A72-49E0-9122-F6440A68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C5E-4414-48B6-9942-5E822DC9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6B8-3F79-4E9B-87E6-1669A8B9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EE3-259E-4281-9568-6E3B70A5A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3A6-E560-4432-BADA-EB2EE371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7C3A-2EAF-4126-8795-A23005E4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7D5B-A540-4396-9C75-264799F7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9EA-E4D8-402C-949E-88236F0A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F115-D8C2-4950-BC94-390CEB4E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877-BF91-4431-A478-E72CC6DF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1FE7-C347-4C17-B270-568F04F7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8C91-1E21-41C8-9DD1-992BFA37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7D80-37F6-4DB1-BD71-9A5B5CE2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448-BE13-4718-B267-C6A0E505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IMPANZEE LEADER IN "THE PLANET OF THE AP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ROCK BAND WAS AWARDED A GRAMMY LIFETIME ACHIEVEMENT AWAR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RE OF ELECTRONIC DANCE MUSIC BEGAN IN CHICAGO IN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0320" y="762120"/>
            <a:ext cx="762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WAS JABBA IN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OSPEL WAS A PERSONAL ACCOUNT OF THE LIFE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96760" y="4876920"/>
            <a:ext cx="735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  SQUARE)  GARD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44640" y="762120"/>
            <a:ext cx="7254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VENUE WHERE THE RANGERS AND KNICK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  TO SURVIVE GOING OVER NIAGARA FALLS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EXANDER  GRAHAM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8640" y="762120"/>
            <a:ext cx="768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MOUS INVENTOR WHOSE WORK WAS MOTIVATED BY HIS MOTHER AND WIFE BEING D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IMPANZEE LEADER IN "THE PLANET OF THE APES"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  WORD  OF  2-WORD  RESTAURANT 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ROCK BAND WAS AWARDED A GRAMMY LIFETIME ACHIEVEMENT AWAR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RE OF ELECTRONIC DANCE MUSIC BEGAN IN CHICAGO IN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1240" y="762120"/>
            <a:ext cx="766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WAS JABBA IN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OSPEL WAS A PERSONAL ACCOUNT OF THE LIFE OF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VENUE WHERE THE RANGERS AND KNICK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  TO SURVIVE GOING OVER NIAGARA FALLS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MOUS INVENTOR WHOSE WORK WAS MOTIVATED BY HIS MOTHER AND WIFE BEING DE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31:01Z</dcterms:modified>
  <cp:revision>389</cp:revision>
  <dc:subject/>
  <dc:title>Slide 1</dc:title>
</cp:coreProperties>
</file>