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4FE9-F263-4A6C-A4C0-2EC151B71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C2FB-6825-4DED-9B51-F441DB18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5B54-20E1-4B9E-819F-8B141EF5D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6D9C-DCE6-4B58-AF5A-5BBD5A4D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FC32-6301-45F0-8919-30F004C47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20E9-DCA8-4F44-BC7D-EE6A300E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4EBE-FCCF-47C8-B949-ABF016615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56A-9BAA-4153-8248-7869E1B0B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E36-90E1-471F-9820-FFA773A5E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E5E7-FF8F-49A5-AC75-27272401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7A54-B09E-4B68-9943-60C45EB4F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7EBF-CA86-4D41-ABAE-ADB6DCE99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2941-DE79-4361-A6AF-128A9E7B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EA98-1499-458E-B4B6-11372A6E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D56C-6649-41CA-B5D3-0A1A7B6A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E8F-FD8C-4541-8DAA-76E374D24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449E-585A-4AAE-9BF7-4463D4FC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B95D-F05C-4149-97DE-DE1153383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BAE4-01ED-4BB8-BFBB-ACC65D80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B16A-0A02-4297-967D-50369C2B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2EC1-27D7-41C4-BFAA-C3E4A6A9B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210-13ED-45F7-8572-88B33AC3D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6A8F-2773-4FB5-A774-3F0B8D74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IMPANZEE LEADER IN "THE PLANET OF THE APES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ROCK BAND WAS AWARDED A GRAMMY LIFETIME ACHIEVEMENT AWAR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87520" y="76212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RE OF ELECTRONIC DANCE MUSIC BEGAN IN CHICAGO IN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0320" y="762120"/>
            <a:ext cx="762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WAS JABBA IN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4280" y="762120"/>
            <a:ext cx="67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OSPEL WAS A PERSONAL ACCOUNT OF THE LIFE OF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96760" y="4876920"/>
            <a:ext cx="735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DISON  SQUARE)  GARD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44640" y="762120"/>
            <a:ext cx="7254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VENUE WHERE THE RANGERS AND KNICK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  TO SURVIVE GOING OVER NIAGARA FALLS IN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EXANDER  GRAHAM)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8640" y="762120"/>
            <a:ext cx="768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MOUS INVENTOR WHOSE WORK WAS MOTIVATED BY HIS MOTHER AND WIFE BEING D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IMPANZEE LEADER IN "THE PLANET OF THE APES"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OND  WORD  OF  2-WORD  RESTAURANT 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ROCK BAND WAS AWARDED A GRAMMY LIFETIME ACHIEVEMENT AWARD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RE OF ELECTRONIC DANCE MUSIC BEGAN IN CHICAGO IN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1240" y="762120"/>
            <a:ext cx="766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WAS JABBA IN THE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04920" y="762120"/>
            <a:ext cx="67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OSPEL WAS A PERSONAL ACCOUNT OF THE LIFE OF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8720" y="762120"/>
            <a:ext cx="7304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VENUE WHERE THE RANGERS AND KNICK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4440" y="761760"/>
            <a:ext cx="7932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  TO SURVIVE GOING OVER NIAGARA FALLS IN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MOUS INVENTOR WHOSE WORK WAS MOTIVATED BY HIS MOTHER AND WIFE BEING DEA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31:01Z</dcterms:modified>
  <cp:revision>389</cp:revision>
  <dc:subject/>
  <dc:title>Slide 1</dc:title>
</cp:coreProperties>
</file>