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754F-DD62-4BBA-8174-C07CC3A85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6362-C5E7-4FF5-A6CA-DEF7678CE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F9D0-9D56-4B0C-BA89-0BA1DC34F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6F5-80D9-412D-A6A8-131ABD07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9AC9-D638-463F-9793-F0AD1678C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35C3-FDDB-4C5E-BAFF-46273D9F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68EF-90E9-4AF2-A612-20007221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03F2-A5A8-4E30-99CF-FB14DA4C1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1285-A50F-4617-BD0E-5C48E0F50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9D34-64AC-4A2A-9799-60ABB7F06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EFB4-4775-40F5-AD2B-DFEBBF00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A8DC-C8F2-44FD-BF3B-274D5BFA6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0D30-2F65-4AB0-8472-8F88E739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45E2-71D9-45D5-B631-98E004E65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933-DEC3-4F1A-915D-0B65CAF02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C517-9B12-4525-A5AE-70EE1625C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37CA-7020-4468-8AD4-FE45DAE7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CBD1-AD0F-4BE9-8551-B0B1B3C0C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722B-57DB-4618-939D-BD9A52720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E2B7-6967-4BE2-8630-0DB040BA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4ACB-73BA-46DC-B516-5C034340C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0B2E-2052-4EF8-B47E-7B03E3958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F738-16FB-404B-BD5A-19E21FE1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IMPANZEE LEADER IN "THE PLANET OF THE APES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ROCK BAND WAS AWARDED A GRAMMY LIFETIME ACHIEVEMENT AWAR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RE OF ELECTRONIC DANCE MUSIC BEGAN IN CHICAGO IN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0320" y="762120"/>
            <a:ext cx="762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WAS JABBA IN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OSPEL WAS A PERSONAL ACCOUNT OF THE LIFE OF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96760" y="4876920"/>
            <a:ext cx="7350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DISON  SQUARE)  GARDE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44640" y="762120"/>
            <a:ext cx="7254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VENUE WHERE THE RANGERS AND KNICK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  TO SURVIVE GOING OVER NIAGARA FALLS IN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LEXANDER  GRAHAM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8640" y="762120"/>
            <a:ext cx="768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MOUS INVENTOR WHOSE WORK WAS MOTIVATED BY HIS MOTHER AND WIFE BEING D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HIMPANZEE LEADER IN "THE PLANET OF THE APES"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  WORD  OF  2-WORD  RESTAURANT 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ROCK BAND WAS AWARDED A GRAMMY LIFETIME ACHIEVEMENT AWAR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RE OF ELECTRONIC DANCE MUSIC BEGAN IN CHICAGO IN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1240" y="762120"/>
            <a:ext cx="766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WAS JABBA IN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OSPEL WAS A PERSONAL ACCOUNT OF THE LIFE OF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8720" y="762120"/>
            <a:ext cx="7304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NAME OF THE VENUE WHERE THE RANGERS AND KNICK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4440" y="761760"/>
            <a:ext cx="7932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ERSON   TO SURVIVE GOING OVER NIAGARA FALLS IN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AMOUS INVENTOR WHOSE WORK WAS MOTIVATED BY HIS MOTHER AND WIFE BEING DEA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31:01Z</dcterms:modified>
  <cp:revision>389</cp:revision>
  <dc:subject/>
  <dc:title>Slide 1</dc:title>
</cp:coreProperties>
</file>