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0450-63AD-4A66-A18F-79810EA3F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DC79-B8AF-4BD8-B3D6-7F5857377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4BB2-35A6-46B1-BADF-BC35776CB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2132-491A-474D-A66A-2B8F1B1DB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8A4B-220C-4421-9957-E7F14E17A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0983-A6AF-4167-B067-05B6645B0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2AD6-D90B-4B08-AD98-4B8E2799C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70D8-DFF1-4BC0-AC21-585334EB9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23E2-826A-4798-B49F-64432FA0D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70ED-A31B-40AE-97AA-65284044F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6F47-BAD8-4512-80B4-3AB955075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2F11-8752-4B44-A831-89D08ACC9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9827-AB11-4D91-B52B-97F50C627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D153-36CB-48FD-9095-F9B304878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492F-D0C8-4C75-93A8-FE936DC6F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AC40-F275-4F41-BD05-F0CAD06D0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00B2-AFFD-4C15-85ED-DA26F88D2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1D83-1CFC-4DC8-A9B1-F94F0FFBF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2905-958A-465B-A029-EF62E3152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97C6-BF98-4D5E-96DB-2069F5C42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CB0B-B2F8-45B6-8159-1A9CD9EE3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3C28-311F-4D98-99E9-A09946EE5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069A-5A5B-4B90-81F9-D34B3A98D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7 MUSICAL ROMANTIC COMEDY FILM STARRED JULIE ANDREWS, MARY TYLER MOORE,    AND CAROL CHANNING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GALLY  BLO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STARRED REESE WITHERSPOON GETTING A LAW DEGR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343400"/>
            <a:ext cx="6096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XTREMELY  LOUD  AND  INCREDIBLY  CL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FILM STARRED SANDRA BULLOCK, TOM HANKS, AND THOMAS HORN AS AN AUTISTIC CHI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SPERATELY  SEEKING  SUS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95280" y="762120"/>
            <a:ext cx="6553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ILM WAS MADONNA'S FIRST MAJOR SCREEN RO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,  ACTU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 CHRISTMAS-THEMED ROM-COM HAD AN ENSEMBLE CAST INCLUDING HUGH GRANT, COLIN FIRTH, AND LIAM NEE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343400"/>
            <a:ext cx="7315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  NOW  FOR  SOMETHING  COMPLETELY  DIFFER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1 MONTY PYTHON FILM'S TITLE WAS A CATCHPHRASE FROM THEIR TV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OVELY  B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266760" y="762120"/>
            <a:ext cx="8610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SUPERNATURAL FILM STARRED MARK WAHLBERG, RACHEL WEISZ, SUSAN SARANDON, STANLEY TUCCI, AND MICHAEL IMPERIOL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838080" y="4343400"/>
            <a:ext cx="746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YEAR  OF  LIVING  DANGEROUS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2 FILM SET IN INDONESIA STARRED MEL GIBSON, SIGOURNEY WEAVER, AND LINDA HU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STARRED REESE WITHERSPOON GETTING A LAW DEGRE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NY  DANGEROUS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GANGSTER PARODY FILM STARRED AN ENSEMBLE CAST INCLUDING MICHAEL KEATON AND JOE PISCOP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ROUGHLY  MODERN  MILL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7 MUSICAL ROMANTIC COMEDY FILM STARRED JULIE ANDREWS, MARY TYLER MOORE,    AND CAROL CHANNI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85800" y="4724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ITLES  CONTAIN  ADVER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FILM STARRED SANDRA BULLOCK, TOM HANKS, AND THOMAS HORN AS AN AUTISTIC CHI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ILM WAS MADONNA'S FIRST MAJOR SCREEN RO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 CHRISTMAS-THEMED ROM-COM HAD AN ENSEMBLE CAST INCLUDING HUGH GRANT, COLIN FIRTH, AND LIAM NEE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1 MONTY PYTHON FILM'S TITLE WAS A CATCHPHRASE FROM THEIR TV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SUPERNATURAL FILM STARRED MARK WAHLBERG, RACHEL WEISZ, SUSAN SARANDON, STANLEY TUCCI, AND MICHAEL IMPERIOL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2 FILM SET IN INDONESIA STARRED MEL GIBSON, SIGOURNEY WEAVER, AND LINDA HU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GANGSTER PARODY FILM STARRED AN ENSEMBLE CAST INCLUDING MICHAEL KEATON AND JOE PISCOP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2T12:40:03Z</dcterms:created>
  <dc:creator>Jennifer Budzinski</dc:creator>
  <dc:description/>
  <dc:language>en-US</dc:language>
  <cp:lastModifiedBy>Erich Friedman</cp:lastModifiedBy>
  <dcterms:modified xsi:type="dcterms:W3CDTF">2020-08-31T13:41:56Z</dcterms:modified>
  <cp:revision>459</cp:revision>
  <dc:subject/>
  <dc:title>Slide 1</dc:title>
</cp:coreProperties>
</file>