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1A97-BD12-4276-825A-C42C34FF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D11-DD52-47E9-A16D-560535EC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B6E-6196-47A5-BA58-EFDF117F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380-697F-4AA5-9225-ECC16E5A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943-C928-4585-911C-4129398A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F19-F770-4656-B5A0-E71E8DD2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20FC-AC7D-4C80-AB6D-BD3F1FFF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CA3F-BC72-4975-9E43-38989D54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842E-E612-4766-8F3D-A0D63608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57B-6419-4120-AFA0-E3FAAEBC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A48-F4D8-400D-94B0-7AB7D05CD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404D-1DE8-4C04-8D0E-3363F7F1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B8C6-4FA2-4F3F-9A8D-C70AB6FF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D12-F431-4F83-A455-3EBE3CE3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064A-501B-49C3-9ACD-FDDA8518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E08-589B-4802-8AC3-2ABB9CED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60A-86D1-4DD9-9BB5-1CD794BB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B2E-4C7B-49AC-BBB2-765C8D48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3BFF-CA2B-45D0-835C-0FF82114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D9F-EA02-4693-8416-5B82A290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EAD-1383-429F-95AD-252BE448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3499-BEBA-4AAA-9340-7D576576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A2E-CB36-4E17-9101-A20B206C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ALLY 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PERATELY  SEEKING  SU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343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NOW  FOR  SOMETHING  COMPLETELY 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LY  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LIVING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OUGHLY  MODERN  MI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72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LES  CONTAIN  AD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2:40:03Z</dcterms:created>
  <dc:creator>Jennifer Budzinski</dc:creator>
  <dc:description/>
  <dc:language>en-US</dc:language>
  <cp:lastModifiedBy>Erich Friedman</cp:lastModifiedBy>
  <dcterms:modified xsi:type="dcterms:W3CDTF">2020-08-31T13:41:56Z</dcterms:modified>
  <cp:revision>459</cp:revision>
  <dc:subject/>
  <dc:title>Slide 1</dc:title>
</cp:coreProperties>
</file>