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D15E-D6E3-44D6-85A0-564C1122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D013-3B0E-444B-8A2C-AA6B9D96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D57-B95A-470C-B573-B632E50A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7D0-B7C1-4C40-8C24-00A2687E0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ABB1-B77E-483A-A1AF-C08CEF8BF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F7BE-1486-4A9A-960C-D56EFDCC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BC1-D0E1-4A8D-A391-4870C9972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112B-8047-4DEA-A7FF-F7B03A0C1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890-10EB-4AC6-A897-93A3E158D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692E-F2E5-4747-89EE-7718DA99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21D-943E-497E-A627-DB3888A30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EB1B-3D79-42D3-977B-5D1B68ED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44A4-9B38-41D6-B292-CF562929C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2E51-C290-4610-BA12-44C20614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13EC-597A-41CB-91D8-7B661C3F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0FF1-5A3A-45DA-984B-4940ED6E2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960-0FAB-413F-9D3A-91D2B562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5FF8-738B-4F7F-AEAB-19D438F34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685-70CF-4D34-8C91-338642923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6638-C970-4C39-94E5-858BDD3EC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8D30-8515-414E-8905-508D2518C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3BAB-81FD-4DE1-B14A-5E3253CB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E19C-938C-4F21-B936-52DE14A25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ROMANTIC COMEDY FILM STARRED JULIE ANDREWS, MARY TYLER MOORE,    AND CAROL CHANN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ALLY  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REESE WITHERSPOON GETTING A LAW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3434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EMELY  LOUD  AND  INCREDIBLY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PERATELY  SEEKING  SU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WAS MADONNA'S FIRST MAJOR SCREEN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,  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HRISTMAS-THEMED ROM-COM HAD AN ENSEMBLE CAST INCLUDING HUGH GRANT, COLIN FIRTH, AND LIAM NEE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34340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NOW  FOR  SOMETHING  COMPLETELY  DIFFE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MONTY PYTHON FILM'S TITLE WAS A CATCHPHRASE FROM THEIR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VELY  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SUPERNATURAL FILM STARRED MARK WAHLBERG, RACHEL WEISZ, SUSAN SARANDON, STANLEY TUCCI, AND MICHAEL IMPERIO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EAR  OF  LIVING  DANGEROU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SET IN INDONESIA STARRED MEL GIBSON, SIGOURNEY WEAVER, AND LINDA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REESE WITHERSPOON GETTING A LAW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DANGEROUS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GANGSTER PARODY FILM STARRED AN ENSEMBLE CAST INCLUDING MICHAEL KEATON AND JOE PISCOP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OUGHLY  MODERN  MIL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ROMANTIC COMEDY FILM STARRED JULIE ANDREWS, MARY TYLER MOORE,    AND CAROL CHANN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72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LES  CONTAIN  AD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WAS MADONNA'S FIRST MAJOR SCREEN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HRISTMAS-THEMED ROM-COM HAD AN ENSEMBLE CAST INCLUDING HUGH GRANT, COLIN FIRTH, AND LIAM NEE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MONTY PYTHON FILM'S TITLE WAS A CATCHPHRASE FROM THEIR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SUPERNATURAL FILM STARRED MARK WAHLBERG, RACHEL WEISZ, SUSAN SARANDON, STANLEY TUCCI, AND MICHAEL IMPERIO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SET IN INDONESIA STARRED MEL GIBSON, SIGOURNEY WEAVER, AND LINDA H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GANGSTER PARODY FILM STARRED AN ENSEMBLE CAST INCLUDING MICHAEL KEATON AND JOE PISCOP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2:40:03Z</dcterms:created>
  <dc:creator>Jennifer Budzinski</dc:creator>
  <dc:description/>
  <dc:language>en-US</dc:language>
  <cp:lastModifiedBy>Erich Friedman</cp:lastModifiedBy>
  <dcterms:modified xsi:type="dcterms:W3CDTF">2020-08-31T13:41:56Z</dcterms:modified>
  <cp:revision>459</cp:revision>
  <dc:subject/>
  <dc:title>Slide 1</dc:title>
</cp:coreProperties>
</file>