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6D7A-4A9C-4B07-955E-7112F5C82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924C-8BE2-401E-AA7B-9C311C7C2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8B2E-474F-4246-8D46-FDA659324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7BAB-FBC0-4084-A6B4-F4E68BB67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1EEC-D4F9-496E-92D4-36B5A0BB1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4D06-4BC0-4FB8-8117-6A0B7C34E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1D76-BB73-41E2-95B6-0899A8012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9111-3C5F-4542-97CE-42AB167B5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6985-D712-4CB5-8296-FB6359360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5D3E-2C59-4BE1-B281-03F19EF08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DD5C-F7AF-48F4-9468-5C7895044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6E88-208A-44F0-8601-27B5994B4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DAEA-D4DA-4FE7-95F8-4FC9126A7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E0081-8299-4D0A-9BF1-0784A46B8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89F8-B400-4603-AE95-DD7D628C1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CC95-58A6-4035-A8E1-E1D823E4F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FE32-8C65-435F-B48A-D2C84527D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3C91-7197-4F66-A178-FB9FCAC17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C0B8-1EA7-406B-9795-BB355A497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5018-130A-4F0F-8A7B-7267E9246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7B42-F2DE-42B2-92E1-12CE87D03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DE0B-BABA-4B94-9FB9-98A859B44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4926-8F4B-4888-9E9B-5BF1B03E0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3 FILM ABOUT AN AFFAIR STARRING JEREMY IRONS AND BEN KINGSLEY IS SHOWN IN REVERSE CHRONOLOGICAL O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MB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DANCE CONTEST DO PLAYERS TRY TO GET UNDER A LOW BAR WITH THEIR BACKS TO THE FLO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NDERL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TARTING WITH "W" MEANS A STRONG URGE TO TRA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UTT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TIN NAME FOR THE WOLVERINE IS "GULO GULO".  WHAT DOES "GULO" MEAN IN LAT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"GREED  IS  GOO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57160" y="762120"/>
            <a:ext cx="7429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QUOTE OF MICHAEL DOUGLAS' CHARACTER IN THE FILM "WALL STRE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ER 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COMEDY FILM STARRED ADAM SANDLER, JACK NICHOLSON, AND MARISA TOME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E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04920" y="762120"/>
            <a:ext cx="8534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HIS BELIEF THAT THE EARTH REVOLVED AROUND THE SUN, WHAT WAS GALILEO FOUND GUILTY OF IN 163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TS  OF  VIO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81160" y="762120"/>
            <a:ext cx="6781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2018 BRUCE WILLIS FILM ABOUT RESCUING A KIDNAPPED WO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DANCE CONTEST DO PLAYERS TRY TO GET UNDER A LOW BAR WITH THEIR BACKS TO THE FLO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OTER  FRA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320" y="762120"/>
            <a:ext cx="8991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ISSION DID DONALD TRUMP ESTABLISH IN 2017 AND DISBAND IN 2018, DUE TO MOUNTING LEGAL CHALLEN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RAY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3 FILM ABOUT AN AFFAIR STARRING JEREMY IRONS AND BEN KINGSLEY IS SHOWN IN REVERSE CHRONOLOGICAL 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267080"/>
            <a:ext cx="8915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THE  9  CIRCLES  OF  HELL  ACCORDING TO  DANTE'S  "INFERNO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TARTING WITH "W" MEANS A STRONG URGE TO TRA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TIN NAME FOR THE WOLVERINE IS "GULO GULO".  WHAT DOES "GULO" MEAN IN LAT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QUOTE OF MICHAEL DOUGLAS' CHARACTER IN THE FILM "WALL STRE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COMEDY FILM STARRED ADAM SANDLER, JACK NICHOLSON, AND MARISA TOME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HIS BELIEF THAT THE EARTH REVOLVED AROUND THE SUN, WHAT WAS GALILEO FOUND GUILTY OF IN 163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2018 BRUCE WILLIS FILM ABOUT RESCUING A KIDNAPPED WO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4120" y="762120"/>
            <a:ext cx="8915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ISSION DID DONALD TRUMP ESTABLISH IN 2017 AND DISBAND IN 2018, DUE TO MOUNTING LEGAL CHALLENG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2:41:16Z</dcterms:created>
  <dc:creator>Jennifer Budzinski</dc:creator>
  <dc:description/>
  <dc:language>en-US</dc:language>
  <cp:lastModifiedBy>Erich Friedman</cp:lastModifiedBy>
  <dcterms:modified xsi:type="dcterms:W3CDTF">2020-08-31T13:42:14Z</dcterms:modified>
  <cp:revision>412</cp:revision>
  <dc:subject/>
  <dc:title>Slide 1</dc:title>
</cp:coreProperties>
</file>