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185A-7E19-45D2-A15D-E60C6264E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2AA7-8A06-459F-9183-16F4F0F5F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7FC6-7709-4F06-ADA4-3CF3B396F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CFDC-950C-4D22-A05C-96FE3259C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23A6-7AFA-4F40-9A62-68A620F87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6FDE-988B-4746-AA14-7B45E5FF7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882C-1109-40C4-9911-0913B38EA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7D18-12B9-48B1-9639-ED9FF8F80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ACE3-57B3-42AE-A2E8-2B1C7CC1A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6948-2AAA-48B3-9646-3E8751261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DB47-F929-4E72-A549-0C43B8209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89AE-4582-40AB-A995-0B93A9280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9636-556D-4A80-8B82-268CF435C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C86D-28B2-4F8C-93AB-91D69BD0A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5729-ACCF-475E-9585-58D341BD2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EA68-6C13-40DF-AC99-C084823D0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7FE9-B2BF-482E-8013-67A98B596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B02C-A253-417C-A03A-CA9750DE3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0BB4-7F77-4DE3-82F2-96D21B254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B5D9-17E9-4907-A720-B8DB47F52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647B-C0C6-4C59-A2B9-50955CAE6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714E-93F7-45CE-92E1-39A98BFA6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600C-5FD6-4298-B888-E484CC327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3 FILM ABOUT AN AFFAIR STARRING JEREMY IRONS AND BEN KINGSLEY IS SHOWN IN REVERSE CHRONOLOGICAL 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M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ANCE CONTEST DO PLAYERS TRY TO GET UNDER A LOW BAR WITH THEIR BACKS TO THE FLO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NDERL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TARTING WITH "W" MEANS A STRONG URGE TO TRA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UTT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TIN NAME FOR THE WOLVERINE IS "GULO GULO".  WHAT DOES "GULO" MEAN IN LAT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"GREED  IS  GOO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57160" y="762120"/>
            <a:ext cx="7429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QUOTE OF MICHAEL DOUGLAS' CHARACTER IN THE FILM "WALL 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R 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COMEDY FILM STARRED ADAM SANDLER, JACK NICHOLSON, AND MARISA TOME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E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4920" y="762120"/>
            <a:ext cx="853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HIS BELIEF THAT THE EARTH REVOLVED AROUND THE SUN, WHAT WAS GALILEO FOUND GUILTY OF IN 163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TS  OF  VIO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2018 BRUCE WILLIS FILM ABOUT RESCUING A KIDNAPPED WO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ANCE CONTEST DO PLAYERS TRY TO GET UNDER A LOW BAR WITH THEIR BACKS TO THE FLO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TER  FRA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320" y="762120"/>
            <a:ext cx="8991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ISSION DID DONALD TRUMP ESTABLISH IN 2017 AND DISBAND IN 2018, DUE TO MOUNTING LEGAL CHALLEN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RAY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3 FILM ABOUT AN AFFAIR STARRING JEREMY IRONS AND BEN KINGSLEY IS SHOWN IN REVERSE CHRONOLOGICAL 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267080"/>
            <a:ext cx="8915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HE  9  CIRCLES  OF  HELL  ACCORDING TO  DANTE'S  "INFERNO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TARTING WITH "W" MEANS A STRONG URGE TO TRA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TIN NAME FOR THE WOLVERINE IS "GULO GULO".  WHAT DOES "GULO" MEAN IN LAT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QUOTE OF MICHAEL DOUGLAS' CHARACTER IN THE FILM "WALL STRE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COMEDY FILM STARRED ADAM SANDLER, JACK NICHOLSON, AND MARISA TOME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HIS BELIEF THAT THE EARTH REVOLVED AROUND THE SUN, WHAT WAS GALILEO FOUND GUILTY OF IN 163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2018 BRUCE WILLIS FILM ABOUT RESCUING A KIDNAPPED WO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120" y="7621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ISSION DID DONALD TRUMP ESTABLISH IN 2017 AND DISBAND IN 2018, DUE TO MOUNTING LEGAL CHALLEN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2:41:16Z</dcterms:created>
  <dc:creator>Jennifer Budzinski</dc:creator>
  <dc:description/>
  <dc:language>en-US</dc:language>
  <cp:lastModifiedBy>Erich Friedman</cp:lastModifiedBy>
  <dcterms:modified xsi:type="dcterms:W3CDTF">2020-08-31T13:42:14Z</dcterms:modified>
  <cp:revision>412</cp:revision>
  <dc:subject/>
  <dc:title>Slide 1</dc:title>
</cp:coreProperties>
</file>