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851D-499D-4F6F-8077-48E5A426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3B33-BC96-4A83-A627-5150A384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392C-1B66-41BD-A957-16469AD3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D59-F1CA-40F3-81A6-2BF6533B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730A-B761-439E-913A-D332EE8C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1FA8-424E-4369-A11D-D136E1587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4F71-D2A4-4215-86C6-C67C7E244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874-3F78-4625-B707-11689C08E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5D73-7CFB-4BE5-B827-63E30F9E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09C7-8EB2-46F2-AADA-89DDE851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2068-D6F1-48B6-BD7E-A7697F40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547-A96B-4FA6-9443-1D34AED06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CAE-1EE2-4F2C-9330-84DEA10A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9A9C-4CA0-4340-8096-85EB1E78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246-4287-4109-A156-D74464B1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8B5-B8D4-4281-BEA4-7EA8C76F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113-86FD-474E-8191-5A79B59F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C594-C53B-44F9-922D-F2C98624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7244-E2A7-4E3C-937A-5E9D99E0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E4A-32D6-46B9-926A-880AFFCF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61A-E66B-47BA-ADAF-EFB3BF21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CA2-7743-41B2-BF42-C5AEED91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F03-8BB9-4752-966A-44D59931E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ABOUT AN AFFAIR STARRING JEREMY IRONS AND BEN KINGSLEY IS SHOWN IN REVERSE CHRONOLOGICAL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ANCE CONTEST DO PLAYERS TRY TO GET UNDER A LOW BAR WITH THEIR BACKS TO THE FL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DERL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TARTING WITH "W" MEANS A STRONG URGE TO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UTT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TIN NAME FOR THE WOLVERINE IS "GULO GULO".  WHAT DOES "GULO" MEAN IN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GREED  IS  GOO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MICHAEL DOUGLAS' CHARACTER IN THE FILM "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R 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OMEDY FILM STARRED ADAM SANDLER, JACK NICHOLSON, AND MARISA TOM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IS BELIEF THAT THE EARTH REVOLVED AROUND THE SUN, WHAT WAS GALILEO FOUND GUILTY OF IN 16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S  OF 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2018 BRUCE WILLIS FILM ABOUT RESCUING A KIDNAPPED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ANCE CONTEST DO PLAYERS TRY TO GET UNDER A LOW BAR WITH THEIR BACKS TO THE FL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TER  FR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320" y="762120"/>
            <a:ext cx="8991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ISSION DID DONALD TRUMP ESTABLISH IN 2017 AND DISBAND IN 2018, DUE TO MOUNTING LEGAL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RA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ABOUT AN AFFAIR STARRING JEREMY IRONS AND BEN KINGSLEY IS SHOWN IN REVERSE CHRONOLOGICAL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267080"/>
            <a:ext cx="8915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9  CIRCLES  OF  HELL  ACCORDING TO  DANTE'S  "INFERN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TARTING WITH "W" MEANS A STRONG URGE TO TRA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TIN NAME FOR THE WOLVERINE IS "GULO GULO".  WHAT DOES "GULO" MEAN IN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MICHAEL DOUGLAS' CHARACTER IN THE FILM "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OMEDY FILM STARRED ADAM SANDLER, JACK NICHOLSON, AND MARISA TOME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IS BELIEF THAT THE EARTH REVOLVED AROUND THE SUN, WHAT WAS GALILEO FOUND GUILTY OF IN 16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2018 BRUCE WILLIS FILM ABOUT RESCUING A KIDNAPPED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ISSION DID DONALD TRUMP ESTABLISH IN 2017 AND DISBAND IN 2018, DUE TO MOUNTING LEGAL CHALLEN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2:41:16Z</dcterms:created>
  <dc:creator>Jennifer Budzinski</dc:creator>
  <dc:description/>
  <dc:language>en-US</dc:language>
  <cp:lastModifiedBy>Erich Friedman</cp:lastModifiedBy>
  <dcterms:modified xsi:type="dcterms:W3CDTF">2020-08-31T13:42:14Z</dcterms:modified>
  <cp:revision>412</cp:revision>
  <dc:subject/>
  <dc:title>Slide 1</dc:title>
</cp:coreProperties>
</file>