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6B6-383A-44F4-BDCC-E5951534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641-0BA1-4FDD-BC3E-B40C2655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2E3-FCDB-40FE-A31F-0EEAE51C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8A9-196E-4C86-AA95-055D233A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F5E6-657D-4875-B11E-F3EB07ED2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7A9-EF8E-4072-8B50-59B49B494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8B8F-3A37-4D8B-A29D-8190894D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D914-D182-4054-A56D-A1538075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45E-D800-494B-BA97-DE35041F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DF8-C858-4945-A5C8-755B4A319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5FF-3B37-46C4-BF52-B1DA9E99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38B4-E936-47BC-921A-9AF10FB5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770-8B9D-4D90-B259-5DF66F3A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4E61-6AC8-417E-AFED-7F9EBE99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FAB3-29AB-4D3B-AEAA-BDA3BFB8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8DD2-7643-4E3F-A2CD-161B73B57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B33F-6FF5-4159-94FF-C4D1D404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7C2-A515-4640-86EE-0E03A75EF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219-32F8-4533-85E3-84E6EC51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2804-304A-4C78-B13F-31A3013E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56B6-D47B-4476-B910-271BCC68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DDE-8D87-46B8-82D7-7905BAE6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F85-5723-44B5-9EE6-852BA921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     IS THE LONGEST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  (SEA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792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IS THE LONGEST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TRADED COMMODITY IN THE WORLD, AFTER 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2:59:10Z</dcterms:created>
  <dc:creator>Jennifer Budzinski</dc:creator>
  <dc:description/>
  <dc:language>en-US</dc:language>
  <cp:lastModifiedBy>Erich Friedman</cp:lastModifiedBy>
  <dcterms:modified xsi:type="dcterms:W3CDTF">2020-08-31T13:42:33Z</dcterms:modified>
  <cp:revision>459</cp:revision>
  <dc:subject/>
  <dc:title>Slide 1</dc:title>
</cp:coreProperties>
</file>