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88EB-BE6B-4E70-AEA2-198020E24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29C6-121B-4DE4-8E53-A9EE8295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1E07-08E7-406D-9765-D344D739D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B2C1-F302-44E0-BC2F-138EB05AE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E746-E905-4C1C-B2FD-A75EA326A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4512C-9F08-4502-AB60-C944150AD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14B2C-9C67-4187-8AAD-B419F4AD6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BE72-05BD-43E4-AD5B-AD916C6FA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39A4-30E6-4CD5-A46D-8DAF46D8D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57A2-520E-45C6-84F1-64E8EFC77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ECC7-02E3-4D61-9712-7AAEE2F83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66BB-DF47-4652-B92F-0E556CE00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5C29-EC23-44AA-A111-DCBC5A752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5517-2335-4BD4-9078-9837BADD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A1C0-A74A-4474-B398-E68F4FD9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49BC-A1EC-45BF-90A3-F0B858265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C8F9-0FE7-435C-8228-D085A85BD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E853-277B-4D91-B491-4C676033D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EC8A-1D64-4956-BDA4-48E067577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3E19-28B6-4CB2-9318-03C0E81EA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A3DA-18DE-49E9-99D3-2C962672E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4EF8-1943-483B-9042-511D9815E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D103-0C08-4893-974A-78788E3F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THAT IS LESS DENSE THAN ITS LIQUID FOR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 EARTH'S ORBIT IS NOT A PERFECT CIRCLE, WHICH SEASON      IS THE LONGEST IN THE NOR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WE ARE YOUNG", "SOME NIGHTS" AND "CARRY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ZED BED, SOMETIMES CALLED A DOUBLE, HAS A     53 x 75 INCH MAT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LIFTER MOVES A BARBELL FROM THE FLOOR TO A POSITION ACROSS HIS DELTOIDS.  WHAT IS THIS MOVEM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  (SEA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0792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2006 ANIMATED FILM AND ITS 3 SEQUELS ABOUT A BEAR NAMED BO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VALENT COLOR ON THE NATIONAL FLAGS OF FINLAND, CYPRUS, AND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UPPET DRU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 EARTH'S ORBIT IS NOT A PERFECT CIRCLE, WHICH SEASON IS THE LONGEST IN THE NORTHERN HEMI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RADED COMMODITY IN THE WORLD, AFTER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THAT IS LESS DENSE THAN ITS LIQUID FOR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81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HOU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WE ARE YOUNG", "SOME NIGHTS" AND "CARRY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ZED BED, SOMETIMES CALLED A DOUBLE, HAS A     53 x 75 INCH MAT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LIFTER MOVES A BARBELL FROM THE FLOOR TO A POSITION ACROSS HIS DELTOIDS.  WHAT IS THIS MOVEM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2006 ANIMATED FILM AND ITS 3 SEQUELS ABOUT A BEAR NAMED BO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VALENT COLOR ON THE NATIONAL FLAGS OF FINLAND, CYPRUS, AND SOUTH KO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UPPET DRU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TRADED COMMODITY IN THE WORLD, AFTER O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12:59:10Z</dcterms:created>
  <dc:creator>Jennifer Budzinski</dc:creator>
  <dc:description/>
  <dc:language>en-US</dc:language>
  <cp:lastModifiedBy>Erich Friedman</cp:lastModifiedBy>
  <dcterms:modified xsi:type="dcterms:W3CDTF">2020-08-31T13:42:33Z</dcterms:modified>
  <cp:revision>459</cp:revision>
  <dc:subject/>
  <dc:title>Slide 1</dc:title>
</cp:coreProperties>
</file>