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F0F2-E292-4A63-9EF1-3B8909F4B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9D67-93E6-4B8D-BDC9-201447156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502B-ECD4-49F8-A285-77803B04B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B46F-E63D-4157-A4FF-C9AFA73DF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BDF7-3B61-448A-B180-6C9BE970C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59C7-6044-49D5-BAA9-51820F465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E540-A279-428B-A2BA-F59CC5AFE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AF0F-97E9-432A-B2AD-FA964FC56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9CD4-12DD-456F-ADA7-0F02206A1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E5AA-C6B3-4842-AA2B-E135E1FCB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2E04-042B-485F-811A-52E958ED3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04ED-0A4B-4A06-8F5C-90B4B34D2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7688-9B42-420A-925A-C13DB2AE1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EB88-0E29-41ED-B56C-A832C4B6D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7E47-700E-45E6-B2DE-BE3923A88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3047-8102-46C7-8820-9328712AD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74FA-EA3E-410E-BC33-67D1347D7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6998-196B-4365-8549-27E892ACA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FCD1-643C-40BB-8E48-EC76F6B25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1A6F-9FC2-4A4B-904A-9B798C558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8DC4-6B9E-4B8C-A3AD-EF2A47368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0F08-AB6A-41A2-8922-FDB97AE83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20D2-BC3F-4930-BB9F-80389BC95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SOLID THAT IS LESS DENSE THAN ITS LIQUID FORM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M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THE EARTH'S ORBIT IS NOT A PERFECT CIRCLE, WHICH SEASON      IS THE LONGEST IN THE NORTHERN HEMISP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ROUP SANG "WE ARE YOUNG", "SOME NIGHTS" AND "CARRY 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ZED BED, SOMETIMES CALLED A DOUBLE, HAS A     53 x 75 INCH MATT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WEIGHTLIFTER MOVES A BARBELL FROM THE FLOOR TO A POSITION ACROSS HIS DELTOIDS.  WHAT IS THIS MOVEMEN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PEN  (SEAS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0792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TITLE OF THE 2006 ANIMATED FILM AND ITS 3 SEQUELS ABOUT A BEAR NAMED BOO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REVALENT COLOR ON THE NATIONAL FLAGS OF FINLAND, CYPRUS, AND SOUTH KOR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IM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UPPET DRUMM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THE EARTH'S ORBIT IS NOT A PERFECT CIRCLE, WHICH SEASON IS THE LONGEST IN THE NORTHERN HEMISP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FF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TRADED COMMODITY IN THE WORLD, AFTER OI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SOLID THAT IS LESS DENSE THAN ITS LIQUID FOR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9320" y="4343400"/>
            <a:ext cx="6781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HOUS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ROUP SANG "WE ARE YOUNG", "SOME NIGHTS" AND "CARRY 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ZED BED, SOMETIMES CALLED A DOUBLE, HAS A     53 x 75 INCH MATT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WEIGHTLIFTER MOVES A BARBELL FROM THE FLOOR TO A POSITION ACROSS HIS DELTOIDS.  WHAT IS THIS MOVEMENT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TITLE OF THE 2006 ANIMATED FILM AND ITS 3 SEQUELS ABOUT A BEAR NAMED BOO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REVALENT COLOR ON THE NATIONAL FLAGS OF FINLAND, CYPRUS, AND SOUTH KORE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UPPET DRUMM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TRADED COMMODITY IN THE WORLD, AFTER OI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8T12:59:10Z</dcterms:created>
  <dc:creator>Jennifer Budzinski</dc:creator>
  <dc:description/>
  <dc:language>en-US</dc:language>
  <cp:lastModifiedBy>Erich Friedman</cp:lastModifiedBy>
  <dcterms:modified xsi:type="dcterms:W3CDTF">2020-08-31T13:42:33Z</dcterms:modified>
  <cp:revision>459</cp:revision>
  <dc:subject/>
  <dc:title>Slide 1</dc:title>
</cp:coreProperties>
</file>