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2028-54AC-4B37-8ABA-C2D50BE826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E810-D571-424A-AD16-B49E1B778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7ACF-7E94-413F-9DB1-B6BEFF4BA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3A4E-B385-4CAE-AD59-67193A841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74242-E375-4D5F-B86C-0B5444A0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9FC5-4BDD-43BD-96B1-B16B8BA83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A60A-A238-4842-A4DD-EC6F3BA9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648A-6AD7-4E5E-B57C-C71EBF99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B280-A03D-410F-8A02-678BA8E5D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5416-3DE7-4612-B8AA-9209C914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0329-222E-4746-83DC-7B10C97E3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B034-49DE-4D03-B5D6-9CEE27D5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2936-A056-41E3-95B8-79358C0E9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56AD-5F89-4B3F-9FBE-F597E83BB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68C5-472C-4396-9CD4-24CCEBA5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6364-076D-43F9-B9F3-26C6A83CB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7377-9F2E-4298-A10E-0193EB751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A209-E3E1-4F16-8370-62E1118F1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FC52-2BEE-43DE-A135-D7D0CE58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025E-D528-4EDE-BD90-6CC5848EF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0222-9A75-4BBC-8B01-44977C77D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1A72-78BA-4482-9C84-F6D24FA44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607B-934F-49D0-A334-9293C3925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62080" y="761760"/>
            <a:ext cx="8619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ABOUT  REPORTERS STARRED MICHAEL KEATON, GLENN CLOSE, MARISA TOMEI, RANDY QUAID, AND ROBERT DUV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LD IN FOUR 4 OZ BRICKS, DIFFERING IN SHAPE DEPENDING ON WHETHER YOU ARE EAST OR WEST     OF THE ROCK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69720" y="762120"/>
            <a:ext cx="8393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CK RENTAL COMPANY HAS ITS HEADQUARTERS IN MIAMI,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'S  (GOT  TAL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06440" y="762120"/>
            <a:ext cx="653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GT",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685800" y="4876920"/>
            <a:ext cx="7831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1200" y="762120"/>
            <a:ext cx="81216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CUUM PUMP, INVENTED IN 1650, WAS PRECEDED BY WHAT OTHER TYPE OF PU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03440" y="762120"/>
            <a:ext cx="773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BERGÉ IS FAMOUS FOR MAKING JEWEL-ENCRUSTED ITEMS IN WHAT SH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X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23800" y="762120"/>
            <a:ext cx="8096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 OF BLACKFACE MINSTRELS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LES)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43040" y="762120"/>
            <a:ext cx="76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"THE MOST REVERED JAZZ TRUMPETER OF ALL TIME",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60520" y="762120"/>
            <a:ext cx="802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OLD IN FOUR 4 OZ BRICKS, DIFFERING IN SHAPE DEPENDING ON WHETHER YOU ARE EAST OR WEST     OF THE ROCKY MOUNTA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47920" y="4876920"/>
            <a:ext cx="6248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LEY  (MCCHRYST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42880" y="762120"/>
            <a:ext cx="8058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ENERAL WHO LED FORCES IN AFGHANISTAN BEFORE A CRITICA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TICLE APPEA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6360" y="762120"/>
            <a:ext cx="853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ABOUT  REPORTERS STARRED MICHAEL KEATON, GLENN CLOSE,  MARISA TOMEI, RANDY QUAID, AND ROBERT DUVA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2160" y="4800600"/>
            <a:ext cx="769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CUP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9240" y="761760"/>
            <a:ext cx="8529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CK RENTAL COMPANY HAS ITS HEADQUARTERS IN MIAMI,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57200" y="762120"/>
            <a:ext cx="6427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AGT", WHAT DOES THE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CUUM PUMP, INVENTED IN 1650, WAS PRECEDED BY WHAT OTHER TYPE OF PU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ABERGÉ IS FAMOUS FOR MAKING JEWEL-ENCRUSTED ITEMS IN WHAT SH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SONG TO HAVE COME OUT  OF BLACKFACE MINSTREL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"THE MOST REVERED JAZZ TRUMPETER OF ALL TIME",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ENERAL WHO LED FORCES IN AFGHANISTAN BEFORE A CRITICAL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TICLE APPEA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3:42:54Z</dcterms:modified>
  <cp:revision>386</cp:revision>
  <dc:subject/>
  <dc:title>Slide 1</dc:title>
</cp:coreProperties>
</file>