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1808-7719-4C38-99E4-FD4CC345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1F46-2C87-4F24-A0F2-0EFDA48C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6A89-0732-4D8A-AB69-4C39C75E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1C0A-EC4A-4A6D-A02A-5B660AED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C58-5C90-4E2A-8D40-2E6295BB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873D-C114-455D-B895-4885B8CBD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FF99-B6FB-497F-A250-4BE48C2FE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A47-1841-45D6-AB24-D3D94B25B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40D8-622A-4C35-8A22-0EEA6571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374D-610B-40A7-8591-D5E66AF5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F37-441E-449E-819F-08D57E96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319D-758F-4137-9DF3-D3F8C13D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3DE4-D551-40E7-9009-DA33E2F9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FA3-ED7D-4E97-9E47-009F4BAE5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56EE-9A74-4053-9E61-1B8A5BA3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9777-28D1-4F78-B2DF-554CDFA4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381-8CEB-44E3-97B7-A9223722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3A4F-F8B0-40D4-AA51-334E1372C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D9E-6DFB-4BA0-B454-79BDE347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D71A-8A33-483B-9E6B-62111848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01FC-6233-426B-8BDC-CDF825705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DA53-563A-417B-806E-BFA27490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90F-211A-47A1-8355-ACA6901A2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2080" y="761760"/>
            <a:ext cx="8619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ABOUT  REPORTERS STARRED MICHAEL KEATON, GLENN CLOSE, MARISA TOMEI, RANDY QUAID, AND ROBERT DUV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LD IN FOUR 4 OZ BRICKS, DIFFERING IN SHAPE DEPENDING ON WHETHER YOU ARE EAST OR WEST    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9720" y="762120"/>
            <a:ext cx="839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CK RENTAL COMPANY HAS ITS HEADQUARTERS IN MIAMI,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'S  (GOT  TAL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06440" y="762120"/>
            <a:ext cx="653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GT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85800" y="4876920"/>
            <a:ext cx="7831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1200" y="762120"/>
            <a:ext cx="8121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CUUM PUMP, INVENTED IN 1650, WAS PRECEDED BY WHAT OTHER TYPE OF P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3440" y="762120"/>
            <a:ext cx="773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BERGÉ IS FAMOUS FOR MAKING JEWEL-ENCRUSTED ITEMS IN WHAT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23800" y="762120"/>
            <a:ext cx="8096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 OF BLACKFACE MINSTRELS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LES)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"THE MOST REVERED JAZZ TRUMPETER OF ALL TIME",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60520" y="762120"/>
            <a:ext cx="802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LD IN FOUR 4 OZ BRICKS, DIFFERING IN SHAPE DEPENDING ON WHETHER YOU ARE EAST OR WEST     OF THE ROCKY MOUNTA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87692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 (MCCHRYST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42880" y="762120"/>
            <a:ext cx="8058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ENERAL WHO LED FORCES IN AFGHANISTAN BEFORE A CRITIC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TICLE APP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6360" y="762120"/>
            <a:ext cx="853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ABOUT  REPORTERS STARRED MICHAEL KEATON, GLENN CLOSE,  MARISA TOMEI, RANDY QUAID, AND ROBERT DUV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2160" y="4800600"/>
            <a:ext cx="769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U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9240" y="761760"/>
            <a:ext cx="8529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CK RENTAL COMPANY HAS ITS HEADQUARTERS IN MIAMI,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GT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CUUM PUMP, INVENTED IN 1650, WAS PRECEDED BY WHAT OTHER TYPE OF P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BERGÉ IS FAMOUS FOR MAKING JEWEL-ENCRUSTED ITEMS IN WHAT SH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 OF BLACKFACE MINSTREL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"THE MOST REVERED JAZZ TRUMPETER OF ALL TIME",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ENERAL WHO LED FORCES IN AFGHANISTAN BEFORE A CRITIC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TICLE APPEA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3:42:54Z</dcterms:modified>
  <cp:revision>386</cp:revision>
  <dc:subject/>
  <dc:title>Slide 1</dc:title>
</cp:coreProperties>
</file>