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4F80-399E-4E34-965C-F46FD3F47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7EC4-2FED-4E20-B189-7EB00FD0D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9AED-3AD8-4B3D-A799-51F52E500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4A47-3C4C-4ECD-AA37-1BFCC36F8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1F34-BBE5-456B-8668-3B3D239EA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3E29-843E-494E-946E-3D9089366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1E61-4C32-4648-B9FC-9E99E56E9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D1ED-9BB6-4A7C-9EF1-9FBC1A096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8E70-A177-40C7-8F47-B95BD5D0B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8AAD-B4EE-4C9D-A248-A4B200E29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F822-7802-4CF1-8137-06F219A83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7DD3-961D-48C0-B341-32D253F26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6005-DF2D-40B3-BEB2-5D690491D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52E4-6CE5-4B43-983A-724012564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F88D-D846-487C-B710-EAB1FF975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A2DF-EA35-4E5A-AF98-36AD63A76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AF2E-6FBF-49BC-91EC-07FC7088E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190E-503E-44D1-B770-6A8E02875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D239-40F8-4535-BAD7-5C35C32AD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06EA-2EFB-4495-B26A-01CAE2C42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5ED1-D807-47C7-A931-C77F75676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10F5-85AF-4FA5-8C5A-B842C85AF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A9B6-5188-4CFF-B20B-1BF11206D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62080" y="761760"/>
            <a:ext cx="8619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ABOUT  REPORTERS STARRED MICHAEL KEATON, GLENN CLOSE, MARISA TOMEI, RANDY QUAID, AND ROBERT DUV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OLD IN FOUR 4 OZ BRICKS, DIFFERING IN SHAPE DEPENDING ON WHETHER YOU ARE EAST OR WEST     OF THE ROCKY MOUNTAI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Y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69720" y="762120"/>
            <a:ext cx="8393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UCK RENTAL COMPANY HAS ITS HEADQUARTERS IN MIAMI,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'S  (GOT  TAL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306440" y="762120"/>
            <a:ext cx="6531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AGT", WHAT DOES THE "A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685800" y="4876920"/>
            <a:ext cx="7831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11200" y="762120"/>
            <a:ext cx="812160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ACUUM PUMP, INVENTED IN 1650, WAS PRECEDED BY WHAT OTHER TYPE OF PUM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03440" y="762120"/>
            <a:ext cx="7737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BERGÉ IS FAMOUS FOR MAKING JEWEL-ENCRUSTED ITEMS IN WHAT SHA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06640" y="4876920"/>
            <a:ext cx="693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X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23800" y="762120"/>
            <a:ext cx="8096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KNOWN SONG TO HAVE COME OUT  OF BLACKFACE MINSTRELS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ILES)  DAV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43040" y="762120"/>
            <a:ext cx="7657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"THE MOST REVERED JAZZ TRUMPETER OF ALL TIME", ACCORDING TO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LLING STO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60520" y="762120"/>
            <a:ext cx="802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OLD IN FOUR 4 OZ BRICKS, DIFFERING IN SHAPE DEPENDING ON WHETHER YOU ARE EAST OR WEST     OF THE ROCKY MOUNTAI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447920" y="4876920"/>
            <a:ext cx="6248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NLEY  (MCCHRYST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42880" y="762120"/>
            <a:ext cx="8058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GENERAL WHO LED FORCES IN AFGHANISTAN BEFORE A CRITICAL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LLING STO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RTICLE APPEA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06360" y="762120"/>
            <a:ext cx="853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ABOUT  REPORTERS STARRED MICHAEL KEATON, GLENN CLOSE,  MARISA TOMEI, RANDY QUAID, AND ROBERT DUVAL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22160" y="4800600"/>
            <a:ext cx="7699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CUP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9240" y="761760"/>
            <a:ext cx="8529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UCK RENTAL COMPANY HAS ITS HEADQUARTERS IN MIAMI, FLORI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357200" y="762120"/>
            <a:ext cx="6427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AGT", WHAT DOES THE "A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00040" y="762120"/>
            <a:ext cx="81439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ACUUM PUMP, INVENTED IN 1650, WAS PRECEDED BY WHAT OTHER TYPE OF PUM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57360" y="762120"/>
            <a:ext cx="7829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BERGÉ IS FAMOUS FOR MAKING JEWEL-ENCRUSTED ITEMS IN WHAT SHA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00040" y="762120"/>
            <a:ext cx="8143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KNOWN SONG TO HAVE COME OUT  OF BLACKFACE MINSTRELS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"THE MOST REVERED JAZZ TRUMPETER OF ALL TIME", ACCORDING TO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LLING STO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66640" y="762120"/>
            <a:ext cx="8010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GENERAL WHO LED FORCES IN AFGHANISTAN BEFORE A CRITICAL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LLING STO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RTICLE APPEAR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1T13:42:54Z</dcterms:modified>
  <cp:revision>386</cp:revision>
  <dc:subject/>
  <dc:title>Slide 1</dc:title>
</cp:coreProperties>
</file>