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67E9-5943-4BDF-9E43-F78160470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832E-985F-43CA-8727-B796FF8F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D89C-4277-4FD1-9595-47DD5B6E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7234-5BE4-46DF-A61B-3727FC17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368A-9E42-43CD-BBF3-5CE7668F7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F08-3A59-4C32-9B72-11013182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C90E-C681-46B5-847A-1B2DAF35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9DC1-A416-4C84-A451-6B0DE8FC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90A-DD49-4F37-B30F-EF0481253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33F4-0210-47F0-B558-A5823158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E42-F63E-4223-B60A-A9805C5E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5C43-A58B-4A8B-88DB-9210A52D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16A-0CD9-4294-BD50-71E827CA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710-1924-445D-9E1A-20E3D1BD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02BF-57C4-4171-88E4-011E125FD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16A1-9185-46FF-9F07-63AE9F18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17EA-F394-4D45-BE8F-18D4A246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C1CD-04C5-4894-95D6-04BACBD2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FC38-F95F-4EDE-9F14-9DB262A3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2D15-3CE7-416D-9BF7-BB965BFBA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51B-5EA6-452F-8E38-B019647C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F7E6-EDA7-4F71-A3E8-B5A4B572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CEE1-5A72-4AF4-9D8A-BD971A0B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BO DEREK MAKE HER FIRST MAJOR FILM APPEA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 FLAG HAS BEEN CHANGED THE MOST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1240" y="762120"/>
            <a:ext cx="766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COP SHOW WAS ON NBC FOR 1 SEASON AND THEN TNT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ECURITY ACT DID CONGRESS QUICKLY PASS AFTER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GENEVA IN 1955, WHAT WORD WAS    USED FOR MOST MEETINGS BETWEEN HEADS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BUILDINGS BUILT IN THE U.S. BETWEEN 1600 AND 1850 FALL INTO WHAT ARCHITECTURAL ST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4440" y="762120"/>
            <a:ext cx="6855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MONTANA'S NICKNAMES IS WHAT SORT OF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 WAS VIEWED AS       A SYMBOL FOR THE ETERNAL SOUL BY MEDIEVAL CHRISTIANS, AS IT REMAINS GREEN WHILE    IT CLINGS TO DEAD TRE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36760" y="762120"/>
            <a:ext cx="627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 FLAG HAS BEEN CHANGED THE MOST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S CHANGED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BO DEREK MAKE HER FIRST MAJOR FILM APPEARA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343400"/>
            <a:ext cx="747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LLEGE  CONFERENCES  OR  LEAG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COP SHOW WAS ON NBC FOR 1 SEASON AND THEN TNT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ECURITY ACT DID CONGRESS QUICKLY PASS AFTER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GENEVA IN 1955, WHAT WORD WAS   USED FOR MOST MEETINGS BETWEEN HEADS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BUILDINGS BUILT IN THE U.S. BETWEEN 1600 AND 1850 FALL INTO WHAT ARCHITECTURAL ST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41520" y="762120"/>
            <a:ext cx="606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MONTANA'S NICKNAMES IS WHAT SORT OF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 WAS VIEWED AS      A SYMBOL FOR THE ETERNAL SOUL BY MEDIEVAL CHRISTIANS, AS IT REMAINS GREEN WHILE    IT CLINGS TO DEAD TR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04800" y="762120"/>
            <a:ext cx="613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S CHANGED BY A ZOLTAR MACH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3:43:12Z</dcterms:modified>
  <cp:revision>379</cp:revision>
  <dc:subject/>
  <dc:title>Slide 1</dc:title>
</cp:coreProperties>
</file>