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2C95-BA52-4BED-B25F-AE5DCFF2D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FF2A-61B1-44EF-8FDD-694DC9C21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E35D-3E5C-46E3-91B0-861FE9B10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9995-5463-47DD-8EFF-69E8D07D6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676D-9F70-43C3-AF12-69B4DE47F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19AF-C2D7-4AD7-8155-24B07A6C8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D4CA-7EFA-4184-BA20-011A4089B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685B-6C93-4EC1-A891-2D87BAF43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397A-C37C-42E3-A827-B01AD6EF5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E2B5-E429-4722-A107-B433B60D1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A21D-F8DC-43AE-B398-1BBF36D0C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A92A-78F3-4B96-93E7-62C089522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F38B-3A81-474A-83A4-2A3379ED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BC97-9ADD-4949-87D1-E687E79CE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133F-E95E-4828-A4CF-688926015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25B1-C3BF-4B72-9C8A-5BCCD9FB3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00DB-FF94-4822-B7D0-B60AD1BAC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E63A-648D-4C25-BB90-40D6F5675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0C2F-5B5F-458C-9461-512BB8014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F178-6E5D-40FD-B3A4-3EB77DC6E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E2D1-7745-494A-9EE3-2441B4AD8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B196-197B-4301-A468-509657DC8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CF00-B853-4F00-9B4A-B6A4E6AE1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DID BO DEREK MAKE HER FIRST MAJOR FILM APPEA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47920" y="762120"/>
            <a:ext cx="6248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LD FLAG HAS BEEN CHANGED THE MOST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41240" y="762120"/>
            <a:ext cx="766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.A. COP SHOW WAS ON NBC FOR 1 SEASON AND THEN TNT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30080" y="76212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SECURITY ACT DID CONGRESS QUICKLY PASS AFTER 9/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655560" y="4876920"/>
            <a:ext cx="78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0200" y="762120"/>
            <a:ext cx="82836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GENEVA IN 1955, WHAT WORD WAS    USED FOR MOST MEETINGS BETWEEN HEADS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47720" y="762120"/>
            <a:ext cx="7648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BUILDINGS BUILT IN THE U.S. BETWEEN 1600 AND 1850 FALL INTO WHAT ARCHITECTURAL STY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4440" y="762120"/>
            <a:ext cx="6855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MONTANA'S NICKNAMES IS WHAT SORT OF COUNT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T WAS VIEWED AS       A SYMBOL FOR THE ETERNAL SOUL BY MEDIEVAL CHRISTIANS, AS IT REMAINS GREEN WHILE    IT CLINGS TO DEAD TRE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36760" y="762120"/>
            <a:ext cx="627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LD FLAG HAS BEEN CHANGED THE MOST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23880" y="762120"/>
            <a:ext cx="60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IS TOM HANKS CHANGED BY A ZOLTAR MACH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DID BO DEREK MAKE HER FIRST MAJOR FILM APPEARA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6640" y="4343400"/>
            <a:ext cx="747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OLLEGE  CONFERENCES  OR  LEAG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60948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3440" y="761760"/>
            <a:ext cx="773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.A. COP SHOW WAS ON NBC FOR 1 SEASON AND THEN TNT FOR 4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35120" y="76212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SECURITY ACT DID CONGRESS QUICKLY PASS AFTER 9/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GENEVA IN 1955, WHAT WORD WAS   USED FOR MOST MEETINGS BETWEEN HEADS OF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BUILDINGS BUILT IN THE U.S. BETWEEN 1600 AND 1850 FALL INTO WHAT ARCHITECTURAL STY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41520" y="762120"/>
            <a:ext cx="606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MONTANA'S NICKNAMES IS WHAT SORT OF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T WAS VIEWED AS      A SYMBOL FOR THE ETERNAL SOUL BY MEDIEVAL CHRISTIANS, AS IT REMAINS GREEN WHILE    IT CLINGS TO DEAD TRE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04800" y="762120"/>
            <a:ext cx="6134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IS TOM HANKS CHANGED BY A ZOLTAR MACH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3:43:12Z</dcterms:modified>
  <cp:revision>379</cp:revision>
  <dc:subject/>
  <dc:title>Slide 1</dc:title>
</cp:coreProperties>
</file>