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E93F-BD22-444E-8A5A-FB755672B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6477-4F2B-4EF0-BC2C-084875B8B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D489-4A26-4DB0-A07C-8C6A48EB3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972C-B6C9-4912-9491-7421AA345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9FF9-13C2-4C10-9912-0F8B643E3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D6C2-C682-4261-8488-D32AE61A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7428-2FC7-433B-9399-AB3185B21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29B73-AA02-4B20-A612-4E1427B76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CC24-2151-4BBC-B22E-9C0AFAC5C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755-B4BC-4BCE-A2B7-1DCAC744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A4A3-DD84-4D1D-9A51-A3F529F72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BE2B-4889-49E7-AF39-9B87C2A0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2A71-4740-49CD-A728-F84A0CA0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A4ECC-0CC2-41A2-8C7A-86A02297A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ABF6-6196-4715-A8F0-23229238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C26-573F-46C6-8FC6-CDEF0598A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03AD-C61D-442A-8BC1-A868F603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51F0-D76F-4F02-906F-57825B2CD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C399-4A9E-4212-9192-CFED8788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76F-1111-46C6-B9A7-7D60A35AA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D2A4-0DFE-49DB-A721-DC6834E4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6AD5-685E-4F29-8DC7-C6C4C45FD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F6E5-9383-4FBF-94E7-262CEF113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BO DEREK MAKE HER FIRST MAJOR FILM APPEA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 FLAG HAS BEEN CHANGED THE MOST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1240" y="762120"/>
            <a:ext cx="766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COP SHOW WAS ON NBC FOR 1 SEASON AND THEN TNT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ECURITY ACT DID CONGRESS QUICKLY PASS AFTER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55560" y="4876920"/>
            <a:ext cx="7832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0200" y="762120"/>
            <a:ext cx="8283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GENEVA IN 1955, WHAT WORD WAS    USED FOR MOST MEETINGS BETWEEN HEADS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BUILDINGS BUILT IN THE U.S. BETWEEN 1600 AND 1850 FALL INTO WHAT ARCHITECTURAL STY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4440" y="762120"/>
            <a:ext cx="6855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MONTANA'S NICKNAMES IS WHAT SORT OF COUNT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 WAS VIEWED AS       A SYMBOL FOR THE ETERNAL SOUL BY MEDIEVAL CHRISTIANS, AS IT REMAINS GREEN WHILE    IT CLINGS TO DEAD TRE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36760" y="762120"/>
            <a:ext cx="627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 FLAG HAS BEEN CHANGED THE MOST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238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S CHANGED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DID BO DEREK MAKE HER FIRST MAJOR FILM APPEARA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6640" y="4343400"/>
            <a:ext cx="747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LLEGE  CONFERENCES  OR  LEAG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COP SHOW WAS ON NBC FOR 1 SEASON AND THEN TNT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ECURITY ACT DID CONGRESS QUICKLY PASS AFTER 9/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ING WITH GENEVA IN 1955, WHAT WORD WAS   USED FOR MOST MEETINGS BETWEEN HEADS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BUILDINGS BUILT IN THE U.S. BETWEEN 1600 AND 1850 FALL INTO WHAT ARCHITECTURAL STY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41520" y="762120"/>
            <a:ext cx="606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MONTANA'S NICKNAMES IS WHAT SORT OF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 WAS VIEWED AS      A SYMBOL FOR THE ETERNAL SOUL BY MEDIEVAL CHRISTIANS, AS IT REMAINS GREEN WHILE    IT CLINGS TO DEAD TRE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04800" y="762120"/>
            <a:ext cx="613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S CHANGED BY A ZOLTAR MACH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3:43:12Z</dcterms:modified>
  <cp:revision>379</cp:revision>
  <dc:subject/>
  <dc:title>Slide 1</dc:title>
</cp:coreProperties>
</file>