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7D12-9B49-4E71-930A-81E038F74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97D9-9788-4B53-9757-1F63DCFD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836E-BB35-4732-B672-00CA95BD4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AB1E-856B-4EFC-BC7D-FD0E2CC7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CBF-BC49-43E7-AE32-CF49BF16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39E9-433E-4E3A-87F1-F712BE65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A829-5BF9-43A9-879B-61611FE0A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C721-1953-44EE-9F03-AEA6AF83D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1C86-03F6-439C-BD11-FCA513393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E957-0FD0-466E-BFCB-5296E7F1C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7B18-24CE-4B37-A1A4-84CD69BB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6766-617F-409C-A1A1-A43939C59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B6EF-E9EA-4FAF-8785-3653754B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473-117E-4D93-BDAC-9001B2010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6453-A0BE-4211-90AD-8CA4191EB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A6AF-17B5-4134-8224-3844A2F7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DF19-746A-4948-A127-B676196C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6FCC-A07A-4A4D-81A0-6B340583C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97E4-1938-40DA-A10A-6E0D4E18B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E5A9-8A23-4126-92F3-F59DCDF2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5B05-D10C-41D5-8581-229A477B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B49C-E605-48DF-BAE2-734B4A2B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3205-2752-4BB6-BA77-96A882A5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PETER PARKER'S GIRLFRIEND IN THE SPIDER-MAN C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EART OF GLASS" AND "CALL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657520" y="4876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0160" y="762120"/>
            <a:ext cx="74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 HITCHCOCK FILM STARRING JIMMY STEWART APPEARS TO BE FILMED IN JUST ONE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G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SECURITY AGENCY OF THE SOVIET UNION FROM 1954 TO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AL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OUR GANG" (OR "LITTLE RASCALS") CHARACTER WAS THE BEST FRIEND OF SPANKY WHO WAS ALWAYS PURSUING A ROMANCE WITH DAR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46000" y="762120"/>
            <a:ext cx="74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BECAME A STATE ON VALENTINE'S DAY, 1912, BECOMING THE LAST CONTIGUOUS STATE ADDED TO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61960" y="762120"/>
            <a:ext cx="6220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INTEGER THAT IS DIVISIBLE BY 1, 2, 3, 4, 5, 6, AND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EART OF GLASS" AND "CALL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GOB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     BE THE ARCH-ENEMY OF SPIDER-MAN, APPEARING IN 3 FILMS IN THE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J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PETER PARKER'S GIRLFRIEND IN THE SPIDER-MAN C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9880" y="4876920"/>
            <a:ext cx="746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FOR  MARIJU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 HITCHCOCK FILM STARRING JIMMY STEWART APPEARS TO BE FILMED IN JUST ONE 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SECURITY AGENCY OF THE SOVIET UNION FROM 1954 TO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OUR GANG" (OR "LITTLE RASCALS") CHARACTER WAS THE BEST FRIEND OF SPANKY WHO WAS ALWAYS PURSUING A ROMANCE WITH DAR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BECAME A STATE ON VALENTINE'S DAY, 1912, BECOMING THE LAST CONTIGUOUS STATE ADDED TO THE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92120" y="761760"/>
            <a:ext cx="635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INTEGER THAT IS DIVISIBLE BY 1, 2, 3, 4, 5, 6, AND 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    BE THE ARCH-ENEMY OF SPIDER-MAN, APPEARING IN 3 FILMS IN THE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3:43:35Z</dcterms:modified>
  <cp:revision>441</cp:revision>
  <dc:subject/>
  <dc:title>Slide 1</dc:title>
</cp:coreProperties>
</file>