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3BC3-EED9-4CEE-AD86-894E8240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F3B9-E0C2-4C63-9793-38EF1BD8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032-24C1-42F3-88F5-B1738735A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6EC-2578-4D80-B43F-35193376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40F9-1F34-451B-83BA-AF9359FE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39B3-3FB2-4068-88C5-108CA1C1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8F15-04F6-4495-8BBF-DBA1CD15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7969-7E32-4919-AF03-35155CD79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C3C0-95CC-47A4-8782-0875EEF99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28B2-8F46-4CB3-B768-7F5DC2874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3964-BD3C-4C87-BF0F-BF3F4FC5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E33D-538F-4AEC-82D1-DBF9A751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84F5-4528-4EF3-9A2C-80E1D437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A392-12B0-4352-B3E9-EB268BAC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D8B4-BCE6-40DA-9828-C92BC748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D49A-90BA-43E3-BD1C-B908FC20D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CA60-7938-48E4-8682-0E75A28B1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A0CD-C218-44EB-AFEB-5E1EA061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0DF7-B133-4A97-A282-92066D406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2B1-DA7A-4C28-ABF6-1E7D56EBF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A47A-AB3F-4643-9022-5621C08F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AB3-2F31-4188-8D9E-67F18547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CA44-1093-4725-A60A-AEBD2191A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PETER PARKER'S GIRLFRIEND IN THE SPIDER-MAN C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EART OF GLASS" AND "CALL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657520" y="4876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0160" y="762120"/>
            <a:ext cx="74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 HITCHCOCK FILM STARRING JIMMY STEWART APPEARS TO BE FILMED IN JUST ONE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G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SECURITY AGENCY OF THE SOVIET UNION FROM 1954 TO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AL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OUR GANG" (OR "LITTLE RASCALS") CHARACTER WAS THE BEST FRIEND OF SPANKY WHO WAS ALWAYS PURSUING A ROMANCE WITH DAR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46000" y="762120"/>
            <a:ext cx="74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BECAME A STATE ON VALENTINE'S DAY, 1912, BECOMING THE LAST CONTIGUOUS STATE ADDED TO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61960" y="762120"/>
            <a:ext cx="6220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INTEGER THAT IS DIVISIBLE BY 1, 2, 3, 4, 5, 6, AND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EART OF GLASS" AND "CALL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GOB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     BE THE ARCH-ENEMY OF SPIDER-MAN, APPEARING IN 3 FILMS IN THE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J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PETER PARKER'S GIRLFRIEND IN THE SPIDER-MAN C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9880" y="4876920"/>
            <a:ext cx="74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FOR  MARIJU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 HITCHCOCK FILM STARRING JIMMY STEWART APPEARS TO BE FILMED IN JUST ONE 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SECURITY AGENCY OF THE SOVIET UNION FROM 1954 TO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OUR GANG" (OR "LITTLE RASCALS") CHARACTER WAS THE BEST FRIEND OF SPANKY WHO WAS ALWAYS PURSUING A ROMANCE WITH DAR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BECAME A STATE ON VALENTINE'S DAY, 1912, BECOMING THE LAST CONTIGUOUS STATE ADDED TO THE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92120" y="761760"/>
            <a:ext cx="635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INTEGER THAT IS DIVISIBLE BY 1, 2, 3, 4, 5, 6, AND 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    BE THE ARCH-ENEMY OF SPIDER-MAN, APPEARING IN 3 FILMS IN THE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3:43:35Z</dcterms:modified>
  <cp:revision>441</cp:revision>
  <dc:subject/>
  <dc:title>Slide 1</dc:title>
</cp:coreProperties>
</file>