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C7EA-5BB5-4685-A983-D57915451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E905-D5C7-444B-8A7C-C40CBF6BB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6B3E-01A0-45FC-A7AB-0A8D16AF2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3C85-8B84-41A7-99C2-7B818EC1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1BCC-EB09-41F4-B9C8-5EFE7A5C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084E-B861-493D-9FA1-17C763D6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28F0-336B-4184-BCAD-D9100BFF4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A6FF-1C64-4FC7-A587-5B1742FD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BFDF-8C8A-4229-A0C5-1D9480AF1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BE82-3072-4CCC-9B13-A118907FA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0E3F-86B3-4AF2-AA25-4046D04C1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1CFC-CCB2-43E4-8734-358FF0921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E71B-8C9E-43CE-BB60-7087CE25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8677-9048-4A74-BE60-1A403DF2F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339D-08EF-4FC1-905A-F16F3FB6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8099-E767-4764-A6FD-4B639AF80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DDAC-D8D0-4BB5-AFE2-52E51E07F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DC7-1769-46EF-A42B-4CFD7C299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02EC-F30B-485F-BD5F-2B2339141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41DE-37C6-4585-8583-9F995C944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3B65-9A5B-4793-99F3-016C8871F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7A99-80D5-4B4C-9F77-F7057F1EC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E146-591F-4EDF-AD4D-50DE9C263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PETER PARKER'S GIRLFRIEND IN THE SPIDER-MAN CO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N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EART OF GLASS" AND "CALL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657520" y="48769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0160" y="762120"/>
            <a:ext cx="748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 HITCHCOCK FILM STARRING JIMMY STEWART APPEARS TO BE FILMED IN JUST ONE 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SSAN MODEL IS THE WORLD'S BEST-SELLING HIGHWAY-CAPABLE ELECTRIC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G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N SECURITY AGENCY OF THE SOVIET UNION FROM 1954 TO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AL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09760" y="762120"/>
            <a:ext cx="81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OUR GANG" (OR "LITTLE RASCALS") CHARACTER WAS THE BEST FRIEND OF SPANKY WHO WAS ALWAYS PURSUING A ROMANCE WITH DAR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46000" y="762120"/>
            <a:ext cx="745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BECAME A STATE ON VALENTINE'S DAY, 1912, BECOMING THE LAST CONTIGUOUS STATE ADDED TO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61960" y="762120"/>
            <a:ext cx="6220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INTEGER THAT IS DIVISIBLE BY 1, 2, 3, 4, 5, 6, AND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EART OF GLASS" AND "CALL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GOB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O      BE THE ARCH-ENEMY OF SPIDER-MAN, APPEARING IN 3 FILMS IN THE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J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PETER PARKER'S GIRLFRIEND IN THE SPIDER-MAN CO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9880" y="4876920"/>
            <a:ext cx="74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FOR  MARIJU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 HITCHCOCK FILM STARRING JIMMY STEWART APPEARS TO BE FILMED IN JUST ONE 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SSAN MODEL IS THE WORLD'S BEST-SELLING HIGHWAY-CAPABLE ELECTRIC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N SECURITY AGENCY OF THE SOVIET UNION FROM 1954 TO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820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OUR GANG" (OR "LITTLE RASCALS") CHARACTER WAS THE BEST FRIEND OF SPANKY WHO WAS ALWAYS PURSUING A ROMANCE WITH DAR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BECAME A STATE ON VALENTINE'S DAY, 1912, BECOMING THE LAST CONTIGUOUS STATE ADDED TO THE UN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92120" y="761760"/>
            <a:ext cx="635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INTEGER THAT IS DIVISIBLE BY 1, 2, 3, 4, 5, 6, AND 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O     BE THE ARCH-ENEMY OF SPIDER-MAN, APPEARING IN 3 FILMS IN THE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3:43:35Z</dcterms:modified>
  <cp:revision>441</cp:revision>
  <dc:subject/>
  <dc:title>Slide 1</dc:title>
</cp:coreProperties>
</file>