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06E-3E08-4ADA-B14B-F30B063B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4104-AB57-46A5-82F1-ED68C90E9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9D2-1895-455B-987D-931FCB4B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8F1-5BC6-43A9-BDD6-BA850958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BA2-473D-4BCA-A62C-3AF6B929A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9E3-8053-4C65-AADE-5840E762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39B2-9E8F-4C50-ADB6-EF2F066D4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E6F-8549-44B0-A2C4-1D63E279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E008-C4F1-476C-9198-1A0EB660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E38E-002D-4F92-8775-1085419D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C07-F74B-483A-A847-248C5387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3D0-FBE4-4B57-A5E7-ACFD39D0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80AB-0D23-4967-A6E2-8FEB8C87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C73-F52E-48C6-8E0D-D998AB6E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164-68D4-436A-AEF9-3F2F4AF8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4C0C-BB49-407C-9AE9-AD562037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DB0-D8E1-46CE-BE3E-52BB3BD3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1825-C8D9-4965-BF76-ED0B480C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E6C-9E8D-4684-9F00-4DA7F607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177D-BF01-4EF1-84B6-F6D559BE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8609-E5DE-401C-8902-F9F5526B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0F8-C0C9-4BD9-B0C5-CE8ED9F9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E39E-4DE7-4D81-B953-CD721B56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4475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  LAKE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K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Y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EACH  BOY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71560" y="762120"/>
            <a:ext cx="56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3:43:55Z</dcterms:modified>
  <cp:revision>410</cp:revision>
  <dc:subject/>
  <dc:title>Slide 1</dc:title>
</cp:coreProperties>
</file>