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5EC3-CE32-4F21-90C7-D5971E68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CEAB-5866-4720-9579-38D9DA89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2E16-3AEC-4F5F-A0A8-355CF4095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696-EA43-42DB-BD9E-E42B69307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7BE6-B142-47A7-A33D-417D5B5E4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E6AD-7220-4389-98A3-EC7FD916C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02B7-8E7A-45A9-A56C-9F503CB26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9A01-DD7B-4580-82C8-AC86CF13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73D0-170A-4002-BAA8-9FAB068A7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287B-AFBE-41B8-AB76-BBA0464BB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56B2-B615-44ED-A25B-3CF5A70FA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CDE9-4ED6-4EBC-AC83-E5FA24CEB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D4AD-E564-4F0F-99AA-AC09FDE29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DC86-6BC4-4711-8AB6-0C8FF85D0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FDB3-3FCE-45B3-B809-7DDCDEFB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6E53-DEBB-49FC-863F-33938194D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86A9-F7FD-4DD0-9DC0-8538887FC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5B4D-73D5-427D-B8B9-F1618F466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6799-76DA-4F19-8C94-E19A49399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88C1-9EED-48B3-BC0A-BFC5BA97F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236F-3BD3-4E0C-B7F6-674E65A97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9234-12D5-4B19-82ED-71ABDCB8B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2655-CE8F-4CE4-86B9-44A2AA46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4475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CDIX IN ROMAN NUM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SOLD OVER A BILLION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PLAN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DISASTER PARODY FILM FEATURED LESLIE NIELSON, LLOYD BRIDGES, AND KAREEM ABDUL-JA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STATE TO JOIN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BUT 3 EPISODES OF WHAT 1994-2004 SIT-COM CONTAINS THE WORDS "THE ONE WITH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  LAKE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90640" y="762120"/>
            <a:ext cx="55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UT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K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WN IS 60 MILES DUE NORTH OF INDIANA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SOLD OVER A BILLION DO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Y 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826 DID PRESIDENTS JOHN ADAMS AND THOMAS JEFFERSON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CDIX IN ROMAN NUM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BEACH  BOY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DISASTER PARODY FILM FEATURED LESLIE NIELSON, LLOYD BRIDGES, AND KAREEM ABDUL-JA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U.S. STATE TO JOIN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BUT 3 EPISODES OF WHAT 1994-2004 SIT-COM CONTAINS THE WORDS "THE ONE WITH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771560" y="762120"/>
            <a:ext cx="560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UT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KENNY ROGERS #1 SONG WITH THE SHORT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WN IS 60 MILES DUE NORTH OF INDIANA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826 DID PRESIDENTS JOHN ADAMS AND THOMAS JEFFERSON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7:21:53Z</dcterms:created>
  <dc:creator>Jennifer Budzinski</dc:creator>
  <dc:description/>
  <dc:language>en-US</dc:language>
  <cp:lastModifiedBy>Erich Friedman</cp:lastModifiedBy>
  <dcterms:modified xsi:type="dcterms:W3CDTF">2020-08-31T13:43:55Z</dcterms:modified>
  <cp:revision>410</cp:revision>
  <dc:subject/>
  <dc:title>Slide 1</dc:title>
</cp:coreProperties>
</file>