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287-A4E4-43D3-B748-C05F46EC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07C-295D-4A32-889D-D6392C0C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72F-3099-42A8-AE2D-C2EB69E7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4726-6DCE-4E66-B657-829A0A1B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BD71-3601-4A7B-9B46-D6D1297F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D1C-E081-4C3E-85B4-CDAA2722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A85-4985-4B2C-8BA3-64A168B4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573F-CFE6-406D-A89F-73DC36AA0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251-CC82-4F99-B7DC-16F52362C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2AD7-953A-447E-85D2-33963693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5751-5FB9-47F9-BBF2-160EA012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9FF-5A62-4020-BCC5-CFA5EE73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F65-677D-4C84-B990-E6CA36FF4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14F9-2A4A-4EDD-8EAB-1D849EF6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AA2-0AEB-41F4-930C-726C2011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5BF-6681-4438-88B5-9992DFCF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E9A2-BCA1-44E1-95A6-31DA1437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FCE-37CA-4F9A-B004-1971A938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4B7-7C7D-4047-9987-0A5F1357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F3F6-A3A4-4264-BC52-F8271252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1B6B-4C4D-4163-A178-80C69C2B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81F7-4204-4C20-B082-2FC7CCA1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1DB-9BAB-45CE-AA3A-A30019E8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4475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  LAKE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K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Y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EACH  BOY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71560" y="762120"/>
            <a:ext cx="56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3:43:55Z</dcterms:modified>
  <cp:revision>410</cp:revision>
  <dc:subject/>
  <dc:title>Slide 1</dc:title>
</cp:coreProperties>
</file>