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6F06-0002-4C9B-BBD9-68D520737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DC2B-01AE-4EBE-8D25-4357EB32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7960-4034-41AB-9E85-6C31BA518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0321-2CB6-4486-A808-D625A03C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E69-7351-4B81-B934-3F6D87D1B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C09F-5CA6-41B2-B236-0A137103D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8427-4A73-4B25-B013-78C73E6AE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4A38-3F22-4BF2-8F1F-7E94D6FDC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4DB8-D7C0-41E4-A0D4-34115A95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18DE-6E46-4AC0-9B14-ED745F2B1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BF8D-A925-453C-BE59-B0E50F2F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5C95-B3DD-4EB7-936D-F4EA07F8B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A002-30DA-432D-BC00-A79C84969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4CC-5F57-490B-8477-8A3A19E5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D5DC-486C-4A6F-8DE5-C8B385CB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A935-6445-4D77-B49F-EAAD803EC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EFD5-5502-4DD3-8ED8-836B676B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79AA-9E45-4769-B4B6-098683E5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1488-F067-425A-BECE-1A39A1681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DFDD-6D74-480F-A44B-7E9466023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BD6-120C-434C-B3FD-1555B0670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2E06-BB83-400C-8BB8-47460FE37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4614-9001-42BD-957A-45C3A414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CAST MEMBER OF "SATURDAY NIGHT LIVE" DIED IN 1982 FROM A HEROIN AND COCAINE OVERD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UMMER RENTAL", "UNCLE BUCK", AND SPACEBA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1760" y="762120"/>
            <a:ext cx="8305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WITH A FUNNY NAME WAS VOTED BRITISH WOMAN OF THE YEAR IN 19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9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–WEE  H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IS KNOWN AS "THE KING OF FUNK" AND "THE GODFATHER OF SO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7796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TROIT, A GHOSTBUSTER, AND SGT. JOE FR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07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SOUL" PERFORMED AT BARACK OBAMA'S INAUGU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PORTRAYED BY JAMIE FOXX IN A 200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UMMER RENTAL", "UNCLE BUCK", AND SPACEBA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5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CAST MEMBER OF "SATURDAY NIGHT LIVE" DIED IN 1982 FROM A HEROIN AND COCAINE OVERD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APPEARED  IN  THE FILM  "THE  BLUES  BROTHER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WITH A FUNNY NAME WAS VOTED BRITISH WOMAN OF THE YEAR IN 19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33480" y="762120"/>
            <a:ext cx="72770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IS KNOWN AS "THE KING OF FUNK" AND "THE GODFATHER OF SO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TROIT, A GHOSTBUSTER, AND SGT. JOE FR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SOUL" PERFORMED AT BARACK OBAMA'S INAUGUR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PORTRAYED BY JAMIE FOXX IN A 200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6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30T20:24:55Z</dcterms:created>
  <dc:creator>Jennifer Budzinski</dc:creator>
  <dc:description/>
  <dc:language>en-US</dc:language>
  <cp:lastModifiedBy>Erich Friedman</cp:lastModifiedBy>
  <dcterms:modified xsi:type="dcterms:W3CDTF">2020-08-24T14:09:28Z</dcterms:modified>
  <cp:revision>399</cp:revision>
  <dc:subject/>
  <dc:title>Slide 1</dc:title>
</cp:coreProperties>
</file>