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A80B-36C6-4476-9C8A-E6B7140D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C3DB-2458-4BFB-8590-8C6F3BC2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1E3-692B-4F4E-B759-68488FBB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461B-51B1-4224-804C-C32B9FD5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4C6-3AC4-442C-A768-C24FA187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6A13-ECA6-48D5-980F-FD565986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CB48-4494-42B8-A126-53DC36BC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C39-FC1F-41FE-9B9F-21BF51D1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574-9850-43C2-BAC4-544B50E5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AEB-271D-4827-B3BE-24FFD0E8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25F3-EDBF-4EA3-8A73-54645BD8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1903-F490-481A-8F2D-4CED4C90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9E1-F16B-4219-B316-D25EDEF8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065-61FE-40B2-9F0B-38D8BFE5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210-2256-4FF7-BD1A-624CC81B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944-1576-4089-AEAD-C8B839BE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C53C-E388-428F-A94C-93B5611B1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8DA-1C10-4936-B584-5B760698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155-3874-4A69-B8A6-30991069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7133-E0AB-4E8D-9786-A62D6FCE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B527-3C79-4211-966F-F5A7DB95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202-AA1D-42B1-A0FF-DCA33B63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75A9-96BB-4070-A8DE-826FCEB1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05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–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7796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07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5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APPEARED  IN  THE FILM  "THE  BLUES  BROTH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6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30T20:24:55Z</dcterms:created>
  <dc:creator>Jennifer Budzinski</dc:creator>
  <dc:description/>
  <dc:language>en-US</dc:language>
  <cp:lastModifiedBy>Erich Friedman</cp:lastModifiedBy>
  <dcterms:modified xsi:type="dcterms:W3CDTF">2020-08-24T14:09:28Z</dcterms:modified>
  <cp:revision>399</cp:revision>
  <dc:subject/>
  <dc:title>Slide 1</dc:title>
</cp:coreProperties>
</file>