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DC2-5096-4657-9E7E-28E30798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E55-D3C5-4004-A590-862D4269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DDAB-F57D-4798-AD0C-F488E770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FB6-9A93-4503-8472-25BF1768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FFA6-562A-419F-AFA3-4F3B161F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47D-24F9-4E5C-9EC8-E55EADA7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FBDA-94E8-4C5F-B46C-754E7386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BD0C-5CE9-4FCD-BB1B-84BA516B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8AF8-D10E-4FB6-82ED-575BC74D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0D49-DD14-4142-85E0-37FF3E40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2DE9-BA20-4016-A1CB-4415A9C1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062-8C32-49C2-9404-B4CB60FB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5A2-BF70-4F1D-90FE-E2EA2BC6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822-40EF-4FC8-9936-41C0576F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082-904C-4D68-8543-B51C19A9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AA4-64D5-4C41-B9AD-B0C69F5F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AFE-8466-4A6C-9313-4B6C9710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B98C-51B5-42D5-B04D-8324DC9F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A3DB-CBC7-4C06-B3D5-A5984A2C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DEE0-5492-4461-8346-79171930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195-C169-48EB-9509-2A10D609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39F-F134-40FD-8D4A-8DD52B62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C8F-2664-4352-8B42-3FA4AB67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CAST MEMBER OF "SATURDAY NIGHT LIVE" DIED IN 1982 FROM A HEROIN AND COCAINE OVERD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UMMER RENTAL", "UNCLE BUCK", AND SPACEBA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1760" y="762120"/>
            <a:ext cx="8305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WITH A FUNNY NAME WAS VOTED BRITISH WOMAN OF THE YEAR IN 19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9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–WEE  H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IS KNOWN AS "THE KING OF FUNK" AND "THE GODFATHER OF SO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7796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TROIT, A GHOSTBUSTER, AND SGT. JOE FR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07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SOUL" PERFORMED AT BARACK OBAMA'S INAUGU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PORTRAYED BY JAMIE FOXX IN A 200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UMMER RENTAL", "UNCLE BUCK", AND SPACEBA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5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CAST MEMBER OF "SATURDAY NIGHT LIVE" DIED IN 1982 FROM A HEROIN AND COCAINE OVERD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APPEARED  IN  THE FILM  "THE  BLUES  BROTHER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WITH A FUNNY NAME WAS VOTED BRITISH WOMAN OF THE YEAR IN 19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33480" y="762120"/>
            <a:ext cx="7277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IS KNOWN AS "THE KING OF FUNK" AND "THE GODFATHER OF SO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TROIT, A GHOSTBUSTER, AND SGT. JOE FR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SOUL" PERFORMED AT BARACK OBAMA'S INAUGUR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PORTRAYED BY JAMIE FOXX IN A 200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6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30T20:24:55Z</dcterms:created>
  <dc:creator>Jennifer Budzinski</dc:creator>
  <dc:description/>
  <dc:language>en-US</dc:language>
  <cp:lastModifiedBy>Erich Friedman</cp:lastModifiedBy>
  <dcterms:modified xsi:type="dcterms:W3CDTF">2020-08-24T14:09:28Z</dcterms:modified>
  <cp:revision>399</cp:revision>
  <dc:subject/>
  <dc:title>Slide 1</dc:title>
</cp:coreProperties>
</file>