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1F70-6103-49FB-B72A-ACCA043F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C6D-F477-4DC9-87A8-2EE4106F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4DB-C0FF-4FD3-BD8E-2F5C5043B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5EA0-A1A4-4121-A4BB-19D97C9C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7D7A-CC89-4CA5-A232-BB364E911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FC8B-A45E-4A1E-BD64-49D00A45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2D4-B582-449C-A8BA-1AA69361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BA0-EE55-4387-9894-4A83D028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9FEB-A787-47C5-BC95-FC3D752B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F98-BE03-4EC4-97F8-01ADEC1A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C7C5-165D-49D0-A668-5110CDB8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765-BE89-4D5C-87CF-F03ED0CC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00F-E610-4EE3-A907-B0E17329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2D18-72A1-4891-A173-54E3E8D7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6AA-F607-4919-BC69-2383B31D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68A-53F3-4057-AE35-4390E4E0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C816-F390-4550-B722-F028B717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AC5-E496-4785-9926-74DEB85E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07EB-A973-4A81-A0EF-F05652C6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C32B-7335-4027-B56B-924F67FB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179-2302-454C-9264-CB4EDA62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98D-D980-4AB7-BDA6-0E8067BC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17D-78BD-4FFD-8AA9-CB9A31D6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LET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AD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OCK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ALO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I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95288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NA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9528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WORE  JERSEY  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22Z</dcterms:modified>
  <cp:revision>403</cp:revision>
  <dc:subject/>
  <dc:title>Slide 1</dc:title>
</cp:coreProperties>
</file>