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0B3D-87BC-4F58-B008-137EE1259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5494-99B8-47D3-90B5-CC4E602B6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A4DC-B768-479B-87DC-4B5A2F1A0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1F03-93E5-4A4F-B703-5A65E8A6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8621-BFE9-4FE7-8DCD-4051AD504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98DA-6A77-4C84-9707-A02986454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D4EF-2F72-4578-B5BD-0D116F3C7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BE86B-8E0A-490B-B2DA-9B6F73096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49A5-5FCC-4E97-A66F-3D179943A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554-469B-4418-920B-598CA1F7A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2C8E-7ECD-4060-9AA3-D88D5BCC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C57-98AE-4711-92E5-4EBB31CE3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1082-0D0A-4D93-93CE-7B236C3BB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C38-ECA4-461C-A5C4-61E403373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F193-57E4-442E-9017-ECFA74E6F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20E7-7C24-4F72-8E87-A2DFE74DE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36EC-B03E-48DB-A8A1-B8E04746E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F6C9-F42A-4213-9AD5-6B0CD7C2B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A9C-708B-4FF8-AF10-271219E3B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37D1-5614-45C8-8650-61C5DDDDD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496D-0666-4E2A-B85D-1A6614126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9151-28A6-4123-B0D8-D098B966B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F87E-B380-43A3-A1DF-CEFF057BB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0666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THLETE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RRY  BRADSH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B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STOCK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ALOM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62120"/>
            <a:ext cx="76197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95288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GER  STAU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CKIE  MO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95288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TTSBURGH STEELERS QUARTERBACK WON 4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952880"/>
            <a:ext cx="655344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NAMA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NEW YORK JETS PLAYER ON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ING NEW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' LIST OF THE TOP 100 NFL PLAYE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14400" y="49528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LL  WORE  JERSEY  #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THLETE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ENGLAND PATRIOTS QUARTERBACK WON 5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JAZZ POINT GUARD LED THE LEAGUE IN ASSISTS FOR 9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8-2004 MLB PLAYER WON MORE GOLD GLOVE AWARDS THAN ANY OTHER SECOND BASE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4 NFL PLAYERS HAVE WON THE HEISMAN TROPHY AND SUPER BOWL MVP: JIM PLUNKETT, MARCUS ALLEN, DESMOND HOWARD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ROKE GORDIE HOWE'S RECORD OF 95 POINTS IN A SEASON AND HELPED THE MONTREAL CANADIENS WIN THE STANLEY CUP 1956-196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RTERBACK LED THE BUFFALO BILLS TO A RECORD 4 STRAIGHT SUPER BOW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NBA PLAYER TO WIN DEFENSIVE PLAYER OF THE YEAR, WHICH HE DID IN 3 CONSECUTIVE YEARS, 2009-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44:22Z</dcterms:modified>
  <cp:revision>403</cp:revision>
  <dc:subject/>
  <dc:title>Slide 1</dc:title>
</cp:coreProperties>
</file>