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8A27-6CC9-4061-99E3-1CF710589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559F-CABC-4A0F-94E8-B710D770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6FE7-112B-47FD-87D3-6264EF289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2393-252F-4928-98DE-3D3151E2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D8E4-2275-4A80-BD95-A59B85B89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A8B8-646D-49D8-A3B8-7A0251A5C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B92A-0DBD-4503-AF58-3FC80254F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DD6F-34E6-4AFF-838C-EA2631F28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A718-1241-4527-90AD-BC0CFA3D1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49B1-58A9-4C04-98DF-56FAA81DF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2CE7-D105-4751-BCCF-5466E6064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66A2-1D77-4F15-8262-AA930EC4C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75E-4797-4EA5-BFEF-0CCDF32C3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E46A-6DE4-4159-A47C-ECA53C4FC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5D6E-E1A8-4C17-A68B-ADFB424B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1240-084F-4794-B833-AF3D50E45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D631-CABF-4E3E-B66C-BE517E67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57BB-DE99-402A-A53D-E0E1E6E94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10FD-6AF8-4DE0-9E79-5F6AF9521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28E2-B703-4F02-A787-9825142F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171C-A518-4D8A-8907-0E37D649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BAC3-7B97-4E69-A44D-F8ABE95C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121A-E85F-470B-8BA1-2C9FB63A8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HLETE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EW YORK JETS PLAYER O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ING 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 LIST OF THE TOP 100 NFL PLA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THLE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BRAD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TSBURGH STEELERS QUARTERBACK WON 4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ENGLAND PATRIOTS QUARTERBACK WON 5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STOCK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TAH JAZZ POINT GUARD LED THE LEAGUE IN ASSISTS FOR 9 CONSECUTIVE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O  ALO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-2004 MLB PLAYER WON MORE GOLD GLOVE AWARDS THAN ANY OTHER SECOND BAS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STAUB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NFL PLAYERS HAVE WON THE HEISMAN TROPHY AND SUPER BOWL MVP: JIM PLUNKETT, MARCUS ALLEN, DESMOND HOWARD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IE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GORDIE HOWE'S RECORD OF 95 POINTS IN A SEASON AND HELPED THE MONTREAL CANADIENS WIN THE STANLEY CUP 1956-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9528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K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BUFFALO BILLS TO A RECORD 4 STRAIGHT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TSBURGH STEELERS QUARTERBACK WON 4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952880"/>
            <a:ext cx="6553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IGHT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NBA PLAYER TO WIN DEFENSIVE PLAYER OF THE YEAR, WHICH HE DID IN 3 CONSECUTIVE YEARS, 2009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NA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EW YORK JETS PLAYER O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ING 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 LIST OF THE TOP 100 NFL PLAY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95288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WORE  JERSEY  #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THLE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ENGLAND PATRIOTS QUARTERBACK WON 5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TAH JAZZ POINT GUARD LED THE LEAGUE IN ASSISTS FOR 9 CONSECUTIVE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-2004 MLB PLAYER WON MORE GOLD GLOVE AWARDS THAN ANY OTHER SECOND BAS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NFL PLAYERS HAVE WON THE HEISMAN TROPHY AND SUPER BOWL MVP: JIM PLUNKETT, MARCUS ALLEN, DESMOND HOWARD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GORDIE HOWE'S RECORD OF 95 POINTS IN A SEASON AND HELPED THE MONTREAL CANADIENS WIN THE STANLEY CUP 1956-196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BUFFALO BILLS TO A RECORD 4 STRAIGHT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NBA PLAYER TO WIN DEFENSIVE PLAYER OF THE YEAR, WHICH HE DID IN 3 CONSECUTIVE YEARS, 2009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44:22Z</dcterms:modified>
  <cp:revision>403</cp:revision>
  <dc:subject/>
  <dc:title>Slide 1</dc:title>
</cp:coreProperties>
</file>