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F435-4902-4A0E-A811-E617CA0A5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9949-1DE0-42EB-8FC7-8EEE66ABD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82B3-93B2-43A0-83A6-3E2AFB320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1C1A-0018-4FFF-A487-ED508662D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D004-F4B2-4DFB-BD50-CF0C5F37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B85C-656B-4095-9AA0-54E203A8D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7491-7619-44CB-A7FE-0C6BE468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1D43-916A-4718-B93C-8857D09B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B66E-B4BD-43BF-9550-830F3053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A593-F0B5-4ABE-9197-89B3C6984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B5D4-91AD-4CF6-96AA-C69D4C163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41F2-B123-4856-BDA6-4ED37ADCE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A795-1608-4ECE-94C1-90E1D2F1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461B-0507-4FA1-ADC8-6FCC12D58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F439-D5F3-4B1C-B4F1-9EB607ABF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3F08-9FB1-41BA-8FF7-D19BC317E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AD59-1129-49A5-B745-983174AC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1D87-385D-429B-9648-FFAE2CF9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8F2F-102F-45CD-9592-6D27F7F7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2A87-657B-4900-8CE2-0BB6AF43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711C-BFD3-44F7-AD40-8D880DCCF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D126-3BB7-4D7D-B229-32B6DB7E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4E7D-C690-4A66-9CE2-9941A334F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CLIFF ROBERTSON HAVE AN AFFAIR WITH JACQUELINE BISSET, THE MOTHER OF HIS PREP SCHOOL ROOMMATE ROB LOW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R-LEFT HAND KEY ON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99960" y="762120"/>
            <a:ext cx="834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ECRANON MORE COMMON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980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43080" y="709560"/>
            <a:ext cx="8458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PEOPLE IN THE SOUTHEASTERN U.S. CALL CORNMEAL COOKED IN WATER AND SERVED AS POR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98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A TYPE OF ACTION IN CHESS AND A LACK OF ACTION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ORDER AND GEN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52600" y="762120"/>
            <a:ext cx="803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'S ALBUM, "THE WORLD IS A GHETTO", WAS THE BEST-SELLING ALBUM OF 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598760" y="49150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333520" y="2590920"/>
            <a:ext cx="44769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R-LEFT HAND KEY ON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INTENDO GAMES, MARIO WEARS A RED CAP.  WHAT COLOR IS THE CAP OF MARIO'S BROTHER, LUIG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85840" y="762120"/>
            <a:ext cx="8572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CLIFF ROBERTSON HAVE AN AFFAIR WITH JACQUELINE BISSET, THE MOTHER OF HIS PREP SCHOOL ROOMMATE ROB LOW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ROOM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ECRANON MORE COMMON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PEOPLE IN THE SOUTHEASTERN U.S. CALL CORNMEAL COOKED IN WATER AND SERVED AS POR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A TYPE OF ACTION IN CHESS AND A LACK OF ACTION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ORDER AND GEN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19000" y="685800"/>
            <a:ext cx="750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'S ALBUM, "THE WORLD IS A GHETTO", WAS THE BEST-SELLING ALBUM OF 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00320" y="2514600"/>
            <a:ext cx="47419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INTENDO GAMES, MARIO WEARS A RED CAP.  WHAT COLOR IS THE CAP OF MARIO'S BROTHER, LUIG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44:40Z</dcterms:modified>
  <cp:revision>407</cp:revision>
  <dc:subject/>
  <dc:title>Slide 1</dc:title>
</cp:coreProperties>
</file>