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FA26-725E-4BDD-B0C2-90F89F247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DBA2-D3F2-4EBE-BFCA-8155A7045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5E49-9E0B-478D-85E5-0817B6832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85AE-9D74-4A76-BDB4-AEFAEEB36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319D-04CA-4F8E-8B41-0F2EF5200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5D9B-2245-47E1-85CA-6D0A97C2A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D92D-5A97-4CE9-911A-A8A485C57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FF07-9CC5-455C-93D1-B9BD45E5D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67ED-83DC-4BB6-A698-6D4F19A1B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1B2D-5E5A-4AB2-8CBB-A6D47B482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200D-1A8B-483A-9DE4-1655E9212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7959-BC33-4231-9C47-AC948CA41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DC3B-0A7F-4A49-B2BC-00404A846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A1D3-24C6-40DE-B448-85E2FE33B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0969-20C0-4423-80F6-A25DD58BB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6DCD-609F-40F7-AD7F-00DC5009D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927C-F504-42AC-A694-AE87C9549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8B9F-991F-4B4E-A288-5D70BB098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FB50-8A1D-4DDD-A588-7A3E74184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72E6-378D-404B-A780-70A6A25F6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A9C9-56C9-4322-974F-C74B3E7B9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1814-25EA-4533-8ECB-A0445E3F3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C73D-D0AD-4F60-B849-58903A26A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3 FILM DOES CLIFF ROBERTSON HAVE AN AFFAIR WITH JACQUELINE BISSET, THE MOTHER OF HIS PREP SCHOOL ROOMMATE ROB LOW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WER-LEFT HAND KEY ON MOST KEYBO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B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399960" y="762120"/>
            <a:ext cx="8344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LECRANON MORE COMMONLY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9800"/>
            <a:ext cx="8382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343080" y="709560"/>
            <a:ext cx="8458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PEOPLE IN THE SOUTHEASTERN U.S. CALL CORNMEAL COOKED IN WATER AND SERVED AS PORRID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43080" y="487980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MEANS A TYPE OF ACTION IN CHESS AND A LACK OF ACTION IN POK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1409760" y="762120"/>
            <a:ext cx="63244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AXONOMIC RANK IS BETWEEN ORDER AND GEN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552600" y="762120"/>
            <a:ext cx="8038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UNK BAND'S ALBUM, "THE WORLD IS A GHETTO", WAS THE BEST-SELLING ALBUM OF 197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598760" y="491508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SYMBOL MEAN IN MUSI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2333520" y="2590920"/>
            <a:ext cx="44769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WER-LEFT HAND KEY ON MOST KEYBO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66720" y="762120"/>
            <a:ext cx="7810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NINTENDO GAMES, MARIO WEARS A RED CAP.  WHAT COLOR IS THE CAP OF MARIO'S BROTHER, LUIG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285840" y="762120"/>
            <a:ext cx="8572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3 FILM DOES CLIFF ROBERTSON HAVE AN AFFAIR WITH JACQUELINE BISSET, THE MOTHER OF HIS PREP SCHOOL ROOMMATE ROB LOW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AN  BE  FOLLOWED  BY  THE  WORD  "ROOM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LECRANON MORE COMMONLY KNOWN 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99960" y="762120"/>
            <a:ext cx="834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PEOPLE IN THE SOUTHEASTERN U.S. CALL CORNMEAL COOKED IN WATER AND SERVED AS PORRID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MEANS A TYPE OF ACTION IN CHESS AND A LACK OF ACTION IN POK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371600" y="762120"/>
            <a:ext cx="6400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AXONOMIC RANK IS BETWEEN ORDER AND GEN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19000" y="685800"/>
            <a:ext cx="7506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UNK BAND'S ALBUM, "THE WORLD IS A GHETTO", WAS THE BEST-SELLING ALBUM OF 197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SYMBOL MEAN IN MUSI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2200320" y="2514600"/>
            <a:ext cx="4741920" cy="24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NINTENDO GAMES, MARIO WEARS A RED CAP.  WHAT COLOR IS THE CAP OF MARIO'S BROTHER, LUIG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7:38:12Z</dcterms:created>
  <dc:creator>Jennifer Budzinski</dc:creator>
  <dc:description/>
  <dc:language>en-US</dc:language>
  <cp:lastModifiedBy>Erich Friedman</cp:lastModifiedBy>
  <dcterms:modified xsi:type="dcterms:W3CDTF">2020-08-31T13:44:40Z</dcterms:modified>
  <cp:revision>407</cp:revision>
  <dc:subject/>
  <dc:title>Slide 1</dc:title>
</cp:coreProperties>
</file>