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FC2C-830F-458D-86BA-12F6CB431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3C39-B665-4F2F-A5A1-75054E4E1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BD3C-CE0A-400B-A77D-EF936590F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6CAC-336C-4518-87AA-9F75BE5F5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22C7-48F6-4719-9245-7E95D84C6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539F-B13F-4C6F-A2F9-D54CC6708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A82B-E3FD-40AC-B68E-C58731E6E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FD36-D794-4BA6-9AFD-1587746C7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2E5F-AA0E-4A6B-A1FA-5544910AB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ECD7-C513-439C-9D6D-024DFDEC3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9E5B-8AE5-4278-A3BD-677E9A53E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E1C3-3017-451E-881E-49256CF39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8A64-0D36-44B0-B88F-7E488685C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0AE8-4C09-4F2D-B94C-5398083ED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D4F3-F9A0-474D-911E-59C17EA6C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C185-7374-47C3-A8DE-043008D42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DFFA-9526-4426-99D5-33E8512DB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2F78-4436-4E21-99C4-B56499348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27ED-054F-40A6-B69F-0EFB9F814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D323-04E0-444C-A74D-5FF9DBB24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1EDC-7DD1-4F44-B018-90CCE2C61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E3E7-93A2-44BE-9252-0FDCDB11C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3E28-610F-4B41-AD92-92BBBF6D7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3 FILM DOES CLIFF ROBERTSON HAVE AN AFFAIR WITH JACQUELINE BISSET, THE MOTHER OF HIS PREP SCHOOL ROOMMATE ROB LOW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WER-LEFT HAND KEY ON MOST KEYBO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B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399960" y="762120"/>
            <a:ext cx="8344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LECRANON MORE COMMONLY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9800"/>
            <a:ext cx="8382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343080" y="709560"/>
            <a:ext cx="8458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PEOPLE IN THE SOUTHEASTERN U.S. CALL CORNMEAL COOKED IN WATER AND SERVED AS PORRID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43080" y="487980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MEANS A TYPE OF ACTION IN CHESS AND A LACK OF ACTION IN POK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1409760" y="762120"/>
            <a:ext cx="6324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XONOMIC RANK IS BETWEEN ORDER AND GEN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552600" y="762120"/>
            <a:ext cx="8038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UNK BAND'S ALBUM, "THE WORLD IS A GHETTO", WAS THE BEST-SELLING ALBUM OF 197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598760" y="491508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SYMBOL MEAN IN MUSI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2333520" y="2590920"/>
            <a:ext cx="44769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WER-LEFT HAND KEY ON MOST KEYBO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66720" y="762120"/>
            <a:ext cx="7810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NINTENDO GAMES, MARIO WEARS A RED CAP.  WHAT COLOR IS THE CAP OF MARIO'S BROTHER, LUIG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285840" y="762120"/>
            <a:ext cx="8572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3 FILM DOES CLIFF ROBERTSON HAVE AN AFFAIR WITH JACQUELINE BISSET, THE MOTHER OF HIS PREP SCHOOL ROOMMATE ROB LOW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BE  FOLLOWED  BY  THE  WORD  "ROOM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LECRANON MORE COMMONLY KNOWN 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99960" y="762120"/>
            <a:ext cx="834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PEOPLE IN THE SOUTHEASTERN U.S. CALL CORNMEAL COOKED IN WATER AND SERVED AS PORRID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MEANS A TYPE OF ACTION IN CHESS AND A LACK OF ACTION IN POK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371600" y="762120"/>
            <a:ext cx="6400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XONOMIC RANK IS BETWEEN ORDER AND GEN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19000" y="685800"/>
            <a:ext cx="7506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UNK BAND'S ALBUM, "THE WORLD IS A GHETTO", WAS THE BEST-SELLING ALBUM OF 197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SYMBOL MEAN IN MUSI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2200320" y="2514600"/>
            <a:ext cx="4741920" cy="24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NINTENDO GAMES, MARIO WEARS A RED CAP.  WHAT COLOR IS THE CAP OF MARIO'S BROTHER, LUIG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7:38:12Z</dcterms:created>
  <dc:creator>Jennifer Budzinski</dc:creator>
  <dc:description/>
  <dc:language>en-US</dc:language>
  <cp:lastModifiedBy>Erich Friedman</cp:lastModifiedBy>
  <dcterms:modified xsi:type="dcterms:W3CDTF">2020-08-31T13:44:40Z</dcterms:modified>
  <cp:revision>407</cp:revision>
  <dc:subject/>
  <dc:title>Slide 1</dc:title>
</cp:coreProperties>
</file>