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124B-13D3-47D0-9B9B-82FF6E57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7B1-8E0C-49FE-BA3D-DAE903CB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40FB-D09A-4488-9EF7-F6E41A0F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0C9E-E388-4842-AA5B-FAC534E6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273-808E-40ED-AC92-A0E3ADBD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928-62F7-43FF-BD0D-7C990930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EFD-07EA-45C7-9AA9-F5B27CAF1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1DE8-7CB8-4E9B-81E0-142C9F52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B5A-2DBC-4557-9064-0DA722C0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B440-1155-40A9-B9D1-3B48478B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C4E-8555-4AE8-BE94-113C6D05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CA4-D1DC-4743-B27B-ED8453E4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1614-2F93-41D1-9861-11FE881C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597-84CF-4AA7-9F50-BC20B430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D512-FC7D-4D5D-9648-CEB4C855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3BC9-81DD-4B2C-8D5A-75068168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66BE-D3DE-47B5-9679-104F5DBC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9AE-45A7-4E07-8ECC-43A0761D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97B-0402-490D-BED7-59ACD561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CF4-8483-4C9F-BCB0-1B012673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0220-1224-43FB-912A-7378DBA0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3BE-8D62-4BDF-B7D4-EE84A8D2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936-8191-449E-8E45-CA6B89140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523880"/>
            <a:ext cx="5600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(POL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0600" y="762120"/>
            <a:ext cx="7067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FOR HIS DRIP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ALACH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 FOR HIS DRIP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THUR)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343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STATE  UNIVERSITIES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58Z</dcterms:modified>
  <cp:revision>409</cp:revision>
  <dc:subject/>
  <dc:title>Slide 1</dc:title>
</cp:coreProperties>
</file>