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DD18-1C27-417E-89B9-DAAD72CCA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AE7F-C249-47DB-8228-02919BA4E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AA7E-7677-4972-B7B2-06D306221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5B61-D113-49F4-B50B-3721D9EF9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8D96-A130-4DC8-95BE-4FB9EA4AA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C7B7-D0D1-4EC4-94BC-13E5EA9F8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B63D-754A-4777-8551-93036430E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5C2F-CA0C-4DAA-9A23-738F1C0B9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927D-82E6-4815-89B4-589EC9917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326A-DD69-4D78-BEB0-B50EA63DE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184B-6B48-4C0B-A895-974B2D1DF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5FF1-0F86-4614-85B2-D034889EB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56A2-ED5D-4769-BE01-548DF9CF3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8BC1-02EB-4976-99EB-1F716FA73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276C-E7B0-4ACC-8969-CAFC6F75F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267E-46B0-45F4-A15C-9FC9B5620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3A5F-D47D-44E8-8AD6-785BAD575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B334-620B-4B14-A822-EF9943C80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32D5-A4DC-470C-B77E-2E1416E90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CD7D-7F46-41AA-8910-67571C111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4E8F-95B5-4E50-8F04-E3F07C9BC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3288-A379-48DC-B1F0-F9ABC486A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C9EE-8D31-4BA0-BB89-9D00C9808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71560" y="1523880"/>
            <a:ext cx="5600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Y IN ENGLAND IS SOUTHEAST OF LON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  (POLLO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0600" y="762120"/>
            <a:ext cx="7067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RECLUSIVE ARTIST BEST KNOWN FOR HIS DRIP PAINT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90680" y="762120"/>
            <a:ext cx="6362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IDA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ALACH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04840" y="762120"/>
            <a:ext cx="6934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IL IS THE LONGEST HIKING-ONLY TRAIL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TRIC UNIT OF MAGNETIC FLUX, EQUAL TO A VOLT SECOND OR A JOULE PER AMP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WES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IN ILLINOIS HAS THE LARGEST ENDOW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HOU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THE FIRST AND THIRD PRESIDENTS OF THE REPUBLIC OF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71600" y="762120"/>
            <a:ext cx="640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THE FOOT IS BELOW THE METATARSAL B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RECLUSIVE ARTIST BEST KNOWN  FOR HIS DRIP PAINT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THUR)  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ALLROOM DANCER WHO FOUNDED THE MOST FAMOUS DANCE STUDIO CH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95160" y="762120"/>
            <a:ext cx="7753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Y IN ENGLAND IS SOUTHEAST OF LOND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14400" y="43434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STATE  UNIVERSITIES  NAMED  FOR 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IDA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IL IS THE LONGEST HIKING-ONLY TRAIL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TRIC UNIT OF MAGNETIC FLUX, EQUAL TO A VOLT SECOND OR A JOULE PER AMP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IN ILLINOIS HAS THE LARGEST ENDOW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THE FIRST AND THIRD PRESIDENTS OF THE REPUBLIC OF TEX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THE FOOT IS BELOW THE METATARSAL B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ALLROOM DANCER WHO FOUNDED THE MOST FAMOUS DANCE STUDIO CH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3:44:58Z</dcterms:modified>
  <cp:revision>409</cp:revision>
  <dc:subject/>
  <dc:title>Slide 1</dc:title>
</cp:coreProperties>
</file>