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785-567E-4D11-B97A-AC9EAF168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7560-E869-4ECD-8A20-1D28CC818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EE73-4451-4CDC-951D-5958522A8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C649-829F-4DB5-B1FC-AF91E0949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748-7592-4E0D-8CC5-06787E418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5154-CB5B-40F8-92DF-F34E6111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B305-2C70-454F-8404-D0421B6E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1C03-1910-4D40-B399-A9ABDDE1C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5F1-0779-4B65-96E8-6BF4EE62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172-E73A-4A76-9401-389E65708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75E1-0037-4FB2-B3C0-DA6CD2A3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11A8-5D7A-4195-9D7A-F8408EA69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DDE9-0AA7-43BD-A57C-E0770BE5B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FF6-FDCB-4959-BCFB-64ABBF50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454-908E-4089-A75F-2F4841629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E646-0E5E-4F45-B851-EE2A6B5C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6F76-4D25-463F-B0D2-46602AB35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08C8-3731-4870-9FF0-1B8AA0946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5C2C-6C9F-468B-AA05-46B18426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2D9-B206-4163-BCB3-FFD3323CB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E039-7208-4B66-AF5E-EBE0737E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AFB4-1FB4-41AB-BCEE-4F249472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53C8-C8DD-4CFA-A6A9-04A33FB7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71560" y="1523880"/>
            <a:ext cx="5600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N ENGLAND IS SOUTHEAST OF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(POLL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0600" y="762120"/>
            <a:ext cx="7067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ECLUSIVE ARTIST BEST KNOWN FOR HIS DRIP PAIN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90680" y="762120"/>
            <a:ext cx="6362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IDA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ALACH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IL IS THE LONGEST HIKING-ONLY TRAI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MAGNETIC FLUX, EQUAL TO A VOLT SECOND OR A JOULE PER AMP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ILLINOIS HAS THE LARGEST ENDOW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FIRST AND THIRD PRESIDENTS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FOOT IS BELOW THE METATARSAL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ECLUSIVE ARTIST BEST KNOWN  FOR HIS DRIP PAIN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THUR)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LLROOM DANCER WHO FOUNDED THE MOST FAMOUS DANCE STUDIO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N ENGLAND IS SOUTHEAST OF LOND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343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STATE  UNIVERSITIES  NAMED  FO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IDA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IL IS THE LONGEST HIKING-ONLY TRAI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MAGNETIC FLUX, EQUAL TO A VOLT SECOND OR A JOULE PER AMP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ILLINOIS HAS THE LARGEST ENDOW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FIRST AND THIRD PRESIDENTS OF THE REPUBLIC OF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FOOT IS BELOW THE METATARSAL B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LLROOM DANCER WHO FOUNDED THE MOST FAMOUS DANCE STUDIO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58Z</dcterms:modified>
  <cp:revision>409</cp:revision>
  <dc:subject/>
  <dc:title>Slide 1</dc:title>
</cp:coreProperties>
</file>