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F2B3-129B-4C53-9CB7-99A360A3A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2C72-11BC-4E58-BD30-63775945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E68C-593F-42B1-B8AA-FEE4A612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AE0-B8D5-472D-A035-E4C7F739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321-A7A3-4F24-A12E-1170A6F7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941-2656-4B2A-929F-37CEB4A7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8562-F1B9-413F-89C5-18C39D5D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3C3-F01B-431E-B8EA-08CD3A04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671-0FB6-40DA-8825-D8F4E7391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47C-8A34-4B5B-8CFF-1BC5C89E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278-B58B-4E1F-9837-49A72D5C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BA6-D9D1-4635-9410-3DD03AF6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4F59-BC13-443B-95F8-C0AD5043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933-AFB6-44E6-A5B5-CC515DCA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7475-7969-4A47-B85D-2C784711E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694-AB87-4876-AA02-366FE716D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220-AE92-4D86-A74E-75F8C705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D9F-68A0-42C8-8150-47FE946B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EBD-80D5-480A-8053-57F22924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5F3-281D-4CE5-8170-C1DC8C32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DF1-9EFC-45B7-A91C-F578AAE8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A852-D7DF-4675-BEAF-4FDB3012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4D25-E62B-4596-AF92-A7608A32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562040" y="435132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BECOMES  OF  THE  BROKEN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3344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LET  THE  DOGS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YOU  LOVE  ME 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80960" y="762120"/>
            <a:ext cx="8182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09720" y="4343400"/>
            <a:ext cx="552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YOU  REALLY  WANT  TO  HURT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7400" y="762120"/>
            <a:ext cx="7909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  DID  OUR  LOVE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 I  STAY  OR  SHOULD  I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AR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N'T  SHE  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8240" y="762120"/>
            <a:ext cx="76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LOVE  GOT  TO  DO  WIT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52320" y="4876920"/>
            <a:ext cx="783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RE 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7:55Z</dcterms:modified>
  <cp:revision>416</cp:revision>
  <dc:subject/>
  <dc:title>Slide 1</dc:title>
</cp:coreProperties>
</file>