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F77-6135-401A-8BA7-CAD50B1BF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751F-BDE9-444C-B6E1-FD37A6F58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E9E4-7081-45BD-8F5F-D5B621150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15BF-B76D-4867-95A9-F076A047B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4A1-9F53-4ADC-9412-511F023CC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CA4E-3EDC-44C2-BB71-E9422927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4190-5997-4DFB-8458-273EBA423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95BE-3BCE-4797-B886-8A08F4047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3FB6-3D94-49DF-8E32-631CC84D5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11DF-8296-4541-8A5E-B23033B4E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D984-D4C2-4450-9816-752EA850F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F62E-E672-43AD-B037-B6613BCDB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344B-32A5-4D83-A6B4-FBB5CC0ED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9D20-82B9-4DDE-A157-36368CA64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E57C-0F1D-40DF-B66F-A3D597466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9D6-7B86-41E6-8DFA-565B2200E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338D-AC68-4D09-8BBD-E99514317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CCF6-7BE6-4EF5-B4DE-97078A35C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7931-0088-4EE6-BB58-5E4299CA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5835-562D-491C-B102-FF9587B01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8DBA-3408-4BE3-8D3E-ABF9779A2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045B-727E-4ECE-B9A4-A9AE1FEFE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03E5-D91B-4D47-BD67-051CB4FC7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80960" y="761760"/>
            <a:ext cx="8182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562040" y="435132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  BECOMES  OF  THE  BROKENHEAR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333440" y="4876920"/>
            <a:ext cx="64771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LET  THE  DOGS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8280" y="762120"/>
            <a:ext cx="7867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  YOU  LOVE  ME 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80960" y="762120"/>
            <a:ext cx="8182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809720" y="4343400"/>
            <a:ext cx="5524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  YOU  REALLY  WANT  TO  HURT  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7400" y="762120"/>
            <a:ext cx="7909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RE  DID  OUR  LOVE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28560" y="762120"/>
            <a:ext cx="7886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66760" y="487692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OULD  I  STAY  OR  SHOULD  I 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762120" y="4876920"/>
            <a:ext cx="76197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O  ARE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RGEST HIT OF JIMMY RUFF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N'T  SHE  LOV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8240" y="762120"/>
            <a:ext cx="7605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228600" y="487692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LOVE  GOT  TO  DO  WIT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INA TURNER'S BEST-SELLING SINGLE, WHICH SERVED AS THE TITLE OF THE FILM ABOUT HER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52320" y="4876920"/>
            <a:ext cx="7839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TITLES  ARE 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ONG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8200" y="761760"/>
            <a:ext cx="806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SONG BY THE BAHA MEN TO EVER REACH THE CHARTS, WHICH WON A GRAMMY AWARD FOR BEST DANCE RECOR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SHIRELLES WAS THE FIRST #1 SONG BY A BLACK ALL-GIRL GR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CULTURE CLUB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UPREME'S FIRST #1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CLASH'S ONLY #1 HIT, A DECADE AFTER IT WAS ORIGINALLY RELEAS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ITLE TRACK FROM THE WHO'S 1978 ALBUM WAS THE THEME SONG FOR THE TV SHOW "CS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19280" y="762120"/>
            <a:ext cx="7705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EVIE WONDER SONG THAT BEGINS WITH A BABY CRYING IS ABOUT THE BIRTH OF HIS DAUGH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7:55Z</dcterms:modified>
  <cp:revision>416</cp:revision>
  <dc:subject/>
  <dc:title>Slide 1</dc:title>
</cp:coreProperties>
</file>