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FE6D-56C8-4BB1-BD81-007CBC938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F209-D6C1-4A82-8267-044CBFC1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A97A-4513-47EA-B71F-23E94FE13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A30B-2449-4BD1-BB6F-61B0546BE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05FC-05DD-4DD9-A152-DEBC044D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BDDB-09C8-4D73-A2AF-97121BAB6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837B-4E61-4890-9E5A-2C736C68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4D86-B2D2-45C0-BC71-83D8D4606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C71-ABFE-4651-92E6-EC223E00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5BC9-8C5A-4BCC-B34B-FE0F7D146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05B2-F2C0-4F25-BA8C-69D84A014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DA4B-FB28-4A18-9250-52051D6CB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5C81-6266-4245-9DE2-042AB7164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2835-6927-463D-90F1-6E7DB2599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7954-64B4-46D3-924F-75FA91F7F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A894-B521-4142-ACFA-8F9794B3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2FFC-2BBF-4E0C-9E13-D4536B504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7538-79CE-4309-BD93-83ED1AAC8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FC4B-2243-4C96-B643-734E4F536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5FCA-AE96-418A-A7C2-076B42BBB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D641-C2D6-4C17-ABC0-16FA7F3B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3050-85F6-43FA-AF52-AB7140F50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9655-4697-43AE-8D71-87D42CECF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A TURNER'S BEST-SELLING SINGLE, WHICH SERVED AS THE TITLE OF THE FILM ABOUT HER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562040" y="435132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BECOMES  OF  THE  BROKENHE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HIT OF JIMMY RUFF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333440" y="48769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  LET  THE  DOGS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38280" y="762120"/>
            <a:ext cx="78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SONG BY THE BAHA MEN TO EVER REACH THE CHARTS, WHICH WON A GRAMMY AWARD FOR BEST DANCE RECOR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YOU  LOVE  ME  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80960" y="762120"/>
            <a:ext cx="8182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HIRELLES WAS THE FIRST #1 SONG BY A BLACK ALL-GIRL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09720" y="4343400"/>
            <a:ext cx="5524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  YOU  REALLY  WANT  TO  HURT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17400" y="762120"/>
            <a:ext cx="7909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LTURE CLUB'S FIRST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RE  DID  OUR  LOVE 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762120"/>
            <a:ext cx="788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PREME'S FIRST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66760" y="4876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  I  STAY  OR  SHOULD  I 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762120"/>
            <a:ext cx="796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LASH'S ONLY #1 HIT, A DECADE AFTER IT WAS ORIGINALLY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  AR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FROM THE WHO'S 1978 ALBUM WAS THE THEME SONG FOR THE TV SHOW "CS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HIT OF JIMMY RUFF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N'T  SHE  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8240" y="762120"/>
            <a:ext cx="76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VIE WONDER SONG THAT BEGINS WITH A BABY CRYING IS ABOUT THE BIRTH OF HIS DAU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'S  LOVE  GOT  TO  DO  WITH 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A TURNER'S BEST-SELLING SINGLE, WHICH SERVED AS THE TITLE OF THE FILM ABOUT HER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52320" y="4876920"/>
            <a:ext cx="783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ARE 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8200" y="761760"/>
            <a:ext cx="806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SONG BY THE BAHA MEN TO EVER REACH THE CHARTS, WHICH WON A GRAMMY AWARD FOR BEST DANCE RECOR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HIRELLES WAS THE FIRST #1 SONG BY A BLACK ALL-GIRL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LTURE CLUB'S FIRST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PREME'S FIRST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LASH'S ONLY #1 HIT, A DECADE AFTER IT WAS ORIGINALLY RELEA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FROM THE WHO'S 1978 ALBUM WAS THE THEME SONG FOR THE TV SHOW "CS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5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VIE WONDER SONG THAT BEGINS WITH A BABY CRYING IS ABOUT THE BIRTH OF HIS DAUGH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57:55Z</dcterms:modified>
  <cp:revision>416</cp:revision>
  <dc:subject/>
  <dc:title>Slide 1</dc:title>
</cp:coreProperties>
</file>