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0ED6-637E-44EC-BEAD-4E09672C0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217C-D01E-422A-BCEA-24233947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357-4F1C-4A09-A652-47F09DE2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3C5C-10B9-4A95-B6B0-24E5CC8F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95EC-5F72-4AD5-BBA2-0CB40112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E6DE-292C-4AC7-B642-2929D65BA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A61C-7C73-46BA-941C-C8D46DAD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190-4AB7-4428-9654-ABA812168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BBF6-0147-4CA2-A6BE-98EA0C412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8DFF-DD3D-4EF0-914F-029F0937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D1A5-C034-4FC2-B1B1-D87D9C57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9ADC-BC43-4987-A7C4-7E0CBE51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B9C-D11F-48AC-86AF-8FBAEB94F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6D2C-A9D8-4300-A123-6F3BD513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7FB4-4049-4030-A15F-DC753892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9145-3C13-4855-817E-87B4A3412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87C5-D9EE-4E9F-9B8E-181BDA23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C3F0-20D1-4543-AD25-3D528D41A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A94-BEA3-421F-A37F-A6D34306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0CC-293C-46C4-8083-ED32699EF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34D-0228-42FE-A255-8ACD1DDC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B32E4-4620-4B50-97C1-7D6287BD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12AC-D691-4CBF-AF1D-E3B4B0F4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ICAL CREATURE APPEARS ON THE FLAG OF W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HOMELAND SECURITY HAVE SOME DEMOCRATS BEEN CALLING FOR TO BE ABO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LETTER "E" STAND FOR IN CARS LIKE THE CHEVY SPARK EV, THE HONDA FIT EV, AND THE KIA SOUL E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MBLEDON IS THE ONLY GRAND SLAM TENNIS TOURNAMENT PLAYED ON WHAT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RIPLE POINT OF WHAT SUBSTANCE IS USED TO DEFINE THE CELSIUS TEMPERATURE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HIT FILM ALMOST STARRED PAUL HOGAN, AS PATRICK SWAYZE ONLY TOOK THE LEAD AFTER HOGAN TURNED IT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TERM IS USUALLY USED FOR A SOFTWARE DEF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POINTER SISTERS HIT SONG BEGINS "I'M RIDIN' IN YOUR CAR, YOU TURN ON THE RADIO, YOU'RE PULLIN' ME CLOSE, I JUST SAY 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3:03:36Z</dcterms:created>
  <dc:creator>Jennifer Budzinski</dc:creator>
  <dc:description/>
  <dc:language>en-US</dc:language>
  <cp:lastModifiedBy>Erich Friedman</cp:lastModifiedBy>
  <dcterms:modified xsi:type="dcterms:W3CDTF">2020-08-31T13:58:12Z</dcterms:modified>
  <cp:revision>433</cp:revision>
  <dc:subject/>
  <dc:title>Slide 1</dc:title>
</cp:coreProperties>
</file>