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59AC-7982-436A-813B-1DD73DF4A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D69C-BC77-4B40-94EF-E181A7B8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9072-44E1-4B2E-B273-5A478C65D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787D-836E-4A72-8573-C0DAF9B5C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988D-0140-4FB8-BEA4-4B5DB1FE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B24E-48A3-459E-B025-7A6E744C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6D00-A354-4ED2-A69E-FF42D401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AF7-5B75-4981-B257-53268AD64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960F-31AC-495B-B6D2-643E32F0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EF7-5B01-4858-B834-1708EBDC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E93C-BDC5-4B8F-82B8-1AEF9AA1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C345-31BA-43AD-BDE9-108D2973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5ED3-27DF-421C-B244-276614EC7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97B7-CE95-4176-BC2F-B47E1B134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AE32-B8CB-4ED3-8EFF-292E8693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4907-9A5B-46C5-B909-6E25467B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83F5-E703-4430-8BED-0AB206E81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0824-3016-4237-9CC4-6B7E192EC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7460-9941-4CE4-894D-01CDC2A0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2DF0-439C-43D0-B789-008EB0B0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78C8-CC5A-4E07-89DE-4B6C863C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DD2-3259-4930-A7E2-AFCD152B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6726-B340-4F15-B9D5-1A309B1A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HOMELAND SECURITY HAVE SOME DEMOCRATS BEEN CALLING FOR TO BE ABOLI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ICAL CREATURE APPEARS ON THE FLAG OF W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LETTER "E" STAND FOR IN CARS LIKE THE CHEVY SPARK EV, THE HONDA FIT EV, AND THE KIA SOUL E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MBLEDON IS THE ONLY GRAND SLAM TENNIS TOURNAMENT PLAYED ON WHAT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IPLE POINT OF WHAT SUBSTANCE IS USED TO DEFINE THE CELSIUS TEMPERATURE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HIT FILM ALMOST STARRED PAUL HOGAN, AS PATRICK SWAYZE ONLY TOOK THE LEAD AFTER HOGAN TURNED I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TERM IS USUALLY USED FOR A SOFTWARE DEF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POINTER SISTERS HIT SONG BEGINS "I'M RIDIN' IN YOUR CAR, YOU TURN ON THE RADIO, YOU'RE PULLIN' ME CLOSE, I JUST SAY 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ICAL CREATURE APPEARS ON THE FLAG OF W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HOMELAND SECURITY HAVE SOME DEMOCRATS BEEN CALLING FOR TO BE ABO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OKÉ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LETTER "E" STAND FOR IN CARS LIKE THE CHEVY SPARK EV, THE HONDA FIT EV, AND THE KIA SOUL E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MBLEDON IS THE ONLY GRAND SLAM TENNIS TOURNAMENT PLAYED ON WHAT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IPLE POINT OF WHAT SUBSTANCE IS USED TO DEFINE THE CELSIUS TEMPERATURE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HIT FILM ALMOST STARRED PAUL HOGAN, AS PATRICK SWAYZE ONLY TOOK THE LEAD AFTER HOGAN TURNED IT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TERM IS USUALLY USED FOR A SOFTWARE DEF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POINTER SISTERS HIT SONG BEGINS "I'M RIDIN' IN YOUR CAR, YOU TURN ON THE RADIO, YOU'RE PULLIN' ME CLOSE, I JUST SAY 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23:03:36Z</dcterms:created>
  <dc:creator>Jennifer Budzinski</dc:creator>
  <dc:description/>
  <dc:language>en-US</dc:language>
  <cp:lastModifiedBy>Erich Friedman</cp:lastModifiedBy>
  <dcterms:modified xsi:type="dcterms:W3CDTF">2020-08-31T13:58:12Z</dcterms:modified>
  <cp:revision>433</cp:revision>
  <dc:subject/>
  <dc:title>Slide 1</dc:title>
</cp:coreProperties>
</file>