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35CD-D087-4076-A3D9-F04968D03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1C0C-65DB-48B1-BB22-84754B0E6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003A-E086-4ADA-8300-ABE7E1DBC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66FD-D0CC-41BB-9B64-02D09266A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3F87-C225-4807-BFA4-09F1D94FC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332C-BD6C-4BBF-BD67-0F0E62188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7769-A055-4AAA-A56A-241114CE7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FA6D-DAA7-4109-B5A6-73A593F1C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D6FC-484C-4013-9DF3-6F1AB62D9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48A0-77B8-4E4F-B744-2D1C6B5EB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5B1B-E653-468D-96A9-0C2C3A474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7A58-2A43-4C17-8C44-621D9D434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A77E-097F-41C2-AA60-BE2741B9E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B62E-EC9E-4358-945E-1120CF408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94E8-AE2A-49F3-B8DF-A905D5757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C49C-6FD9-400C-8D3A-71E075552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BFE1-1B66-4C18-B818-456279A2D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8D29-F4CE-4801-AD82-12757074B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BD98-BDE6-4A59-8E0E-CD7D30DE3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55C4-1063-46E7-B45D-C5AF2758D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014D-51A4-4968-B4BF-25531AA6E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551C-8667-4802-A118-D7B3E36C3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E1FC-0123-45BA-A13C-89E57425B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CH OF HOMELAND SECURITY HAVE SOME DEMOCRATS BEEN CALLING FOR TO BE ABOLISH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YTHICAL CREATURE APPEARS ON THE FLAG OF W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LETTER "E" STAND FOR IN CARS LIKE THE CHEVY SPARK EV, THE HONDA FIT EV, AND THE KIA SOUL EV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MBLEDON IS THE ONLY GRAND SLAM TENNIS TOURNAMENT PLAYED ON WHAT SURF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RIPLE POINT OF WHAT SUBSTANCE IS USED TO DEFINE THE CELSIUS TEMPERATURE SC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H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HIT FILM ALMOST STARRED PAUL HOGAN, AS PATRICK SWAYZE ONLY TOOK THE LEAD AFTER HOGAN TURNED IT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TERM IS USUALLY USED FOR A SOFTWARE DEF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8 POINTER SISTERS HIT SONG BEGINS "I'M RIDIN' IN YOUR CAR, YOU TURN ON THE RADIO, YOU'RE PULLIN' ME CLOSE, I JUST SAY 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YTHICAL CREATURE APPEARS ON THE FLAG OF W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33440" y="762120"/>
            <a:ext cx="6477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OY IS 98% IRON AND 2% CARB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CH OF HOMELAND SECURITY HAVE SOME DEMOCRATS BEEN CALLING FOR TO BE ABOLISH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876920"/>
            <a:ext cx="670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POKÉ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LETTER "E" STAND FOR IN CARS LIKE THE CHEVY SPARK EV, THE HONDA FIT EV, AND THE KIA SOUL EV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4840" y="762120"/>
            <a:ext cx="6934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MBLEDON IS THE ONLY GRAND SLAM TENNIS TOURNAMENT PLAYED ON WHAT SURF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RIPLE POINT OF WHAT SUBSTANCE IS USED TO DEFINE THE CELSIUS TEMPERATURE SCA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HIT FILM ALMOST STARRED PAUL HOGAN, AS PATRICK SWAYZE ONLY TOOK THE LEAD AFTER HOGAN TURNED IT D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TERM IS USUALLY USED FOR A SOFTWARE DEF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8 POINTER SISTERS HIT SONG BEGINS "I'M RIDIN' IN YOUR CAR, YOU TURN ON THE RADIO, YOU'RE PULLIN' ME CLOSE, I JUST SAY N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OY IS 98% IRON AND 2% CARB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3T23:03:36Z</dcterms:created>
  <dc:creator>Jennifer Budzinski</dc:creator>
  <dc:description/>
  <dc:language>en-US</dc:language>
  <cp:lastModifiedBy>Erich Friedman</cp:lastModifiedBy>
  <dcterms:modified xsi:type="dcterms:W3CDTF">2020-08-31T13:58:12Z</dcterms:modified>
  <cp:revision>433</cp:revision>
  <dc:subject/>
  <dc:title>Slide 1</dc:title>
</cp:coreProperties>
</file>