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69BC-8F00-4581-BD6D-75EA66EE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A5FD-85A7-4176-9AA5-4124EC9E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9ED-9829-4A75-9B28-77E66C7EB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7C6-CFB3-43B9-90D3-EA4100606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2106-2488-4F4A-8C88-D9CF85C3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B9BF-D699-4783-AB08-7C96723F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F2AA-691C-439E-B691-D9DF2955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EDFD-C3D4-495F-AFDF-4D07B1E6A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A928-98A1-4B63-9BB7-E501DF068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B2D3-287D-49C1-8056-0DA93F52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638-013B-4041-AF18-3AA48A61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F023-7122-4057-88F0-D3151BE0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BD46-EF8F-4AF1-9FD6-37392D2A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681-72D5-4CC9-9D6C-CBB39DF7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5B91-9C91-4CA9-9872-8BD48ACE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D3CB-E6D8-4CE9-9B89-CF9DF6B5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ACE-0BFD-45D9-95CB-924E9866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630B-DF28-4DD2-A830-94E2EB022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5CE-BB31-4AD3-AC17-14D66B9D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A83-1247-4658-9725-04F9F4115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D6F2-118A-4A2A-8652-9D8978FA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B3E1-BD61-4D7D-B9E7-87AC0B38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7AC1-9DFC-423C-A27D-A15704CB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ROCK HUDSON IN "PILLOW TALK", "LOVER COME BACK", AND "SEND ME NO FLOW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76400" y="762120"/>
            <a:ext cx="699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357280" y="4876920"/>
            <a:ext cx="442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BUCK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ASEMAN ALLOWED A  BALL TO ROLL BETWEEN HIS LEGS, CAUSING THE BOSTON RED SOX TO LOSE THE 1986 WORLD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0440" y="762120"/>
            <a:ext cx="8763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, PRODUC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FICTION IN 1988 FOR HER NOVEL "BELOVED", AND THE NOBEL PRIZE FOR LITERATUR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82760" y="762120"/>
            <a:ext cx="8177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LB PLAYER TO BE MVP OF BOTH THE AMERICAN AND NATIONAL LEAGUES, AND BECAME THE FIRST BLACK MLB MANA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PAUL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UPREME COURT JUSTICE FROM 1975 TO 2010, AND WAS REPLACED BY ELENA K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18960" y="762120"/>
            <a:ext cx="850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18.9% OF THE VOTE IN THE 1992 U.S. PRESIDENTIAL ELECTION, AND 8.4% OF THE VOTE 4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12920" y="762120"/>
            <a:ext cx="65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GREEN BAY PACKERS WON THE FIRST TWO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ROCK HUDSON IN "PILLOW TALK", "LOVER COME BACK", AND "SEND ME NO FLOW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3040" y="4876920"/>
            <a:ext cx="6396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ASEMAN ALLOWED A BALL TO ROLL BETWEEN HIS LEGS, CAUSING THE BOSTON RED SOX TO LOSE THE 1986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, PRODUC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FICTION IN 1988 FOR HER NOVEL "BELOVED", AND THE NOBEL PRIZE FOR LITERATUR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LB PLAYER TO BE MVP OF BOTH THE AMERICAN AND NATIONAL LEAGUES, AND BECAME THE FIRST BLACK MLB MANA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UPREME COURT JUSTICE FROM 1975 TO 2010, AND WAS REPLACED BY ELENA K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18.9% OF THE VOTE IN THE 1992 U.S. PRESIDENTIAL ELECTION, AND 8.4% OF THE VOTE 4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GREEN BAY PACKERS WON THE FIRST TWO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3:58:40Z</dcterms:modified>
  <cp:revision>443</cp:revision>
  <dc:subject/>
  <dc:title>Slide 1</dc:title>
</cp:coreProperties>
</file>