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D52E-010B-4634-A5BF-C5A67D2CB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9F8F-BDC0-44B5-9B93-88C7FC82F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3192-195C-4C56-8E01-4F0CE7CBE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18B1-6B6B-4B47-A6A3-9F3593195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B95C-6DAB-4A00-9223-96F3D151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6933-48D3-49FC-BE42-4279C475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4E0-5845-4B09-91D9-286CE020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340B-8999-43E2-9BF2-77E5C88D3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481E-582B-4D29-88BD-87C593334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C75B-EE91-4BE2-95B6-C1D20BC6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E911-0F77-461D-BE63-62836D41A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5CD5-A771-4AB5-AC22-5B7CA23EB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4F3-FAD7-488B-AC05-BB8A16430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60AD-A468-4831-A937-0943FB374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74B9-2918-4A2C-B48F-3CC0417D5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5440-BA25-410A-9293-6F4B51968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0D9-048C-4F5A-9628-1D83D7B2D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52A6-5A9A-4123-8007-FF27D283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9A92-6FEA-4F23-A6CC-F3921D738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8653-1053-4D15-AC85-74BA4606C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7F0B-8213-4638-8851-DBA01C01E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8CDB-22E5-4F2F-801B-23C24C81B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1A47-4316-44F6-A5AC-E67AF5E6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ROCK HUDSON IN "PILLOW TALK", "LOVER COME BACK", AND "SEND ME NO FLOW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76400" y="762120"/>
            <a:ext cx="699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357280" y="4876920"/>
            <a:ext cx="442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BUCK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ASEMAN ALLOWED A  BALL TO ROLL BETWEEN HIS LEGS, CAUSING THE BOSTON RED SOX TO LOSE THE 1986 WORLD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90440" y="762120"/>
            <a:ext cx="8763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, PRODUCED, AND STARRED IN "EASY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I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FICTION IN 1988 FOR HER NOVEL "BELOVED", AND THE NOBEL PRIZE FOR LITERATURE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82760" y="762120"/>
            <a:ext cx="8177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LB PLAYER TO BE MVP OF BOTH THE AMERICAN AND NATIONAL LEAGUES, AND BECAME THE FIRST BLACK MLB MANA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PAUL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UPREME COURT JUSTICE FROM 1975 TO 2010, AND WAS REPLACED BY ELENA K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  PE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18960" y="762120"/>
            <a:ext cx="850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18.9% OF THE VOTE IN THE 1992 U.S. PRESIDENTIAL ELECTION, AND 8.4% OF THE VOTE 4 YEARS L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12920" y="762120"/>
            <a:ext cx="65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GREEN BAY PACKERS WON THE FIRST TWO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ROCK HUDSON IN "PILLOW TALK", "LOVER COME BACK", AND "SEND ME NO FLOW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3040" y="4876920"/>
            <a:ext cx="6396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20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ASEMAN ALLOWED A BALL TO ROLL BETWEEN HIS LEGS, CAUSING THE BOSTON RED SOX TO LOSE THE 1986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, PRODUCED, AND STARRED IN "EASY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FICTION IN 1988 FOR HER NOVEL "BELOVED", AND THE NOBEL PRIZE FOR LITERATURE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LB PLAYER TO BE MVP OF BOTH THE AMERICAN AND NATIONAL LEAGUES, AND BECAME THE FIRST BLACK MLB MANA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UPREME COURT JUSTICE FROM 1975 TO 2010, AND WAS REPLACED BY ELENA KA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18.9% OF THE VOTE IN THE 1992 U.S. PRESIDENTIAL ELECTION, AND 8.4% OF THE VOTE 4 YEARS L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GREEN BAY PACKERS WON THE FIRST TWO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3:58:40Z</dcterms:modified>
  <cp:revision>443</cp:revision>
  <dc:subject/>
  <dc:title>Slide 1</dc:title>
</cp:coreProperties>
</file>