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4DEE-1D7A-44F9-8976-4CC2998C9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D499-E9FA-4037-9B4B-015860E2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7EBB-3F6F-4EA6-A5B3-DE61FC2F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842A-0127-4B82-BB8C-74642A1A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C5DE-B732-46D4-B0E1-95BC0EF1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5AEC-199F-4AFF-B6DC-F30A9016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C0F4-ACCD-4D0A-8F07-8472E2DE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5EB-65CE-40BF-A43A-8D09CA95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BCC-67E5-4FF1-9F2E-B7FBCC46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93E-3A65-4D2C-9185-28F7DDB3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FF1-AEBC-4A40-8891-FFFA4947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A11-74E0-4088-80B0-298E4648F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A57-C043-4F10-841C-BB3EB02C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26F5-831F-4D17-A0E8-1A2C112E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14E5-9CDF-48EC-BD12-2D02E58F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650-BC9C-485D-8B29-B99B6646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27BE-78B5-45CF-9E10-425E4E008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35B-2253-44E7-A02F-31103AA66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C062-784E-4C0E-A752-61C7BF2E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925E-5C81-4093-86F4-B1286EE3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62D-60DD-434E-9F7A-B1908B2E0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BCC-FC40-4A56-9E4A-1372495F8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073-BD37-4724-8F1F-F914466A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ROCK HUDSON IN "PILLOW TALK", "LOVER COME BACK", AND "SEND ME NO FLOW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76400" y="762120"/>
            <a:ext cx="699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357280" y="4876920"/>
            <a:ext cx="442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BUCK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SEMAN ALLOWED A  BALL TO ROLL BETWEEN HIS LEGS, CAUSING THE BOSTON RED SOX TO LOSE THE 1986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0440" y="762120"/>
            <a:ext cx="8763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, PRODUC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FICTION IN 1988 FOR HER NOVEL "BELOVED", AND THE NOBEL PRIZE FOR LITERATUR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82760" y="762120"/>
            <a:ext cx="8177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LB PLAYER TO BE MVP OF BOTH THE AMERICAN AND NATIONAL LEAGUES, AND BECAME THE FIRST BLACK MLB MANA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AUL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UPREME COURT JUSTICE FROM 1975 TO 2010, AND WAS REPLACED BY ELENA K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18960" y="762120"/>
            <a:ext cx="850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18.9% OF THE VOTE IN THE 1992 U.S. PRESIDENTIAL ELECTION, AND 8.4% OF THE VOTE 4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12920" y="762120"/>
            <a:ext cx="65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GREEN BAY PACKERS WON THE FIRST TWO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ROCK HUDSON IN "PILLOW TALK", "LOVER COME BACK", AND "SEND ME NO FLOW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3040" y="4876920"/>
            <a:ext cx="6396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SEMAN ALLOWED A BALL TO ROLL BETWEEN HIS LEGS, CAUSING THE BOSTON RED SOX TO LOSE THE 1986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, PRODUC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FICTION IN 1988 FOR HER NOVEL "BELOVED", AND THE NOBEL PRIZE FOR LITERATUR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LB PLAYER TO BE MVP OF BOTH THE AMERICAN AND NATIONAL LEAGUES, AND BECAME THE FIRST BLACK MLB MANA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UPREME COURT JUSTICE FROM 1975 TO 2010, AND WAS REPLACED BY ELENA K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18.9% OF THE VOTE IN THE 1992 U.S. PRESIDENTIAL ELECTION, AND 8.4% OF THE VOTE 4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GREEN BAY PACKERS WON THE FIRST TWO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3:58:40Z</dcterms:modified>
  <cp:revision>443</cp:revision>
  <dc:subject/>
  <dc:title>Slide 1</dc:title>
</cp:coreProperties>
</file>