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EC6E-8A24-4249-88F6-48795EC2C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CD56-EE67-4264-8F6C-1D67EE249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5BC9-FAA4-4D24-9D6D-71869068F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7558-8EE2-4CED-A5F5-D9DC6C08C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AFAF-1C3A-43D7-BDE7-8CE4CFA23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215A-E814-49B9-90C2-D6A425FC5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09B8-7BBD-4411-B003-0AADDFFA9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96C7-2690-4DA1-AF59-CD901A6C5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7C16-8D48-4649-85CD-B2CFA2A6F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860B-97C1-403C-8E94-23B947105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C7D0-7CDB-43FC-91A4-71DE41F8A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1CEE-81FA-4B75-8E1A-AA1086C1B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2E6A-472F-4140-84AE-728BF1D89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81C5-B9BC-4B60-B9B0-DEFFB61D2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5428-63B2-47E0-AF5B-5018DE475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B48D-D131-4527-AD9D-4DD0E4E2C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BBF3-909F-4026-BFDE-7A902AF68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D46A-FC30-405D-BFBF-30592227D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3546-FD3A-4195-8EE6-EDFD22EE6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A98C-7684-4B2B-8FF3-2E60C9704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FD2B-CF7F-485F-BCE1-093101FC9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FE9F-08F4-4069-BB58-1CE304C47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7E9B-F992-4ED8-9F80-245FE547B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85960" y="762120"/>
            <a:ext cx="7372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SHARED BY THE DIMWITTED BARTENDER ON "CHEERS" AND THE ACTOR WHO PLAYED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NING  STRE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200160" y="762120"/>
            <a:ext cx="874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"TAKE ME OUT TO THE BALLGAME" TYPICALLY S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S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0" y="914400"/>
            <a:ext cx="4191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PPROPRIATE NAME OF THE TARGET MASC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083120" cy="298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LY  P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INGER EARNED A BEST ACTRESS GOLDEN GLOBE NOMINATION FOR "THE BEST LITTLE WHOREHOUSE IN TEX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X  TILL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85640" y="765000"/>
            <a:ext cx="817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TRUMP'S FIRST SECRETARY OF STATE, BEFORE MIKE POMP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C 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90400" y="762120"/>
            <a:ext cx="7963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A BRAND, WITH ONLY A 5% MARKET SHARE, WAS THE FIRST TO SELL SOFT DRINKS IN C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19200" y="4876920"/>
            <a:ext cx="799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  HA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25480" y="762120"/>
            <a:ext cx="749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U.S SOCCER FEMALE ATHLETE OF THE YEAR EVERY YEAR FROM 1994 TO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ZZ  ALD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76280" y="762120"/>
            <a:ext cx="8191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STEP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76200" y="762120"/>
            <a:ext cx="8391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IS "TAKE ME OUT TO THE BALLGAME" TYPICALLY SU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TER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71600" y="762120"/>
            <a:ext cx="6400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INCESS IN "THE PRINCESS B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34920" y="762120"/>
            <a:ext cx="727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SHARED BY THE DIMWITTED BARTENDER ON "CHEERS" AND THE ACTOR WHO PLAYED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652320" y="4343400"/>
            <a:ext cx="7839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TOYS  IN  THE  "TOY  STORY"  FRANCH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3120" y="837720"/>
            <a:ext cx="4190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PPROPRIATE NAME OF THE TARGET MASC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4572000" y="1066680"/>
            <a:ext cx="4083120" cy="29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INGER EARNED A BEST ACTRESS GOLDEN GLOBE NOMINATION FOR "THE BEST LITTLE WHOREHOUSE IN TEX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TRUMP'S FIRST SECRETARY OF STATE, BEFORE MIKE POMP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A BRAND, WITH ONLY A 5% MARKET SHARE, WAS THE FIRST TO SELL SOFT DRINKS IN C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U.S SOCCER FEMALE ATHLETE OF THE YEAR EVERY YEAR FROM 1994 TO 199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ECOND MAN TO STEP ON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RINCESS IN "THE PRINCESS BR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0-08-31T13:58:58Z</dcterms:modified>
  <cp:revision>479</cp:revision>
  <dc:subject/>
  <dc:title>Slide 1</dc:title>
</cp:coreProperties>
</file>