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B397-4CC9-4800-A66B-D41B2C8B4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22B7-6B32-4CC8-AE1B-EB0CBD3A7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F1C2-C6FC-49A9-B95F-C78413B85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61D0-9523-4B0D-8FFD-1FA8D116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BED6-DB2F-495D-9C84-D4FE1D8C6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EA5E-9DD9-4D67-BB20-65FBC14B9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1F22-EDE2-460F-995A-9785E319F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8164-0EAD-4E66-83EC-8E36B7F50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0301-D5E3-4222-9AE4-E9C222B49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024C-36BD-4BB4-8590-1FEFBA46C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25A3-AE23-4BB4-8D97-80AEBECA4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22AF-8346-41E3-B43E-3290849B8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C0CA-A39E-420B-9AA7-D4C6B2006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B36C-A681-4A20-8B84-0C3CCE48A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D2BC-C0B3-4257-A647-58DADCB5E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95B3-FAC9-4599-A775-7D011AA91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A24A-7ADE-4640-BE01-6C1948407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B0EC-F9EE-4AE4-AF6F-7523678E6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E558-D68F-46B9-91F5-6F962AE6D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41FF-340F-43A9-9D6B-72E3A1C9F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068C-52DB-4C44-9A6C-C286C20AB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0094-0282-4457-843D-139092E24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0B28-ADD8-4887-8BDE-EB565134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85960" y="762120"/>
            <a:ext cx="7372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THE DIMWITTED BARTENDER ON "CHEERS" AND THE ACTOR WHO PLAYED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NING  STR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"TAKE ME OUT TO THE BALLGAME" TYPICALLY S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S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0" y="914400"/>
            <a:ext cx="4191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PPROPRIATE NAME OF THE TARGET MASC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083120" cy="29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Y  P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INGER EARNED A BEST ACTRESS GOLDEN GLOBE NOMINATION FOR "THE BEST LITTLE WHOREHOUSE IN TEX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X  TILL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85640" y="765000"/>
            <a:ext cx="817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TRUMP'S FIRST SECRETARY OF STATE, BEFORE MIKE POMP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C 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0400" y="762120"/>
            <a:ext cx="796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A BRAND, WITH ONLY A 5% MARKET SHARE, WAS THE FIRST TO SELL SOFT DRINKS IN C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19200" y="487692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  HA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25480" y="762120"/>
            <a:ext cx="749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U.S SOCCER FEMALE ATHLETE OF THE YEAR EVERY YEAR FROM 1994 TO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ZZ  ALD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STEP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76200" y="762120"/>
            <a:ext cx="839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"TAKE ME OUT TO THE BALLGAME" TYPICALLY SU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71600" y="762120"/>
            <a:ext cx="640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INCESS IN "THE PRINCESS B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34920" y="762120"/>
            <a:ext cx="727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THE DIMWITTED BARTENDER ON "CHEERS" AND THE ACTOR WHO PLAYED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52320" y="4343400"/>
            <a:ext cx="7839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TOYS  IN  THE  "TOY  STORY"  FRANCH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3120" y="8377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PPROPRIATE NAME OF THE TARGET MASC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083120" cy="29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INGER EARNED A BEST ACTRESS GOLDEN GLOBE NOMINATION FOR "THE BEST LITTLE WHOREHOUSE IN TEX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TRUMP'S FIRST SECRETARY OF STATE, BEFORE MIKE POMP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A BRAND, WITH ONLY A 5% MARKET SHARE, WAS THE FIRST TO SELL SOFT DRINKS IN C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U.S SOCCER FEMALE ATHLETE OF THE YEAR EVERY YEAR FROM 1994 TO 199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STEP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INCESS IN "THE PRINCESS BR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0-08-31T13:58:58Z</dcterms:modified>
  <cp:revision>479</cp:revision>
  <dc:subject/>
  <dc:title>Slide 1</dc:title>
</cp:coreProperties>
</file>