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C932-3C93-47F8-932B-B89C67D9F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D8EB-3B78-4FC2-BBB9-A2D7F7C3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0DBF-075B-48DB-A60A-C458B06E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0283-75D2-415A-B3CE-80B1E9CBC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7A7D-DC6C-4EC8-9051-E5B16AA7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0C6E-F054-41DD-AB12-6E09BA81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6758-DAE7-4DEB-BFA9-EC6B46FE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65E8-0ACD-4C47-BB45-68782DB6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4224-A0F3-482E-B297-9AAD9044D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FE53-4845-44C3-A5A1-F3637B26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6203-9A2E-4EEF-90E6-31DCAC7F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09A-BBF1-4076-A674-3D279FFA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3CF9-6D9D-45EF-BF77-707633CEA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74E2-480F-4FF6-9097-E60718D47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4842-8398-45F1-807F-9EED6E102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78DD-BA5F-4F49-8B8D-ACCB6348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5F30-35C3-49FA-BB7F-F7311893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4CFF-CDED-422C-B76C-8D2FF488C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EC7B-52DF-4C7B-B7C3-CB6A7D341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2DBC-58BF-413A-9233-9598A3F99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840C-852F-4430-9897-EA8E7B5A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C415-E314-41D0-A909-4924B383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FB3A-6425-4B1F-84E1-950069E7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85960" y="762120"/>
            <a:ext cx="737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MWITTED BARTENDER ON "CHEERS" AND THE ACTOR WHO PLAYED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NING  STR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"TAKE ME OUT TO THE BALLGAME" TYPICALLY 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0" y="914400"/>
            <a:ext cx="4191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TARGET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83120" cy="29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EARNED A BEST ACTRESS GOLDEN GLOBE NOMINATION FOR "THE BEST LITTLE WHOREHOUSE IN TEX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X  TILL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85640" y="76500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, BEFORE MIKE POMP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C 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762120"/>
            <a:ext cx="796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A BRAND, WITH ONLY A 5% MARKET SHARE, WAS THE FIRST TO SELL SOFT DRINKS IN C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19200" y="487692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  HA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25480" y="762120"/>
            <a:ext cx="749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U.S SOCCER FEMALE ATHLETE OF THE YEAR EVERY YEAR FROM 1994 TO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STEP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76200" y="762120"/>
            <a:ext cx="839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"TAKE ME OUT TO THE BALLGAME" TYPICALLY S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71600" y="762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INCESS IN "THE PRINCESS B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34920" y="762120"/>
            <a:ext cx="727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MWITTED BARTENDER ON "CHEERS" AND THE ACTOR WHO PLAYED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52320" y="4343400"/>
            <a:ext cx="7839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TOYS  IN  THE  "TOY  STORY"  FRANCH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3120" y="8377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TARGET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8312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EARNED A BEST ACTRESS GOLDEN GLOBE NOMINATION FOR "THE BEST LITTLE WHOREHOUSE IN TEX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, BEFORE MIKE POMP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A BRAND, WITH ONLY A 5% MARKET SHARE, WAS THE FIRST TO SELL SOFT DRINKS IN C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U.S SOCCER FEMALE ATHLETE OF THE YEAR EVERY YEAR FROM 1994 TO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STEP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INCESS IN "THE PRINCESS BR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8-31T13:58:58Z</dcterms:modified>
  <cp:revision>479</cp:revision>
  <dc:subject/>
  <dc:title>Slide 1</dc:title>
</cp:coreProperties>
</file>