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3A3D-F514-46B8-9876-A221DA6FF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EDB7-84F3-4BC7-9011-91B4ED45F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9CED-5DCA-4367-AD8D-FD4756B0B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22D4-AC33-4BD4-80E7-26E422EFA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8C58-823E-4055-8848-42153BC98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0F59-E410-4B92-BFB9-01803CEFB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91A7-C912-4AF7-8215-E178A27CE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FC6F-4804-448C-A19D-B6213E4E4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6667-0625-4316-8A6A-AD5519FA1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097E-4B7C-4830-9D1F-FDE149BAB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CC65-F85B-4A79-B802-50BFE8947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2D42-FDCC-4746-BFB6-B4BCAC503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F0A7-7D2E-4CB6-91C6-916F2BEC9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F9A7-12C4-4499-9FD2-636332435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5AA0-D993-4BAF-836B-CF5CD7595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52A5-0341-4379-879B-2CB9136F9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2F79-AD6B-4DDE-B197-40EC07176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C54C-CAA4-456A-9A90-B6C00096C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A7ED-F178-4009-8463-A68A3C3B6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B146-3E3C-4E64-9F5D-5F5FD3BE7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AE7A-A6AA-4CC3-897E-E6A2E7A9C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0E95-FAAE-4BBF-B728-C8D17DE79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C569-6832-4018-958A-72C03176F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399960" y="761760"/>
            <a:ext cx="8344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GION OF A GOLF COURSE HAS GRASS THAT IS COURSER AND HIGHER THAN ON THE FAIRWAY OR GRE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(WITHOUT THE WORD "THE")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409760" y="762120"/>
            <a:ext cx="6324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NGEST DOORS SONG, OVER 11 MINUTES L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HOW WAS PETER KRAUSE ON BEFORE HIS CURRENT SHOW, "9-1-1", BUT AFTER "SIX FEET UND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OU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552600" y="762120"/>
            <a:ext cx="8038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1 ROMANTIC FILM DIRECTED BY INGMAR BERGMAN STARRED ELLIOT GOULD, BIBI ANDERSSON, AND MAX VON SYD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228600" y="106668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1992 ELTON JOHN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2" descr=""/>
          <p:cNvPicPr/>
          <p:nvPr/>
        </p:nvPicPr>
        <p:blipFill>
          <a:blip r:embed="rId1"/>
          <a:stretch/>
        </p:blipFill>
        <p:spPr>
          <a:xfrm>
            <a:off x="4876920" y="533520"/>
            <a:ext cx="3848040" cy="37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TAUGHT THE SUPERHERO DAREDEVIL TO FI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43080" y="762120"/>
            <a:ext cx="8458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ABOUT COCAINE STARRED JOHNNY DEPP AND PENÉLOPE CRU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371600" y="762120"/>
            <a:ext cx="6400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SAPPHIRE'S 1996 DEBUT NOVEL, MADE INTO A FILM IN 200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523880" y="762120"/>
            <a:ext cx="6096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NGEST DOORS SONG, OVER 11 MINUTES L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38120" y="762120"/>
            <a:ext cx="8267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FANTASY FILM STARRED ROBIN WILLIAMS, JULIA ROBERTS, AND DUSTIN HOFFMAN IN THE TITLE RO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OU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228600" y="762120"/>
            <a:ext cx="8686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GION OF A GOLF COURSE HAS GRASS THAT IS COURSER AND HIGHER THAN ON THE FAIRWAY OR GRE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771560" y="4343400"/>
            <a:ext cx="5600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THE  WORD  "UP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(WITHOUT THE WORD "THE")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28560" y="761760"/>
            <a:ext cx="7886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HOW WAS PETER KRAUSE ON BEFORE HIS CURRENT SHOW, "9-1-1", BUT AFTER "SIX FEET UND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1 ROMANTIC FILM DIRECTED BY INGMAR BERGMAN STARRED ELLIOT GOULD, BIBI ANDERSSON, AND MAX VON SYD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52280" y="914400"/>
            <a:ext cx="4267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1992 ELTON JOHN ALB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4876920" y="533520"/>
            <a:ext cx="3848040" cy="37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TAUGHT THE SUPERHERO DAREDEVIL TO FIGH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ABOUT COCAINE STARRED JOHNNY DEPP AND PENÉLOPE CRUZ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333440" y="761760"/>
            <a:ext cx="6477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SAPPHIRE'S 1996 DEBUT NOVEL, MADE INTO A FILM IN 200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38120" y="762120"/>
            <a:ext cx="8267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FANTASY FILM STARRED ROBIN WILLIAMS, JULIA ROBERTS, AND DUSTIN HOFFMAN IN THE TITLE RO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7:38:12Z</dcterms:created>
  <dc:creator>Jennifer Budzinski</dc:creator>
  <dc:description/>
  <dc:language>en-US</dc:language>
  <cp:lastModifiedBy>Erich Friedman</cp:lastModifiedBy>
  <dcterms:modified xsi:type="dcterms:W3CDTF">2020-08-31T13:59:23Z</dcterms:modified>
  <cp:revision>409</cp:revision>
  <dc:subject/>
  <dc:title>Slide 1</dc:title>
</cp:coreProperties>
</file>