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6F5-12AF-4E07-ACB8-1920F6BE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EC09-BE4C-4E18-B7AF-BC1D5340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4E39-F9B1-4958-95A1-C4A21142A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797-D0D2-4C51-8C4C-4C462B59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01FB-BBAC-498D-929C-2DDA1FA9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25A-C6C3-4CCC-828F-E902C810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CA93-2B9D-42AE-BC1D-1B9667DF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61F5-7F4E-42FC-B766-E6D9FEC5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1D9-175B-488F-9C22-EFBD812A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3B4-FDB7-45E1-B9F8-612EE2FD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682-7779-4931-BD36-A5806525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EC5E-9A96-4B78-9E24-3057A18BF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BFA2-64F2-4EC1-AED6-4CBCB169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7C4F-81F8-4541-AE3E-ADE57A97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23A2-532C-4B20-8242-6A542422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3637-12CE-4CF1-8C90-08AD732A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DE2-6372-407C-ABF3-5CBA9159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F31-0364-44C9-BAB4-2D0996BB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044-8722-4A2D-A018-4B5E646E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F88-33E3-4639-9EFE-27D51025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8FB-B088-47E0-84B2-C2285046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CE8A-6DA5-4575-9E28-C3060EB9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9142-C315-489F-96DA-860987C1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ION OF A GOLF COURSE HAS GRASS THAT IS COURSER AND HIGHER THAN ON THE FAIRWAY OR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(WITHOUT THE WORD "THE")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DOORS SONG, OVER 11 MINUT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PETER KRAUSE ON BEFORE HIS CURRENT SHOW, "9-1-1", BUT AFTER "SIX FEET U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52600" y="762120"/>
            <a:ext cx="803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ROMANTIC FILM DIRECTED BY INGMAR BERGMAN STARRED ELLIOT GOULD, BIBI ANDERSSON, AND 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228600" y="106668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1992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4804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AUGHT THE SUPERHERO DAREDEVIL TO F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COCAINE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PPHIRE'S 1996 DEBUT NOVEL, MADE INTO A FILM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DOORS SONG, OVER 11 MINUT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812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ANTASY FILM STARRED ROBIN WILLIAMS, JULIA ROBERTS, AND DUSTIN HOFFMAN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ION OF A GOLF COURSE HAS GRASS THAT IS COURSER AND HIGHER THAN ON THE FAIRWAY OR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71560" y="4343400"/>
            <a:ext cx="5600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U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(WITHOUT THE WORD "THE")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PETER KRAUSE ON BEFORE HIS CURRENT SHOW, "9-1-1", BUT AFTER "SIX FEET U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ROMANTIC FILM DIRECTED BY INGMAR BERGMAN STARRED ELLIOT GOULD, BIBI ANDERSSON, AND 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26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1992 ELTON JOHN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4804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AUGHT THE SUPERHERO DAREDEVIL TO F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COCAINE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PPHIRE'S 1996 DEBUT NOVEL, MADE INTO A FILM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ANTASY FILM STARRED ROBIN WILLIAMS, JULIA ROBERTS, AND DUSTIN HOFFMAN IN THE TITLE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59:23Z</dcterms:modified>
  <cp:revision>409</cp:revision>
  <dc:subject/>
  <dc:title>Slide 1</dc:title>
</cp:coreProperties>
</file>