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FB19-F484-42B4-BF85-D4312874D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FF8B-934D-409B-BD74-C4A38F42E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04F4-E7D9-4743-BF50-569CA63AB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788A-61EE-48BF-840C-584D16816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617A-7667-4310-898A-3040ECCD1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BA5C-9BCF-46FA-AA12-19137C498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FB05-53EA-4A62-ADC3-1A6B6AE09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1556-4526-468E-ABD7-E2CD0C65F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9B9A-23C4-440B-A06C-FAF174E97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F5C6-5B71-4CA5-92ED-57B20D01D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99DC-173D-4B7F-AA5E-1E1E9C09B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F408-0595-48E1-87B2-DDE746618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CA0C-18D3-4289-B830-AE535644B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169C-548D-4B87-BA45-D31415BB8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8DE4-5983-4191-B66B-77476D92C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4A72-9679-4D0C-B45C-466A5150B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7052-EC6A-45C5-A704-8B2E9E0CF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BB51-C23C-4A0B-A690-CDB5FA080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5BC3-8F4C-4323-8B7B-6CF00DD9F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E8B1-BDE6-40B9-9737-06F349FC7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492F-7A94-4A69-BDC8-411A10382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9E6B-33A9-438B-82B9-714833ECB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3CB6-FEE1-43C6-9BC9-D92A45C33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GION OF A GOLF COURSE HAS GRASS THAT IS COURSER AND HIGHER THAN ON THE FAIRWAY OR GRE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(WITHOUT THE WORD "THE")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 DOORS SONG, OVER 11 MINUTES L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WAS PETER KRAUSE ON BEFORE HIS CURRENT SHOW, "9-1-1", BUT AFTER "SIX FEET UN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OU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552600" y="762120"/>
            <a:ext cx="8038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1 ROMANTIC FILM DIRECTED BY INGMAR BERGMAN STARRED ELLIOT GOULD, BIBI ANDERSSON, AND MAX VON SYD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228600" y="106668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1992 ELTON JOHN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4876920" y="533520"/>
            <a:ext cx="3848040" cy="37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TAUGHT THE SUPERHERO DAREDEVIL TO F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4308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ABOUT COCAINE STARRED JOHNNY DEPP AND PENÉLOPE CRU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371600" y="762120"/>
            <a:ext cx="6400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SAPPHIRE'S 1996 DEBUT NOVEL, MADE INTO A FILM IN 200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523880" y="762120"/>
            <a:ext cx="6096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 DOORS SONG, OVER 11 MINUTES L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38120" y="762120"/>
            <a:ext cx="8267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FANTASY FILM STARRED ROBIN WILLIAMS, JULIA ROBERTS, AND DUSTIN HOFFMAN IN THE TITLE RO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28600" y="762120"/>
            <a:ext cx="8686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GION OF A GOLF COURSE HAS GRASS THAT IS COURSER AND HIGHER THAN ON THE FAIRWAY OR GR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771560" y="4343400"/>
            <a:ext cx="5600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THE  WORD  "UP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(WITHOUT THE WORD "THE")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WAS PETER KRAUSE ON BEFORE HIS CURRENT SHOW, "9-1-1", BUT AFTER "SIX FEET UN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1 ROMANTIC FILM DIRECTED BY INGMAR BERGMAN STARRED ELLIOT GOULD, BIBI ANDERSSON, AND MAX VON SYD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52280" y="914400"/>
            <a:ext cx="4267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IS 1992 ELTON JOHN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4876920" y="533520"/>
            <a:ext cx="3848040" cy="37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TAUGHT THE SUPERHERO DAREDEVIL TO F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ABOUT COCAINE STARRED JOHNNY DEPP AND PENÉLOPE CRU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SAPPHIRE'S 1996 DEBUT NOVEL, MADE INTO A FILM IN 200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FANTASY FILM STARRED ROBIN WILLIAMS, JULIA ROBERTS, AND DUSTIN HOFFMAN IN THE TITLE RO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31T13:59:23Z</dcterms:modified>
  <cp:revision>409</cp:revision>
  <dc:subject/>
  <dc:title>Slide 1</dc:title>
</cp:coreProperties>
</file>