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D76A6-BFB3-49D7-B970-380B7EB914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6EEE9-5E0F-417F-B0F3-61512DF3F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7D0F4-D31B-4891-B554-2917DBE6F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CE891-DDE5-4E88-90E4-130C80DDD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74D16-BBFF-4EAC-A2BF-294490DF2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23A55-464F-4F8B-8D6D-E5DC3DEC1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64CA2-EF63-49EA-B1ED-CE9940AEA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4E6F1-0903-402A-B97C-1BB1FC9C4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133F7-FD1E-4F5C-BF49-D438BFE6A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C18EA-8DFA-4909-942B-CFB5F4550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AF1D5-8D45-4D14-AF28-43DC2AA96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08663-9196-49AE-A0D4-5FFFC571D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CDBA2-DA1F-45FB-BBE3-2AADFD00D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AA740-9EAF-42AC-B00E-91624DC53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EDCDA-62AA-4A79-B6F4-34A546781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4E501-0765-4429-BFC3-BBC8C92B7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A67EB-BE06-4421-BFC0-91CF9918A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7AA26-9167-41CE-81DC-2047456D9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E2787-C21C-48B0-8BF1-B9C736CDD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B3A4A-7A52-4CC5-9E3C-963485EC1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8A115-4E3F-4E9B-8D35-2CD9B8CBA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38D0C-6CCE-411E-B2C6-AD21E9E90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292CE-8409-4C91-ACAD-E8ECABD08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552600" y="1066680"/>
            <a:ext cx="8038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MBER             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ORROR FILM FRANCHISE FEATURING THE CHARACTER OF JASON VOORHEES HAS MADE $464 MILL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NUMB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104840" y="762120"/>
            <a:ext cx="69343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DOTS APPEAR ON A STANDARD DI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55  MP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333440" y="762120"/>
            <a:ext cx="6477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TIONAL SPEED LIMIT FROM 1974 TO 198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14400" y="762120"/>
            <a:ext cx="73152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HOCKEY, HOW MANY GOALS ARE NECESSARY FOR A HAT TRI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4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ITEMS IN A GRO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TALE  OF  TWO  C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CHARLES DICKENS'S BEST-KNOWN HISTORICAL NOV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181160" y="762120"/>
            <a:ext cx="67816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PLANETS ARE IN OUR SOLAR SYST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43040" y="762120"/>
            <a:ext cx="7657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TIMES PER DAY ARE MUSLIMS SUPPOSED TO PRAY TO ALLA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DOTS APPEAR ON A STANDARD DI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87692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RACLE  ON  34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STR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14400" y="762120"/>
            <a:ext cx="7315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47 CHRISTMAS FILM STARRING MAUREEN O'HARA AND JOHN PAYNE WAS REMADE IN 199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IDAY  THE  13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0484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ORROR FILM FRANCHISE FEATURING THE CHARACTER OF JASON VOORHEES HAS MADE $464 MILL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RE  FIBONACCI  NUMB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95360" y="762120"/>
            <a:ext cx="8153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NUMB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333440" y="761760"/>
            <a:ext cx="6477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TIONAL SPEED LIMIT FROM 1974 TO 198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14400" y="762120"/>
            <a:ext cx="7315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HOCKEY, HOW MANY GOALS ARE NECESSARY FOR A HAT TRI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ITEMS IN A GROS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CHARLES DICKENS'S BEST-KNOWN HISTORICAL NOVE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PLANETS ARE IN OUR SOLAR SYSTE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TIMES PER DAY ARE MUSLIMS SUPPOSED TO PRAY TO ALLA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47 CHRISTMAS FILM STARRING MAUREEN O'HARA AND JOHN PAYNE WAS REMADE IN 199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2T19:45:27Z</dcterms:created>
  <dc:creator>Jennifer Budzinski</dc:creator>
  <dc:description/>
  <dc:language>en-US</dc:language>
  <cp:lastModifiedBy>Erich Friedman</cp:lastModifiedBy>
  <dcterms:modified xsi:type="dcterms:W3CDTF">2020-08-31T13:59:54Z</dcterms:modified>
  <cp:revision>412</cp:revision>
  <dc:subject/>
  <dc:title>Slide 1</dc:title>
</cp:coreProperties>
</file>