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E81A-E527-4483-8C92-B1A4B606C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C084-4074-4FB5-9BAD-3DA34C861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FD9E-8055-4A2B-A20C-BEA8763CC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78E3-661C-4518-8272-EB8CDB42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4E3E-F7AC-4830-8B7C-0DCE46DE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4EAA-5899-4467-BD26-CC195488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711-CCF6-452F-8D9E-71F31D45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3C1D-1F51-4ED4-82F8-ABBE687C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0BB0-C04F-408D-B239-4B260B3E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AAE0-DE99-49C6-A6EA-8A6FAB626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69AE-2ADB-4C73-82FE-8A79B558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181C-DF28-4AEC-8306-637BAB09F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EEB3-F99A-48BF-AD5E-6A9576FE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956F-969A-4FAD-8E42-0A8258F6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2F8-07D8-45FC-A6CA-7F1203C7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C188-FEF3-4B8B-B9C1-9A3EF1C0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6577-5505-4115-9A78-099D2BA8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F52-FDBD-468E-BE6F-D3A70AF6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CC76-65E7-43C6-9405-FF2A15479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8188-C899-4823-A3FC-8143A1708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DD4-8790-4D49-A227-EE190B414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DA39-6093-418B-BBFC-41AD0AFDA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00E4-A253-45B5-94D0-29DBBB8F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52600" y="1066680"/>
            <a:ext cx="8038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FEATURING THE CHARACTER OF JASON VOORHEES HAS MADE $464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OTS APPEAR ON A STANDARD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5 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TIONAL SPEED LIMIT FROM 1974 TO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CKEY, HOW MANY GOALS ARE NECESSARY FOR A HAT TR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IN A G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ALE  OF  TWO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HARLES DICKENS'S BEST-KNOWN HISTORICAL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NETS ARE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4304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DAY ARE MUSLIMS SUPPOSED TO PRAY TO ALL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OTS APPEAR ON A STANDARD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RACLE  ON  3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7 CHRISTMAS FILM STARRING MAUREEN O'HARA AND JOHN PAYNE WAS REMADE IN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Y  THE  1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FEATURING THE CHARACTER OF JASON VOORHEES HAS MADE $464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FIBONACCI 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TIONAL SPEED LIMIT FROM 1974 TO 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CKEY, HOW MANY GOALS ARE NECESSARY FOR A HAT TR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IN A GR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HARLES DICKENS'S BEST-KNOWN HISTORICAL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NETS ARE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DAY ARE MUSLIMS SUPPOSED TO PRAY TO ALL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7 CHRISTMAS FILM STARRING MAUREEN O'HARA AND JOHN PAYNE WAS REMADE IN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9:45:27Z</dcterms:created>
  <dc:creator>Jennifer Budzinski</dc:creator>
  <dc:description/>
  <dc:language>en-US</dc:language>
  <cp:lastModifiedBy>Erich Friedman</cp:lastModifiedBy>
  <dcterms:modified xsi:type="dcterms:W3CDTF">2020-08-31T13:59:54Z</dcterms:modified>
  <cp:revision>412</cp:revision>
  <dc:subject/>
  <dc:title>Slide 1</dc:title>
</cp:coreProperties>
</file>