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2C83-F2F4-436A-9A11-C85A5E039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2EE4-7670-43B0-8372-8FF455E79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1343-0ED2-4682-86E2-D80C4B4BF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CD97-7282-495C-B946-E7ADBAD56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DC3A-28B2-44C7-B835-A9180AE59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5312-D1A7-49FF-8EA6-9EFB37F49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E943-AA7B-4286-B0F9-4933E1F45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C0D4-9A92-46ED-9B85-16216625E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6515-82C0-49FD-8523-5961F3E73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54AA-2C1C-418A-8E4A-EC0CC2D7C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C9DF-B371-4E9B-BA8E-EB9802F40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7D18-1916-4DDB-AE4E-3D1BA0FA3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AC4D-5958-490C-93B0-81B6CB06A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2707-E9E6-4ED4-93FD-577810970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8589-6672-44EB-A923-158773076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1DA0-91C6-4B2F-8A28-7FE6FF043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50CC-EEBB-4B54-BD65-A168D7ED6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6ECB-9859-4E0D-A8FD-7A77D3BAB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B328-99E4-4473-92A1-936C1315A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7A44-E0F9-4EA7-B74F-51D2AF98E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33DF-2DF7-444A-8BAC-A494748D0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FD03-0AA2-4541-BD8B-1E35C287A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9F8D-EC62-4171-8F74-77083CAF0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552600" y="1066680"/>
            <a:ext cx="8038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MBER         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RROR FILM FRANCHISE FEATURING THE CHARACTER OF JASON VOORHEES HAS MADE $464 MILL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NUMB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04840" y="762120"/>
            <a:ext cx="693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OTS APPEAR ON A STANDARD D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5  M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333440" y="762120"/>
            <a:ext cx="6477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TIONAL SPEED LIMIT FROM 1974 TO 198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HOCKEY, HOW MANY GOALS ARE NECESSARY FOR A HAT TRI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4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ITEMS IN A GRO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TALE  OF  TWO  C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CHARLES DICKENS'S BEST-KNOWN HISTORICAL NO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81160" y="762120"/>
            <a:ext cx="67816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LANETS ARE IN OUR SOLAR SYST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43040" y="762120"/>
            <a:ext cx="7657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IMES PER DAY ARE MUSLIMS SUPPOSED TO PRAY TO ALLA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OTS APPEAR ON A STANDARD DI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RACLE  ON  34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STR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7 CHRISTMAS FILM STARRING MAUREEN O'HARA AND JOHN PAYNE WAS REMADE IN 199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IDAY  THE  13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RROR FILM FRANCHISE FEATURING THE CHARACTER OF JASON VOORHEES HAS MADE $464 M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FIBONACCI  NU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95360" y="76212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NUMB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333440" y="761760"/>
            <a:ext cx="6477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TIONAL SPEED LIMIT FROM 1974 TO 198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HOCKEY, HOW MANY GOALS ARE NECESSARY FOR A HAT TRI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ITEMS IN A GRO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CHARLES DICKENS'S BEST-KNOWN HISTORICAL NOV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LANETS ARE IN OUR SOLAR SYST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IMES PER DAY ARE MUSLIMS SUPPOSED TO PRAY TO ALLA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7 CHRISTMAS FILM STARRING MAUREEN O'HARA AND JOHN PAYNE WAS REMADE IN 199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2T19:45:27Z</dcterms:created>
  <dc:creator>Jennifer Budzinski</dc:creator>
  <dc:description/>
  <dc:language>en-US</dc:language>
  <cp:lastModifiedBy>Erich Friedman</cp:lastModifiedBy>
  <dcterms:modified xsi:type="dcterms:W3CDTF">2020-08-31T13:59:54Z</dcterms:modified>
  <cp:revision>412</cp:revision>
  <dc:subject/>
  <dc:title>Slide 1</dc:title>
</cp:coreProperties>
</file>