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79B-2363-4D4B-AE37-D6B09DDF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10D1-D980-4FE3-8CE7-B274CA3D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F983-6D5F-43F3-9FCB-B0F73D79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C06-94A0-4B70-B775-A9BB586C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B25-9B7F-44A7-8DDD-AC1FD6CFC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BFD-5057-4647-9443-735686F67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BAE-90CF-43C6-B4E3-A212A3C9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792-AA53-41BE-A954-AAA07FA64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4CB0-34AC-4894-B18E-EB2F0FBB1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D731-B7F4-4A2F-BC57-351458CC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001-42B4-4AE7-95BC-E911BE76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B83-798E-4136-8666-E3C7DB60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63C-AC48-4C26-BBF1-A98D6AA8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D14-2527-463C-A28C-D1AF0AB4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A38A-5918-4C46-B425-BD7080091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438-3099-44BA-9BCA-B1548FBD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F8B9-E824-4101-B643-BB490505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9D5-E66F-46D7-B57A-0F31914B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C8A4-AEAC-4A2D-8BA6-F7C402CF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129C-B0AF-4228-8210-DDDAFB29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512-807C-453C-B044-5D6516F8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CDC2-A702-4998-B829-E909972B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5C5-13F8-4908-8879-1760BE65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409760" y="44197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RUTH,)  JUSTICE  (AND  THE  AMERICAN  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04920" y="762120"/>
            <a:ext cx="67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DELITY,  BRAVERY,)  INTEG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76120" y="762120"/>
            <a:ext cx="8591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00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228680" y="4343400"/>
            <a:ext cx="668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AM – WEBSTER  WORD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3800" y="685440"/>
            <a:ext cx="809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05Z</dcterms:modified>
  <cp:revision>417</cp:revision>
  <dc:subject/>
  <dc:title>Slide 1</dc:title>
</cp:coreProperties>
</file>