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C3A2-B920-480C-B9EA-22A73AAEA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43EF-8F59-4993-B9B1-5E6B09E13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EBCE-2108-4CE1-B2B9-BEFB3EB3E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D95A-7C5E-44E0-A789-7B6BAAF6C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1B61-AAC8-4429-8F08-1D7A006BD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A199-1CEE-48AF-AD72-497DE4767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7E6D-16A9-4FDA-B646-A4C384DE3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12F7-F609-4A7C-B544-82F4D50F8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9770-C87A-4D21-83C4-FFC31DB51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B2F5-3B49-4AC9-9309-E9AC0432F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8CCF-2A73-4769-B935-387B850AB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A2CD-E4F5-461C-BEF6-7B63B3CDC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E9BB-E8B9-483C-AA45-0D3B9EE47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2891-DDB7-4869-91B7-E78922994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5C52-0177-4648-AF99-BDE9D7086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5C84-D3F7-46C0-8492-8E2445CF0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A7B7-A894-4981-BDB9-327D8DF36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A06C-936B-43F2-9A31-B49CA21FE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5B8C-2F7F-4C64-80A0-954A003B1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2A12-FD93-45B0-8667-DEF6D7A73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C639-B892-4FB5-BDC3-A84E34D6F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D454-D017-43AC-81F8-8A6C1DA6E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B14D-B25B-4FDA-9485-B95E1274E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85880" y="761760"/>
            <a:ext cx="7572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"THE WØRD" ON THE PILOT EPISODE OF "THE COLBERT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409760" y="4419720"/>
            <a:ext cx="6324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RUTH,)  JUSTICE  (AND  THE  AMERICAN  WA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WORD OF SUPERMAN'S CATCH-PHRA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ADEMIC JOURNAL RECEIVED SUPPORT FROM THOMAS EDISON AND ALEXANDER GRAHAM B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204920" y="762120"/>
            <a:ext cx="6734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UMBLR HAVE 450 MILLION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FIDELITY,  BRAVERY,)  INTEG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03280" y="762120"/>
            <a:ext cx="81374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FBI'S 3-WORD MOT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MOC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76120" y="762120"/>
            <a:ext cx="8591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RD IS MISSING FROM THIS WINSTON CHURCHILL QUOTE: "THE BEST ARGUMENT AGAINST ____    IS A FIVE-MINUTE CONVERSATION WITH THE AVERAGE VOTER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00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757080" y="762120"/>
            <a:ext cx="7629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NLINE EXPRESSION OF JOY OR EXCITEMENT IS USUALLY SPELLED WITH "00" INSTEAD OF "O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MI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68580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THE LOGO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127320" y="1905120"/>
            <a:ext cx="2889360" cy="28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WORD OF SUPERMAN'S CATCH-PHRA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E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28600" y="76212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CONOMIC TERM FOR POLITICAL POLICIES THAT AIM TO REDUCE BUDGET DEFICITS THROUGH SPENDING CUTS OR TAX INCREA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TH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"THE WØRD" ON THE PILOT EPISODE OF "THE COLBERT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228680" y="4343400"/>
            <a:ext cx="6686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RIAM – WEBSTER  WORDS  OF  THE  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ADEMIC JOURNAL RECEIVED SUPPORT FROM THOMAS EDISON AND ALEXANDER GRAHAM B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UMBLR HAVE 450 MILLION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FBI'S 3-WORD MOT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7040" y="762120"/>
            <a:ext cx="8629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RD IS MISSING FROM THIS WINSTON CHURCHILL QUOTE: "THE BEST ARGUMENT AGAINST ____    IS A FIVE-MINUTE CONVERSATION WITH THE AVERAGE VOTER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NLINE EXPRESSION OF JOY OR EXCITEMENT IS USUALLY SPELLED WITH "00" INSTEAD OF "O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23800" y="685440"/>
            <a:ext cx="8096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THE LOGO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127320" y="1905120"/>
            <a:ext cx="2889360" cy="28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76200" y="762120"/>
            <a:ext cx="8391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CONOMIC TERM FOR POLITICAL POLICIES THAT AIM TO REDUCE BUDGET DEFICITS THROUGH SPENDING CUTS OR TAX INCREAS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4:00:05Z</dcterms:modified>
  <cp:revision>417</cp:revision>
  <dc:subject/>
  <dc:title>Slide 1</dc:title>
</cp:coreProperties>
</file>