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B6C4-1718-4897-9137-1E03F3A7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D6D7-B811-4E0C-BC52-B2CD8A88D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5A11-74C7-487D-9B1D-764E0AEFD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01DE-022D-4077-A0F9-086368014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BFB9-35C0-4DEF-A9CA-5467D7480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A11F-67FA-4100-AB45-1B3D1A97C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C9B1-1E79-47BF-8163-DCB414204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F39-6FCE-42DE-B351-930D7246E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93FB-EA1B-4CC3-9F7C-39FCBCC2F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A39E-5F2E-4A49-94CB-758EAB63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5A47-EE04-41CC-98BC-E29C96322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FF39-FA7D-4502-AA29-5BDDA9A10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1F84-5431-4F17-9E61-3BB0D447C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2A39-9260-4E29-8D58-4E7320D71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190D-A0E3-4171-B01E-41A8FE51D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64A2-F498-4109-ADB7-BBC72208F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18DA-0C0E-48F9-BF73-D60D15BFC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FFA1-9825-4BAC-A72E-45DFB0A8B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CF73-0156-4E44-BABE-208639058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1C06-E6D9-4853-B230-A8E51EB0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24F2-BF39-4D44-B0FC-616C0B32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2C68-496E-47A3-BCBA-A6E50A717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E217-66AC-4AA1-87A1-7FFFF7B4A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THE WØRD" ON THE PILOT EPISODE OF "THE COLBER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409760" y="4419720"/>
            <a:ext cx="63244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RUTH,)  JUSTICE  (AND  THE  AMERICAN  W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SUPERMAN'S CATCH-PHR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IC JOURNAL RECEIVED SUPPORT FROM THOMAS EDISON AND ALEXANDER GRAHAM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04920" y="762120"/>
            <a:ext cx="67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UMBLR HAVE 450 MILLIO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IDELITY,  BRAVERY,)  INTEG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FBI'S 3-WORD MOT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OC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76120" y="762120"/>
            <a:ext cx="8591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IS MISSING FROM THIS WINSTON CHURCHILL QUOTE: "THE BEST ARGUMENT AGAINST ____    IS A FIVE-MINUTE CONVERSATION WITH THE AVERAGE VO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00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57080" y="762120"/>
            <a:ext cx="762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LINE EXPRESSION OF JOY OR EXCITEMENT IS USUALLY SPELLED WITH "00" INSTEAD OF "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MI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09480" y="68580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E LOGO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27320" y="1905120"/>
            <a:ext cx="2889360" cy="28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WORD OF SUPERMAN'S CATCH-PHR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E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CONOMIC TERM FOR POLITICAL POLICIES THAT AIM TO REDUCE BUDGET DEFICITS THROUGH SPENDING CUTS OR TAX INCRE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TH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THE WØRD" ON THE PILOT EPISODE OF "THE COLBER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228680" y="4343400"/>
            <a:ext cx="6686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AM – WEBSTER  WORDS  OF  THE 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IC JOURNAL RECEIVED SUPPORT FROM THOMAS EDISON AND ALEXANDER GRAHAM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UMBLR HAVE 450 MILLIO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FBI'S 3-WORD MOT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IS MISSING FROM THIS WINSTON CHURCHILL QUOTE: "THE BEST ARGUMENT AGAINST ____    IS A FIVE-MINUTE CONVERSATION WITH THE AVERAGE VO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LINE EXPRESSION OF JOY OR EXCITEMENT IS USUALLY SPELLED WITH "00" INSTEAD OF "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3800" y="685440"/>
            <a:ext cx="809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HE LOGO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27320" y="1905120"/>
            <a:ext cx="2889360" cy="28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6200" y="762120"/>
            <a:ext cx="839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CONOMIC TERM FOR POLITICAL POLICIES THAT AIM TO REDUCE BUDGET DEFICITS THROUGH SPENDING CUTS OR TAX INCREA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4:00:05Z</dcterms:modified>
  <cp:revision>417</cp:revision>
  <dc:subject/>
  <dc:title>Slide 1</dc:title>
</cp:coreProperties>
</file>