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F73F-5D54-444A-9C1E-65C9C6990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FDF7-9D59-4E54-8BBD-645F9B68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9B25-8597-41EF-AD83-B5D932E8F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088E-98A2-4042-B978-21C058D99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9A69-6C8A-4C16-B6AB-E78CD3A61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5ED1-F176-4310-AAA0-3E8D96247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4F20-0893-4588-9AA8-3AE2629A0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9582-3E34-445C-8BDB-BB8700D72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D203-8DC8-42F5-BAB0-6DCC91430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CDEF-7430-443C-A62B-BEDF0EB1C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F214-3D26-4552-9581-126F1CC84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4A02-DDF2-4F35-AD07-937EBE4F5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39B0-DA3F-443D-A601-48CA1DD0D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C84A-DF14-4795-80C1-221AEFB4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0069-2E6C-4B52-81EA-835E4C9CB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65A1-407B-402F-B2A1-C0FFD6564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CB8D-2501-43DB-A48A-D61B150CA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5C73-2581-4325-92E0-2019D7BAE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92D7-BE74-4389-B173-98329FAF5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7BC8-7C56-4E15-85E7-C8D9BB9D4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D3B1-F329-4186-A3BE-BCC80EE8D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4D52-54C4-4DAB-97AB-911233E7E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14CD-8306-455A-9BF9-4C9968AF6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OAK UP THE SUN" AND "IF IT MAKES YOU HAPP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NCY  SIN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SE BOOTS WERE MADE FOR WAL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  &amp;  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JET" AND "BAND ON THE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ENTITLES HER ALBUMS (19, 21, AND 25) WITH HER AGE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Y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ANG THE DUET "MOCKINGBIRD" WITH JAMES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IKE A VIRGIN" AND "MATERIAL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9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RAN  DU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RDINARY WORLD" AND "HUNGRY LIKE THE WOL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DYS  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ACKUP SINGERS WERE KNOWN AS THE PI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SE BOOTS WERE MADE FOR WALK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5920" y="48769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AT'S LOVE GOT TO DO WITH IT"? AND "WE DON'T NEED ANOTHER H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YL  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OAK UP THE SUN" AND "IF IT MAKES YOU HAPP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G  JAMES  BOND 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JET" AND "BAND ON THE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ENTITLES HER ALBUMS (19, 21, AND 25) WITH HER AGE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ANG THE DUET "MOCKINGBIRD" WITH JAMES TAY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IKE A VIRGIN" AND "MATERIAL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RDINARY WORLD" AND "HUNGRY LIKE THE WOL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ACKUP SINGERS WERE KNOWN AS THE PI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AT'S LOVE GOT TO DO WITH IT"? AND "WE DON'T NEED ANOTHER HER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6:11:58Z</dcterms:created>
  <dc:creator>Jennifer Budzinski</dc:creator>
  <dc:description/>
  <dc:language>en-US</dc:language>
  <cp:lastModifiedBy>Erich Friedman</cp:lastModifiedBy>
  <dcterms:modified xsi:type="dcterms:W3CDTF">2020-08-24T14:12:20Z</dcterms:modified>
  <cp:revision>369</cp:revision>
  <dc:subject/>
  <dc:title>Slide 1</dc:title>
</cp:coreProperties>
</file>