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8249-D329-492D-BD1B-185F42AA8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F579-0087-453B-A65C-BEFF7F390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F10C-849F-4B1E-8B3E-9EF6FF2B4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0FC4-92C3-465F-937E-7330F4116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43C9-7E71-4C28-9F2C-C6D13C35B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1528-C110-4039-A974-9B14386AE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1F78-D8FC-456A-A90E-73C79FC73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47AD-DBCC-4A51-A017-9F4C7D84C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FD6A-6D07-458E-BE21-27A2E9691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268D-D546-4497-831E-22A2BA4D5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8572-0474-4153-95E4-C8D4172A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7B5D-601F-479C-98AD-37B354CA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9B98-F359-4EDB-80DB-755A3220D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EB53-D7FD-4732-84AA-CD20CC20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57C-360C-419B-BB8E-64FF94014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5349-D3D5-493A-A58A-4CE56DE3F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A4CD-7BCA-427E-AC94-62A4CD21B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CECF-4509-4C0C-B336-67BF93EE5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5D15-4919-49BB-A70F-659487FC5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2236-D203-4505-9BDA-E09F9F3A9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5BDD-2013-4AE9-A7EA-CD3BF2C38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45AB-ACA7-400C-B43E-B9C25BAEE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E537-9598-4024-88B8-9D8188C87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OAK UP THE SUN" AND "IF IT MAKES YOU HAPP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NCY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SE BOOTS WERE MADE FOR WAL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  &amp;  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ET" AND "BAND ON THE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ENTITLES HER ALBUMS (19, 21, AND 25) WITH HER AGE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Y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ANG THE DUET "MOCKINGBIRD" WITH JAMES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IKE A VIRGIN" AND "MATERIAL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9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RAN  DU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RDINARY WORLD" AND "HUNGRY LIKE THE WO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DYS  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ACKUP SINGERS WERE KNOWN AS THE P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SE BOOTS WERE MADE FOR WAL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5920" y="48769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'S LOVE GOT TO DO WITH IT"? AND "WE DON'T NEED ANOTHER H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YL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OAK UP THE SUN" AND "IF IT MAKES YOU HAPP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G  JAMES  BOND  TH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ET" AND "BAND ON THE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ENTITLES HER ALBUMS (19, 21, AND 25) WITH HER AGE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ANG THE DUET "MOCKINGBIRD" WITH JAMES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IKE A VIRGIN" AND "MATERIAL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RDINARY WORLD" AND "HUNGRY LIKE THE WO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ACKUP SINGERS WERE KNOWN AS THE PI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'S LOVE GOT TO DO WITH IT"? AND "WE DON'T NEED ANOTHER H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6:11:58Z</dcterms:created>
  <dc:creator>Jennifer Budzinski</dc:creator>
  <dc:description/>
  <dc:language>en-US</dc:language>
  <cp:lastModifiedBy>Erich Friedman</cp:lastModifiedBy>
  <dcterms:modified xsi:type="dcterms:W3CDTF">2020-08-24T14:12:20Z</dcterms:modified>
  <cp:revision>369</cp:revision>
  <dc:subject/>
  <dc:title>Slide 1</dc:title>
</cp:coreProperties>
</file>