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8D10-1BEC-469C-BAAA-1E5429ED7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764-7E60-45FD-AB22-7275085D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1ED6-DB20-4053-A59C-90538E60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482-0E90-450A-A458-59F9BC93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AB2C-B9D5-4998-B5B4-C9391937A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4B5F-E92C-4A95-8469-ED52BCE7D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7E43-F4FD-4498-9185-88DA41EDA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B7D7-F1CB-4493-986E-1DB5304D2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6D7E-96EA-4C75-8CFA-E6EE09933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3BC5-6C51-4BA4-9794-6A67D5FCB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B0A-8C94-44F0-8970-4C317AA0F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D629-452C-4CB0-8B94-19ACCDC5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19BE-1978-430E-9C06-F10542A54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B3F-6C5B-4E1E-9A68-10BC3A19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EBF-D11A-4FF7-92BD-7ABEB0515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7EA8-03FA-43DE-BF35-474EFE7D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7F9-44D1-4670-98F4-F87D8C5D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A8B0-908B-4CDF-9B97-FF7509AFD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5110-C0F3-4839-AB5B-F3302635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87B4-FE94-4848-B79B-ED072094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7F0-07A0-41A6-9F7E-6C9EF53E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82B-B2CD-424A-A960-A8319802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2775-7AB7-403C-8075-86DACB92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OAK UP THE SUN" AND "IF IT MAKES YOU HAPP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SE BOOTS WERE MADE FOR WAL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  &amp;  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ET" AND "BAND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ENTITLES HER ALBUMS (19, 21, AND 25) WITH HER AGE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ANG THE DUET "MOCKINGBIRD" WITH JAMES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KE A VIRGIN" AND "MATERIAL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9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RAN  DU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RDINARY WORLD" AND "HUNGRY LIKE THE WO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DYS  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ACKUP SINGERS WERE KNOWN AS THE P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SE BOOTS WERE MADE FOR WAL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5920" y="48769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'S LOVE GOT TO DO WITH IT"? AND "WE DON'T NEED ANOTHER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OAK UP THE SUN" AND "IF IT MAKES YOU HAP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G  JAMES  BOND 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ET" AND "BAND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ENTITLES HER ALBUMS (19, 21, AND 25) WITH HER AGE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ANG THE DUET "MOCKINGBIRD" WITH JAMES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KE A VIRGIN" AND "MATERIAL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RDINARY WORLD" AND "HUNGRY LIKE THE WO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ACKUP SINGERS WERE KNOWN AS THE P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'S LOVE GOT TO DO WITH IT"? AND "WE DON'T NEED ANOTHER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6:11:58Z</dcterms:created>
  <dc:creator>Jennifer Budzinski</dc:creator>
  <dc:description/>
  <dc:language>en-US</dc:language>
  <cp:lastModifiedBy>Erich Friedman</cp:lastModifiedBy>
  <dcterms:modified xsi:type="dcterms:W3CDTF">2020-08-24T14:12:20Z</dcterms:modified>
  <cp:revision>369</cp:revision>
  <dc:subject/>
  <dc:title>Slide 1</dc:title>
</cp:coreProperties>
</file>