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87D3-0C6E-4AF0-9EE5-6155E2B8B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B2B5-7DB1-4902-A172-B239D8F90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BAB9-48DB-4221-827F-FD34E93EC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446F-425B-4695-9112-5EECD09D8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9BF4-A6BE-43FC-81F1-AEE3FC001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C201-BD2C-48CA-B6B3-82D8F86BA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7E21-2F29-4948-BE4C-EA574077D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42C0-3025-4C4C-B542-2917AA497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B869-93CE-4202-A4F1-7CFBD1DEE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FA2D-C273-41E4-B2A4-96C4BF988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539A-0169-4DAD-A957-5A7BC54B0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9AD6-4615-4A46-B08F-C4D6C5603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197C-A436-484C-AF8C-46207B738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D426-FDA7-4DE8-B849-51FBD907C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6F39-1188-40D9-AC16-5B5ADADE8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C12A-8D21-4B48-B8DE-32BDB86B3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4A8F-E2D2-41A9-9312-949876AAE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7B95-6B22-4596-9C8F-D44BDB6B6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99E3-0E23-45DA-976D-0B34C53B9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338C-6A53-4D6B-81F5-D8531853E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5A26-BE3B-43AD-8526-9F87C9879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4BFA-1E94-4D9F-A455-9F5ABD7D3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5E1E-62EF-4C9B-A5C1-50B15C67C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81200" y="1523880"/>
            <a:ext cx="7581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OR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14480" y="761760"/>
            <a:ext cx="7113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STARRED IN FILMS GROSSING $5 BILLION, SECOND ONLY TO SAMUEL L. JACK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409760" y="4876920"/>
            <a:ext cx="6324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  GIB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33480" y="762120"/>
            <a:ext cx="7277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DIRECTED AND PRODUCED "THE PASSION OF THE CHRI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  HAR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PLAYED SPECIAL AGENT LEROY JETHRO GIBBS ON TV SINCE 200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N  CONN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243000" y="762120"/>
            <a:ext cx="86565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CTOR TO PORTRAY JAMES BOND IN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CRU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03280" y="762120"/>
            <a:ext cx="81374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PLAYED IMF AGENT ETHAN HUNT IN 6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ANU  REE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297000" y="762120"/>
            <a:ext cx="8550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PLAYED SEVERAL CHARACTERS WHO HAVE SAVED THE WORLD, INCLUDING NEO, JOHNNY MNEMONIC,   AND JOHN CONSTANT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D  PI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98640" y="762120"/>
            <a:ext cx="7145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USED TO BE MARRIED TO JENNIFER ANISTON AND ANGELINA JOLIE (NOT AT THE SAME TIM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NZEL  WASHING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S IN "MALCOLM X" AND "THE HURRICA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DIRECTED AND PRODUCED "THE PASSION OF THE CHRI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CLO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285840" y="762120"/>
            <a:ext cx="8572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LIVING ACTOR WHO HAS BEEN NOMINATED FOR ACADEMY AWARDS IN 6 DIFFERENT CATEGO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ISON  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STARRED IN FILMS GROSSING $5 BILLION, SECOND ONLY TO SAMUEL L. JACK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97000" y="4267080"/>
            <a:ext cx="8550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D  PEOPLE  MAGAZINE'S  "SEXIEST  MAN  ALIV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66720" y="761760"/>
            <a:ext cx="78105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PLAYED SPECIAL AGENT LEROY JETHRO GIBBS ON TV SINCE 200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247680" y="762120"/>
            <a:ext cx="8648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CTOR TO PORTRAY JAMES BOND IN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PLAYED IMF AGENT ETHAN HUNT IN 6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43000" y="762120"/>
            <a:ext cx="8658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PLAYED SEVERAL CHARACTERS WHO HAVE SAVED THE WORLD, INCLUDING NEO, JOHNNY MNEMONIC,    AND JOHN CONSTANT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81000" y="761760"/>
            <a:ext cx="7182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USED TO BE MARRIED TO JENNIFER ANISTON AND ANGELINA JOLIE (NOT AT THE SAME TIME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4360" y="761760"/>
            <a:ext cx="8315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S IN "MALCOLM X" AND "THE HURRICA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83680" y="762120"/>
            <a:ext cx="8574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LIVING ACTOR WHO HAS BEEN NOMINATED FOR ACADEMY AWARDS IN 6 DIFFERENT CATEGO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7:38:12Z</dcterms:created>
  <dc:creator>Jennifer Budzinski</dc:creator>
  <dc:description/>
  <dc:language>en-US</dc:language>
  <cp:lastModifiedBy>Erich Friedman</cp:lastModifiedBy>
  <dcterms:modified xsi:type="dcterms:W3CDTF">2020-08-31T14:00:24Z</dcterms:modified>
  <cp:revision>424</cp:revision>
  <dc:subject/>
  <dc:title>Slide 1</dc:title>
</cp:coreProperties>
</file>