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C822-56CF-4801-8E73-AA4E7761F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464A-8BF1-43AA-9075-E12055B6D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10AD-6FA9-485E-AECA-74FD2FBC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8642-2512-4623-AFEF-14C29F0D3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C0FE-8856-40D4-9ED0-A82D265D9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9870-E3A8-430E-91C2-301553DEE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6B12-EBD9-495E-A5C0-195EE2A2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4E1C-D752-48D0-A247-F3A7428C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9DDA-5C2E-4E88-8914-00F3BAAD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E148-EB69-4C10-A0FB-99AFE0573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175C-7BF2-43AF-BF43-7685DD2C7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7364-D5FC-46DC-8CFC-F7B21D1CB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4978-5C00-466B-AAAA-A43C172C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E7F7-0D8B-4051-A0BB-764D74597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4A3-0705-4299-A06D-C64550365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EB99-B176-4D96-B34B-D21BF74C8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1F2F-2F85-4DE0-B66C-5CBA1BF2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C031-6986-4615-9E27-978D66A26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4423-EDB2-46D7-B023-D3FE10FAB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FD3D-2597-43BD-B813-552FEC982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C90B-8BBF-4E5D-ACB3-A3281F3E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C86E-2C9F-4931-9D9E-EF21D6979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8F0F-0F6F-4269-8049-6EE0E113F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81200" y="1523880"/>
            <a:ext cx="758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FILMS GROSSING $5 BILLION, SECOND ONLY TO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RECTED AND PRODUCED "THE PASSION OF THE CHR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HAR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PECIAL AGENT LEROY JETHRO GIBBS ON TV SINCE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N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43000" y="762120"/>
            <a:ext cx="8656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IMF AGENT ETHAN HUNT IN 6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ANU  RE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97000" y="762120"/>
            <a:ext cx="8550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EVERAL CHARACTERS WHO HAVE SAVED THE WORLD, INCLUDING NEO, JOHNNY MNEMONIC,   AND JOHN CONSTANT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8640" y="762120"/>
            <a:ext cx="714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SED TO BE MARRIED TO JENNIFER ANISTON AND ANGELINA JOLIE (NOT AT THE SAME TIM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MALCOLM X" AND "THE HURRIC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RECTED AND PRODUCED "THE PASSION OF THE CHR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LIVING ACTOR WHO HAS BEEN NOMINATED FOR ACADEMY AWARDS IN 6 DIFFERENT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TARRED IN FILMS GROSSING $5 BILLION, SECOND ONLY TO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97000" y="4267080"/>
            <a:ext cx="855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D  PEOPLE  MAGAZINE'S  "SEXIEST  MAN  AL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PECIAL AGENT LEROY JETHRO GIBBS ON TV SINCE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47680" y="762120"/>
            <a:ext cx="864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IMF AGENT ETHAN HUNT IN 6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43000" y="762120"/>
            <a:ext cx="86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SEVERAL CHARACTERS WHO HAVE SAVED THE WORLD, INCLUDING NEO, JOHNNY MNEMONIC,    AND JOHN CONSTANT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SED TO BE MARRIED TO JENNIFER ANISTON AND ANGELINA JOLIE (NOT AT THE SAME TIM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MALCOLM X" AND "THE HURRIC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LIVING ACTOR WHO HAS BEEN NOMINATED FOR ACADEMY AWARDS IN 6 DIFFERENT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4:00:24Z</dcterms:modified>
  <cp:revision>424</cp:revision>
  <dc:subject/>
  <dc:title>Slide 1</dc:title>
</cp:coreProperties>
</file>