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F7B5-BA1F-439A-A641-085E6DCAF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0C7C-2970-466C-BBE7-B6C01A5E4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92E8-3CDA-457C-9A39-CDFEA1DCC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4AA9-B057-4A32-BF6A-BE13E37D2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6E5E-17A1-435B-8C71-3B1850068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4DD0-CBF5-487C-8CBA-C0F55A252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9CF8-FFD8-4897-A2B7-D8F5CB7EB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39F7-8AAC-4A6C-A8C7-8B315039F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9605-66C4-48F4-BAB5-4486FE354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10CE-D5F5-40E1-B0D8-626647C01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ABAA-27A2-4C1E-B7C8-24F95CD58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66AD-C889-4385-8167-9833E31B4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9F83-2FF4-4F87-B63C-10895F4D5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791D-39AA-4904-AD3D-809280AA5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1B3A-768B-44AB-A850-CB891B955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BE09-508A-4544-99F6-ED8E4FC96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3B86-A036-4C23-AFAA-40FDBD708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5EA9-7691-4239-A022-D3E49BDD1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E06B-7931-4AD1-B4D1-02DA309F9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2C52-CFB7-429E-8AF8-F0FA52319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FDDB-E5AA-4134-896A-7E03AA9E9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BF36-8B8A-44F4-876E-3A665A4B2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A1FC-A24E-4974-ADF4-B6B067D82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81200" y="1523880"/>
            <a:ext cx="7581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14480" y="761760"/>
            <a:ext cx="7113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STARRED IN FILMS GROSSING $5 BILLION, SECOND ONLY TO SAMUEL L. JACK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409760" y="4876920"/>
            <a:ext cx="6324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  GIB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33480" y="762120"/>
            <a:ext cx="727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DIRECTED AND PRODUCED "THE PASSION OF THE CHR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HAR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SPECIAL AGENT LEROY JETHRO GIBBS ON TV SINCE 200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N  CONN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43000" y="762120"/>
            <a:ext cx="8656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CTOR TO PORTRAY JAMES BOND IN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CRU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03280" y="762120"/>
            <a:ext cx="81374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IMF AGENT ETHAN HUNT IN 6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ANU  REE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97000" y="762120"/>
            <a:ext cx="8550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SEVERAL CHARACTERS WHO HAVE SAVED THE WORLD, INCLUDING NEO, JOHNNY MNEMONIC,   AND JOHN CONSTANT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D  P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8640" y="762120"/>
            <a:ext cx="7145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USED TO BE MARRIED TO JENNIFER ANISTON AND ANGELINA JOLIE (NOT AT THE SAME TIM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ZEL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MALCOLM X" AND "THE HURRIC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DIRECTED AND PRODUCED "THE PASSION OF THE CHRI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CL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85840" y="762120"/>
            <a:ext cx="8572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LIVING ACTOR WHO HAS BEEN NOMINATED FOR ACADEMY AWARDS IN 6 DIFFERENT CATEGO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ISON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STARRED IN FILMS GROSSING $5 BILLION, SECOND ONLY TO SAMUEL L. JACK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97000" y="4267080"/>
            <a:ext cx="8550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D  PEOPLE  MAGAZINE'S  "SEXIEST  MAN  ALIV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SPECIAL AGENT LEROY JETHRO GIBBS ON TV SINCE 200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47680" y="762120"/>
            <a:ext cx="8648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CTOR TO PORTRAY JAMES BOND IN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IMF AGENT ETHAN HUNT IN 6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43000" y="762120"/>
            <a:ext cx="8658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SEVERAL CHARACTERS WHO HAVE SAVED THE WORLD, INCLUDING NEO, JOHNNY MNEMONIC,    AND JOHN CONSTANT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81000" y="761760"/>
            <a:ext cx="718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USED TO BE MARRIED TO JENNIFER ANISTON AND ANGELINA JOLIE (NOT AT THE SAME TIM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MALCOLM X" AND "THE HURRICA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83680" y="762120"/>
            <a:ext cx="8574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LIVING ACTOR WHO HAS BEEN NOMINATED FOR ACADEMY AWARDS IN 6 DIFFERENT CATEGO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4:00:24Z</dcterms:modified>
  <cp:revision>424</cp:revision>
  <dc:subject/>
  <dc:title>Slide 1</dc:title>
</cp:coreProperties>
</file>