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7D6B-93A5-4F4B-97BE-115CC99EE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187E-5772-4368-BA2B-18D28925C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0D45-A79E-4CEA-91FD-EA5B47E99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58C5-D556-43F4-ACB2-74C3A8329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B82A-EFCF-43B7-8D5D-6F0D8284C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1491-EA96-4092-AAB2-834945101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E35C-ABEB-4DC0-A4EB-24AC3643E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D3CF-569E-479C-976A-C6B734888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74AF-18E9-4264-988E-1BF755656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460C-7B6B-41B8-938C-8F8DE18ED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F7F5-4A34-4D3C-ABFF-15A94BD68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3108-EFF2-400A-8E0A-D6413E767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3C02-6B5A-4EFB-8CF2-75891A482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4B8F-5B9A-4233-8410-7AFA30529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2A17-E943-4525-8767-0574FA570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E174-C309-43BB-B04B-281BD3C24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9A90-F297-4727-87E7-C5B6881B0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B75D-2350-4619-8054-547778D08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C04B-005E-4D92-910D-86DBD310F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18DB-696A-49F0-8092-B9D03CDA3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6213-2381-4659-BF8D-227D6120C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5CB6-F37B-4850-A365-4535434A6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6D00-3C48-4039-B5DD-8C88B941C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75800" y="761760"/>
            <a:ext cx="758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CALVIN COOLIDGE, GEORGE STEINBRENNER, ANN LANDERS, AND 0.3% OF ALL PEOPLE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0160" y="762120"/>
            <a:ext cx="7483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IS PLAYED AT MILITARY FUNER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HN)  L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BLACK MAN TO HAVE WON AN EGOT (EMMY, GRAMMY, OSCAR, AND TON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W  GOOD  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72960" y="762120"/>
            <a:ext cx="839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MORE THAN 200 YEARS, THE U.S. MARINES HAVE BEEN USING THE SLOGAN "WE'RE LOOKING FOR A ___ ___ 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NO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60520" y="762120"/>
            <a:ext cx="8022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IANT FLOWER IS A STATE SYMBOL IN BOTH LOUISIANA AND MISSISSIPP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  ON  THE  FLYING  TRAPE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3980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N OLD SONG, SIGNOR BONA SLANG IS THE NAME OF WHAT "DARING YOUNG" PERFORMER WHO FLIES THROUGH THE AIR WITH THE GREATEST OF E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KY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98320" y="762120"/>
            <a:ext cx="7947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ORSE MYTHOLOGY, WHAT SORT OF CREATURE TAKES HALF OF THOSE WHO DIE IN BATTLE TO VALHAL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95280" y="4876920"/>
            <a:ext cx="6553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  OF  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38280" y="762120"/>
            <a:ext cx="78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F LEPPARD #1 SONG WAS INSPIRED BY THE HYMN OF THE SAME NAME, AFTER A HYMN BOOK WAS LEFT IN THEIR RECORDING STUD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89120" y="762120"/>
            <a:ext cx="756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IS PLAYED AT MILITARY FUNER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UM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77920" y="762120"/>
            <a:ext cx="8588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1911, 1932, 1959, AND 1999 FILMS, THE LAST OF WHICH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SUPERNATURAL TRILOGY STARRING BRENDAN FRAS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N  ON  THE  FOURTH  OF  J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14320" y="762120"/>
            <a:ext cx="7515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CALVIN COOLIDGE, GEORGE STEINBRENNER, ANN LANDERS, AND 0.3% OF ALL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47640" y="480060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TOM  CRUISE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BLACK MAN TO HAVE WON AN EGOT (EMMY, GRAMMY, OSCAR, AND TONY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MORE THAN 200 YEARS, THE U.S. MARINES HAVE BEEN USING THE SLOGAN "WE'RE LOOKING FOR A ___ ___ 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66640" y="762120"/>
            <a:ext cx="8010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IANT FLOWER IS A STATE SYMBOL IN BOTH LOUISIANA AND MISSISSIPP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N OLD SONG, SIGNOR BONA SLANG IS THE NAME OF WHAT "DARING YOUNG" PERFORMER WHO FLIES THROUGH THE AIR WITH THE GREATEST OF EAS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5280" y="761760"/>
            <a:ext cx="8893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ORSE MYTHOLOGY, WHAT SORT OF CREATURE TAKES HALF OF THOSE WHO DIE IN BATTLE TO VALHAL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F LEPPARD #1 SONG WAS INSPIRED BY THE HYMN OF THE SAME NAME, AFTER A HYMN BOOK WAS LEFT IN THEIR RECORDING STUD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44080" y="762120"/>
            <a:ext cx="8653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1911, 1932, 1959, AND 1999 FILMS, THE LAST OF WHICH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SUPERNATURAL TRILOGY STARRING BRENDAN FRAS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0-08-31T16:31:29Z</dcterms:modified>
  <cp:revision>387</cp:revision>
  <dc:subject/>
  <dc:title>Slide 1</dc:title>
</cp:coreProperties>
</file>