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0515-E957-4747-B9C6-0318A6078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9CC2-338F-4A25-AFAC-B651E96E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223A-CB85-446F-9380-6BDE694E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6D06-CE76-4967-9A22-DC7976F53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2E59-0A10-482B-80C5-91306666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4B05-857F-4FF8-957D-799E57CA9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8593-4F6F-4DB5-9FF3-83B79B16E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FD13-919E-4B27-A02B-95E62C6D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C8D-FD3E-401C-99A9-0823CE032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3A4B-17B8-43A9-BDE4-0E2418B8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B9F6-5448-499C-94DB-BF4260C5D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0A97-4AE8-42A9-8D3E-839B318BB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DB50-4F1E-4647-B860-9F618342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71BA-05CE-4C58-B872-42850386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7180-9025-4576-A653-D6874107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6F8F-5F1D-4FB6-B6DA-D84AAF46D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0D0-93ED-45D9-9EBA-3805AA52B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2A6-7EB0-4A45-B4FB-964631AC4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F95-8A91-44B4-B0AE-75AB93C7C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4134-7A87-4629-A728-E7EDE8B36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1494-A8D3-42F3-A145-6E755C85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6C55-51A1-4480-8FDF-D3FEDEC2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A45A-7798-49C6-A9E7-4710ECA0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75800" y="761760"/>
            <a:ext cx="758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CALVIN COOLIDGE, GEORGE STEINBRENNER, ANN LANDERS, AND 0.3% OF ALL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0160" y="762120"/>
            <a:ext cx="748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PLAYED AT MILITARY FUN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L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LACK MAN TO HAVE WON AN EGOT (EMMY, GRAMMY, OSCAR, AND TON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W  GOO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72960" y="762120"/>
            <a:ext cx="839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RE THAN 200 YEARS, THE U.S. MARINES HAVE BEEN USING THE SLOGAN "WE'RE LOOKING FOR A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NO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60520" y="762120"/>
            <a:ext cx="8022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 IS A STATE SYMBOL IN BOTH LOUISIANA AND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FLYING  TRAPE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N OLD SONG, SIGNOR BONA SLANG IS THE NAME OF WHAT "DARING YOUNG" PERFORMER WHO FLIES THROUGH THE AIR WITH THE GREATEST OF 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KY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8320" y="762120"/>
            <a:ext cx="794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RSE MYTHOLOGY, WHAT SORT OF CREATURE TAKES HALF OF THOSE WHO DIE IN BATTLE TO VALHAL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OF  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F LEPPARD #1 SONG WAS INSPIRED BY THE HYMN OF THE SAME NAME, AFTER A HYMN BOOK WAS LEFT IN THEIR RECORDING ST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PLAYED AT MILITARY FUN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UM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77920" y="762120"/>
            <a:ext cx="858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1911, 1932, 1959, AND 1999 FILMS, THE LAST OF WHICH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UPERNATURAL TRILOGY STARRING BRENDAN F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ON  THE  FOURTH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4320" y="762120"/>
            <a:ext cx="751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CALVIN COOLIDGE, GEORGE STEINBRENNER, ANN LANDERS, AND 0.3% OF ALL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00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OM  CRUIS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LACK MAN TO HAVE WON AN EGOT (EMMY, GRAMMY, OSCAR, AND TON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RE THAN 200 YEARS, THE U.S. MARINES HAVE BEEN USING THE SLOGAN "WE'RE LOOKING FOR A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 IS A STATE SYMBOL IN BOTH LOUISIANA AND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N OLD SONG, SIGNOR BONA SLANG IS THE NAME OF WHAT "DARING YOUNG" PERFORMER WHO FLIES THROUGH THE AIR WITH THE GREATEST OF E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280" y="761760"/>
            <a:ext cx="889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RSE MYTHOLOGY, WHAT SORT OF CREATURE TAKES HALF OF THOSE WHO DIE IN BATTLE TO VALHAL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F LEPPARD #1 SONG WAS INSPIRED BY THE HYMN OF THE SAME NAME, AFTER A HYMN BOOK WAS LEFT IN THEIR RECORDING STU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44080" y="762120"/>
            <a:ext cx="8653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1911, 1932, 1959, AND 1999 FILMS, THE LAST OF WHICH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UPERNATURAL TRILOGY STARRING BRENDAN FRAS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0-08-31T16:31:29Z</dcterms:modified>
  <cp:revision>387</cp:revision>
  <dc:subject/>
  <dc:title>Slide 1</dc:title>
</cp:coreProperties>
</file>