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8AAE-167A-4320-88BD-C473AF88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3EEF-397A-4589-8476-F4B0985B5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9096-8732-4BA2-8637-CCF5D741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324E-69A8-49BE-9406-ECA0720BA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BFC8-F3AC-4A2E-9BFE-928835ED2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97D9-3936-4C8B-83FB-9D7B5576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D83B-178C-4F50-B193-7B2C89FE2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8DE-AE97-457A-BC43-7B93A6647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9DAC-E78A-41DC-9195-E732C04C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1475-141F-4A23-8720-48F6F58D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DD00-0F13-4BA9-BF59-A9353836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965-24D1-4589-94F5-D3B0BBDB5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2BB-989C-4F11-8E74-95A493BD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7755-D5A0-4751-AE15-F8B8E341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4BF-BE95-466E-A87B-925EC139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6EEB-D985-462F-A92C-9B1C97CC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E3E3-C730-4EA4-8BA1-351CD1B4B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A14C-A471-4DF5-8398-F12CF84A3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406E-EC57-46E8-B4B6-0DB0441AC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848-A43B-4BB9-961B-1185BE42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52CF-3B7A-43E2-A857-8133EBC6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690-869A-4EEA-AE08-A579251BC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6553-BD28-4EF2-9225-93D9D6EB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5800" y="761760"/>
            <a:ext cx="758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0160" y="762120"/>
            <a:ext cx="748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2960" y="762120"/>
            <a:ext cx="839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60520" y="762120"/>
            <a:ext cx="8022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FLYING  TRAPE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KY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8320" y="762120"/>
            <a:ext cx="794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OF  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9120" y="762120"/>
            <a:ext cx="756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PLAYED AT MILITARY FUN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M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77920" y="762120"/>
            <a:ext cx="858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N  THE  FOURTH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CALVIN COOLIDGE, GEORGE STEINBRENNER, ANN LANDERS, AND 0.3% OF ALL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OM  CRUIS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LACK MAN TO HAVE WON AN EGOT (EMMY, GRAMMY, OSCAR, AND TON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MORE THAN 200 YEARS, THE U.S. MARINES HAVE BEEN USING THE SLOGAN "WE'RE LOOKING FOR A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IANT FLOWER IS A STATE SYMBOL IN BOTH LOUISIANA AND MISSISSIPP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AN OLD SONG, SIGNOR BONA SLANG IS THE NAME OF WHAT "DARING YOUNG" PERFORMER WHO FLIES THROUGH THE AIR WITH THE GREATEST OF E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280" y="761760"/>
            <a:ext cx="889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RSE MYTHOLOGY, WHAT SORT OF CREATURE TAKES HALF OF THOSE WHO DIE IN BATTLE TO VALHA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F LEPPARD #1 SONG WAS INSPIRED BY THE HYMN OF THE SAME NAME, AFTER A HYMN BOOK WAS LEFT IN THEIR RECORDING STU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4080" y="762120"/>
            <a:ext cx="8653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1911, 1932, 1959, AND 1999 FILMS, THE LAST OF WHICH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UPERNATURAL TRILOGY STARRING BRENDAN FRAS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1T16:31:29Z</dcterms:modified>
  <cp:revision>387</cp:revision>
  <dc:subject/>
  <dc:title>Slide 1</dc:title>
</cp:coreProperties>
</file>