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6FEF-0E49-4ACE-BB20-F4EFED23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AF75-2C08-4B90-82DA-B56FA2FC2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CD97-F25E-42C6-895F-9A1E47449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72A4-E3AA-4728-908F-89F0C35C6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C0A2-21B0-465F-83DC-AB74EBE3B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6117-26D4-4E71-8F43-7165B8E7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9FA2-0BE1-4C0B-89C3-9A6D7A22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3683-FB5A-4691-BF97-CA8ED291F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C8BB-11D5-441B-8F7E-31664A91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8726-5F85-4F3D-AC0A-55CD1681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5D4F-6368-477B-B0AF-8E6EC521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5E1C-E871-4B92-9F50-3D3EDA5F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9105-6A06-4403-A31A-68EA9386F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F4C8-3F15-41D7-93F8-6606C39E6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73B0-6355-4278-868E-B1D34C831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8314-98DF-43FB-8E83-EFB58B72D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5377-2B78-44DA-88D6-A19C4B9C5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EA86-6C02-45E0-89DE-AD50D842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D6DB-3C36-4C8F-B57E-AFE9E1F48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9D02-996D-4244-AA97-FA7534628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1ADEB-5EEE-48BB-967D-7BF0B8563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A7B0-11F6-427A-BA80-970DE621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2F2C-758A-4694-8FDE-DB57A8C84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80960" y="762120"/>
            <a:ext cx="818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92000" y="762120"/>
            <a:ext cx="7560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39560" y="762120"/>
            <a:ext cx="826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838080" y="4892760"/>
            <a:ext cx="74678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80880" y="4878360"/>
            <a:ext cx="5370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HILIP  J.)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903240"/>
            <a:ext cx="5486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SAUCE, FILLING, OR COVERING OF A W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38280" y="762120"/>
            <a:ext cx="7867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LSH RAREBIT IS ESSENTIALLY CHEESE-COVE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WORD  "FRENC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67960" y="761760"/>
            <a:ext cx="74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DID GENE SIMMONS PLAY BA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0840" y="762120"/>
            <a:ext cx="830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YOU ASK ME FOR A CONTRIBUTION, WELL YOU KNOW, WE'RE DOING WHAT WE C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MOST OF THE WORLD'S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2120"/>
            <a:ext cx="535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AND NICKNAME OF THIS "FUTURAMA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6172200" y="609480"/>
            <a:ext cx="237960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BORDERS VENEZUELA, BRAZIL, AND SURI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WAN ATKINSON PLAYED THE TITLE ROLE IN WHAT FILM, BASED ON A BRITISH TV SHOW HE ALSO STAR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ROCK GROUP SANG "MAKE IT WITH YOU" AND "BABY I'M-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1:47Z</dcterms:modified>
  <cp:revision>449</cp:revision>
  <dc:subject/>
  <dc:title>Slide 1</dc:title>
</cp:coreProperties>
</file>