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3210-173B-4A63-8AB4-786398ED8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B4A5-3F9F-4F3B-98B8-76A215A96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E22-8E85-4190-B7CF-A04318F23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C1D0-5D44-4A2D-B1C2-E2A8D44B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6FC1-469D-4A82-AE66-5C633D84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19B9-ED0C-44FA-A216-40D89F3C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69D7-F35B-45F4-BC36-0F4953C5B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83F-06E5-434D-BC9B-06BE61AE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E1A-65EB-4626-99DB-AE17ECE0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58F4-1AB4-4D1E-84D8-902110818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FF2F-78E6-4621-B0E7-70AF6E52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519B-9AD5-44A1-B588-0B6D324EF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01C-A18B-42AB-991D-8B114023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93C-EFDA-4C3B-AE75-AD358EBB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83E2-4870-4997-9E18-6EDF63C7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334-11C0-4042-86C5-031FCE61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92B-5594-4EE5-A333-01B3C416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A304-FB53-4F73-B7A8-E7390518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4F8-245E-4012-BC4A-A3C0B04C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785D-9409-467E-BBC0-CF1A6F172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424F-5819-4B0A-8DFD-454D40E11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924-0EB6-45C1-8290-064865D9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B605-B76B-4743-9E1E-99CCA3D5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LSH RAREBIT IS ESSENTIALLY CHEESE-COVER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80960" y="762120"/>
            <a:ext cx="818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AUCE, FILLING, OR COVERING OF A W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92000" y="762120"/>
            <a:ext cx="756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DID GENE SIMMONS PLAY BAS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39560" y="762120"/>
            <a:ext cx="826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YOU ASK ME FOR A CONTRIBUTION, WELL YOU KNOW, WE'RE DOING WHAT WE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9276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MOST OF THE WORLD'S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80880" y="4878360"/>
            <a:ext cx="537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ILIP  J.)  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28600" y="903240"/>
            <a:ext cx="5486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AND NICKNAME OF THIS "FUTURAMA"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3796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VENEZUELA, BRAZIL, AND SURI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85640" y="762120"/>
            <a:ext cx="817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WAN ATKINSON PLAYED THE TITLE ROLE IN WHAT FILM, BASED ON A BRITISH TV SHOW HE ALSO STAR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AUCE, FILLING, OR COVERING OF A W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38280" y="762120"/>
            <a:ext cx="7867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ROCK GROUP SANG "MAKE IT WITH YOU" AND "BABY I'M-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LSH RAREBIT IS ESSENTIALLY CHEESE-COVER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WORD  "FRENC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67960" y="761760"/>
            <a:ext cx="74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DID GENE SIMMONS PLAY BAS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0840" y="762120"/>
            <a:ext cx="830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YOU ASK ME FOR A CONTRIBUTION, WELL YOU KNOW, WE'RE DOING WHAT WE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MOST OF THE WORLD'S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535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AND NICKNAME OF THIS "FUTURAMA"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379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VENEZUELA, BRAZIL, AND SURI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WAN ATKINSON PLAYED THE TITLE ROLE IN WHAT FILM, BASED ON A BRITISH TV SHOW HE ALSO STAR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ROCK GROUP SANG "MAKE IT WITH YOU" AND "BABY I'M-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1:47Z</dcterms:modified>
  <cp:revision>449</cp:revision>
  <dc:subject/>
  <dc:title>Slide 1</dc:title>
</cp:coreProperties>
</file>