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2599-F50F-446E-BE91-CD56D8937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B0CA-9C9A-4BD4-B0FB-7B94BD493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1EE5-3B2E-4136-BF16-9A3EB4EA3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542F-7DF7-40E7-BCD4-BC532A6AA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385D-D857-4433-8C81-2DC84A017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57B0-1F5A-4592-88E9-0A9859071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E3B1-22BD-4451-948F-653B709E3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5025-3289-44A4-ACAC-AC657C569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CAE5-D0F9-4487-AD04-6A9EDBCCA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4B33-51F7-4025-831D-FFE37FDF7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14E9-1E6A-4561-93ED-BA8857BEB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C0EF-B070-4DC0-80A4-BDD80DEDA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5778-249D-4E4F-AF4B-9B7B3121C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03C5-773A-4437-89A1-FE4B9B020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01DE-DB96-45F3-88F2-CE0062C3C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64C7-BC22-4DD1-8E79-DA6CC31FC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2274-1E74-4442-A18F-29BB3B7CE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B30B-A6A8-498A-B498-ACE36D25B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A3D3-FD41-4EBC-9A3E-CE369550A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D5AC-C5D6-431E-94BA-8C08ADC7D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E6C2-DFBC-476D-A6E8-73FF0E0F9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DD99-E835-4D90-A9FE-F3B77BB26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B39E-7F90-4A2F-B3F2-0FE962382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LSH RAREBIT IS ESSENTIALLY CHEESE-COVER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E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80960" y="762120"/>
            <a:ext cx="8182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SAUCE, FILLING, OR COVERING OF A WOU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792000" y="762120"/>
            <a:ext cx="7560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DID GENE SIMMONS PLAY BASS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39560" y="762120"/>
            <a:ext cx="8264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THE LYRICS "YOU ASK ME FOR A CONTRIBUTION, WELL YOU KNOW, WE'RE DOING WHAT WE C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838080" y="4892760"/>
            <a:ext cx="74678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87948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PERATING SYSTEM RUNS ON MOST OF THE WORLD'S COMPU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80880" y="4878360"/>
            <a:ext cx="5370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PHILIP  J.)  F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228600" y="903240"/>
            <a:ext cx="5486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AND NICKNAME OF THIS "FUTURAMA"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379600" cy="426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Y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52440" y="762120"/>
            <a:ext cx="8439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BORDERS VENEZUELA, BRAZIL, AND SURI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85640" y="762120"/>
            <a:ext cx="8172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WAN ATKINSON PLAYED THE TITLE ROLE IN WHAT FILM, BASED ON A BRITISH TV SHOW HE ALSO STARRED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33320" y="762120"/>
            <a:ext cx="7677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SAUCE, FILLING, OR COVERING OF A WOU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38280" y="762120"/>
            <a:ext cx="7867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FT ROCK GROUP SANG "MAKE IT WITH YOU" AND "BABY I'M-A WANT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LSH RAREBIT IS ESSENTIALLY CHEESE-COVER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604880" y="4343400"/>
            <a:ext cx="5934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WORD  "FRENCH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67960" y="761760"/>
            <a:ext cx="7405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DID GENE SIMMONS PLAY BASS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20840" y="762120"/>
            <a:ext cx="8300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THE LYRICS "YOU ASK ME FOR A CONTRIBUTION, WELL YOU KNOW, WE'RE DOING WHAT WE C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31880" y="762120"/>
            <a:ext cx="7678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PERATING SYSTEM RUNS ON MOST OF THE WORLD'S COMPU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95200" y="762120"/>
            <a:ext cx="535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AND NICKNAME OF THIS "FUTURAMA" CHARAC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3796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71520" y="761760"/>
            <a:ext cx="840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BORDERS VENEZUELA, BRAZIL, AND SURI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47840" y="762120"/>
            <a:ext cx="824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WAN ATKINSON PLAYED THE TITLE ROLE IN WHAT FILM, BASED ON A BRITISH TV SHOW HE ALSO STARRED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1200" y="762120"/>
            <a:ext cx="79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FT ROCK GROUP SANG "MAKE IT WITH YOU" AND "BABY I'M-A WANT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31:47Z</dcterms:modified>
  <cp:revision>449</cp:revision>
  <dc:subject/>
  <dc:title>Slide 1</dc:title>
</cp:coreProperties>
</file>