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9B0-5BDF-4DCC-9660-1622FF0F7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FF31-CA11-4114-AE49-574D4304E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4D3C-B6BA-4219-AEEE-1FDFEE990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FF44-87BB-4B81-8923-FD15524A5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FCD8-E4C3-4C28-88C0-86ABCE461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EB68-20EC-4EFC-B9DE-BCC9C7DDC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8F9C-5EAB-47C8-B473-2C3A9EB5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76E3-AC07-4774-92DA-0FA8860DB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A7AD-4D74-4F7B-A809-5B9B9BDD7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4CC9-0FF8-4EB1-9970-1461CC27A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7CBC-EF93-431C-9C7E-2AD9EB7C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E987-A676-4A62-AD0F-2A1C3467C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AB59-C933-4BE9-957D-B35B3958D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8D1D-1495-423F-85E4-8EDECC5D5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F506-4716-4CA8-B065-0AED82E85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3F7B-8421-48C4-AC23-B3D957EB5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CF56-98C6-4279-8C37-34798EA1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9238-7329-4216-9F52-876E8F193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B9D2-2DE3-4BE5-9BCD-424E84E61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A7B42-E29D-40F1-8E60-6AA486FBA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86E4-9811-40C1-8BDE-B9F59DA6F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780E-607A-4FB9-83DF-D4FA8E7D6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3895-19C2-4F41-BBA0-8B6EFB738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123920" y="762120"/>
            <a:ext cx="6896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ALSO KNOWN AS "ALL SAINTS' DAY" OR "ALL ____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IMPERIAL UNIT IS EQUAL TO 14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CRIME FILM STARRING GENE HACKMAN AND CHRIS O'DONNELL IS BASED ON A 1994 JOHN GRISHAM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18960" y="762120"/>
            <a:ext cx="850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SO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ABOUT THE ABDUCTION AND SEARCH FOR 2 GIRLS STARRED HUGH JACKMAN, JAKE GYLLENHAAL, AND VIOLA DAV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23960" y="685800"/>
            <a:ext cx="7696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CONTAINS THE LYRICS "OH!  MOVE OVER, ROVER, AND LET JIMI TAKE O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14400" y="762120"/>
            <a:ext cx="7315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"CLASS" AND "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CAPITAL WITH A POPULATION OF OVER 1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85640" y="762120"/>
            <a:ext cx="8172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IMPERIAL UNIT IS EQUAL TO 14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52280" y="838080"/>
            <a:ext cx="44769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CHANGED HIS NAME TO THIS SYMB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43120" cy="38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OWS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ALSO KNOWN AS "ALL SAINTS' DAY" OR "ALL ____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066680" y="4267080"/>
            <a:ext cx="7010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ITLES  OF  HARRY  POTTER  BOOK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CRIME FILM STARRING GENE HACKMAN AND CHRIS O'DONNELL IS BASED ON A 1994 JOHN GRISHAM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ABOUT THE ABDUCTION AND SEARCH FOR 2 GIRLS STARRED HUGH JACKMAN, JAKE GYLLENHAAL, AND VIOLA DAV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CONTAINS THE LYRICS "OH!  MOVE OVER, ROVER, AND LET JIMI TAKE O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"CLASS" AND "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CAPITAL WITH A POPULATION OF OVER 1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86840" y="872640"/>
            <a:ext cx="4419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CHANGED HIS NAME TO THIS SYMB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105520" y="533520"/>
            <a:ext cx="3543120" cy="3873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7:21:53Z</dcterms:created>
  <dc:creator>Jennifer Budzinski</dc:creator>
  <dc:description/>
  <dc:language>en-US</dc:language>
  <cp:lastModifiedBy>Erich Friedman</cp:lastModifiedBy>
  <dcterms:modified xsi:type="dcterms:W3CDTF">2020-08-31T16:32:08Z</dcterms:modified>
  <cp:revision>416</cp:revision>
  <dc:subject/>
  <dc:title>Slide 1</dc:title>
</cp:coreProperties>
</file>