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C607-D66A-4870-8D74-99F8F5A56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40EF-506B-4C2E-A2D9-88E36A7D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1DE2-8064-4399-ACA4-DA27A638C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C004-2D69-4BE9-A0C3-F79010303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AA19-2C66-4EE9-AFC7-294EE2EE8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063B-49C3-44BF-A252-09DDDD7A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D012-FD6D-490E-9AAD-B29EFC99C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0C62-56C7-4870-A45D-5761D13C1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203F-7F52-436E-8588-F0ED1345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4698-5452-4B2F-ADEC-BD85F748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BAC3-FCEC-43F5-B1B1-FF77A118D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E219-90B4-4856-8733-F9A91C319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E03E-2C46-48BC-B694-DB2D7741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40D1-6017-4A9E-A736-6796B1A1E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9CEA-A532-4F40-A7DA-C0FF58A5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3E2-8DA7-4D58-BA99-2DF1F659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91FD-B85D-4DB5-9E3B-540C96D47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321F-FC3C-4D86-B5B4-65133A2C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B84A-5E82-4B6A-9FC0-942E10900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57F-564B-4AC8-8428-27BCD175D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D084-28B7-4A4D-89E5-3EE1E528F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93D4-CB40-4E6B-94C8-874479F59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1FA2-620C-435C-9D89-30A2615A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LSO KNOWN AS "ALL SAINTS' DAY" OR "ALL ____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IMPERIAL UNIT IS EQUAL TO 14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CRIME FILM STARRING GENE HACKMAN AND CHRIS O'DONNELL IS BASED ON A 1994 JOHN GRISHAM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18960" y="762120"/>
            <a:ext cx="850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SO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ABOUT THE ABDUCTION AND SEARCH FOR 2 GIRLS STARRED HUGH JACKMAN, JAKE GYLLENHAAL, AND VIOLA DAV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23960" y="68580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CONTAINS THE LYRICS "OH!  MOVE OVER, ROVER, AND LET JIMI TAKE O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14400" y="762120"/>
            <a:ext cx="7315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"CLASS" AND "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WITH A POPULATION OF OVER 1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85640" y="762120"/>
            <a:ext cx="8172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IMPERIAL UNIT IS EQUAL TO 14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52280" y="838080"/>
            <a:ext cx="44769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CHANGED HIS NAME TO THIS SYMB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43120" cy="38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S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LSO KNOWN AS "ALL SAINTS' DAY" OR "ALL ____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066680" y="4267080"/>
            <a:ext cx="7010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ITLES  OF  HARRY  POTTER  BOOK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CRIME FILM STARRING GENE HACKMAN AND CHRIS O'DONNELL IS BASED ON A 1994 JOHN GRISHAM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ABOUT THE ABDUCTION AND SEARCH FOR 2 GIRLS STARRED HUGH JACKMAN, JAKE GYLLENHAAL, AND VIOLA DAV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CONTAINS THE LYRICS "OH!  MOVE OVER, ROVER, AND LET JIMI TAKE O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"CLASS" AND "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WITH A POPULATION OF OVER 1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86840" y="8726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CHANGED HIS NAME TO THIS SYMB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43120" cy="38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7:21:53Z</dcterms:created>
  <dc:creator>Jennifer Budzinski</dc:creator>
  <dc:description/>
  <dc:language>en-US</dc:language>
  <cp:lastModifiedBy>Erich Friedman</cp:lastModifiedBy>
  <dcterms:modified xsi:type="dcterms:W3CDTF">2020-08-31T16:32:08Z</dcterms:modified>
  <cp:revision>416</cp:revision>
  <dc:subject/>
  <dc:title>Slide 1</dc:title>
</cp:coreProperties>
</file>