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6E61-2394-4967-879D-45EE3DE5E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0211-2AF8-4DD9-B065-CB17F3A56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10B5-F82B-4CBC-99B1-C219C6D1D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5A39-7505-4EBF-909B-F459297DD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D7CB-D4CA-4783-AD5B-D3E87A210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1371-B8E8-47CB-83AA-7F8AB6573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D012-ADDD-4BDC-A45B-0830188E4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36B5-CB76-4D17-BA43-F359D0763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9A32-1545-4072-A36E-FCEB90A42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1AEA-37FC-4312-8547-7FE7CC69E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E08E-83A8-483E-8EC2-2A2F4AA23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C318-B1DB-4E76-853D-D1DA1E084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1C80-C66D-440E-9631-7562BA28D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163D-E1F7-4E02-8D69-5DD266A0C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4E4A-A195-493D-BA0B-B071E6FB8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8090-3915-4380-B9DD-A675DA889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3BE2-30E5-4E8F-8694-490D8FC3C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5A88-FC2D-47BF-A8EF-CE6CBEA5F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FBBE-C66B-47E8-BF60-C9556C8CD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B7C0-1B07-4747-8B6B-FE826EB02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B685-F6DE-4756-993E-487CD8139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94BF-1837-48A7-AE92-DA5170EA8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84FC-C25C-4803-A352-0A5558E1E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123920" y="762120"/>
            <a:ext cx="6896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VEMBER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S ALSO KNOWN AS "ALL SAINTS' DAY" OR "ALL ____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IMPERIAL UNIT IS EQUAL TO 14 POU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HA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47800" y="762120"/>
            <a:ext cx="7448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CRIME FILM STARRING GENE HACKMAN AND CHRIS O'DONNELL IS BASED ON A 1994 JOHN GRISHAM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R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318960" y="762120"/>
            <a:ext cx="850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FEMALE DEODORANT, AND THE ONLY ONE NOW SOLD BY PROCTER &amp; GAM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SO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504720" y="762120"/>
            <a:ext cx="8134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3 FILM ABOUT THE ABDUCTION AND SEARCH FOR 2 GIRLS STARRED HUGH JACKMAN, JAKE GYLLENHAAL, AND VIOLA DAV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723960" y="685800"/>
            <a:ext cx="7696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I HENDRIX SONG CONTAINS THE LYRICS "OH!  MOVE OVER, ROVER, AND LET JIMI TAKE O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914400" y="762120"/>
            <a:ext cx="7315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XONOMIC RANK IS BETWEEN "CLASS" AND "FAMI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EN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590400" y="762120"/>
            <a:ext cx="7963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CAPITAL WITH A POPULATION OF OVER 1 MILLION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85640" y="762120"/>
            <a:ext cx="8172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IMPERIAL UNIT IS EQUAL TO 14 POU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152280" y="838080"/>
            <a:ext cx="44769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RIEFLY CHANGED HIS NAME TO THIS SYMB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1"/>
          <a:stretch/>
        </p:blipFill>
        <p:spPr>
          <a:xfrm>
            <a:off x="5105520" y="533520"/>
            <a:ext cx="3543120" cy="387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LOWS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VEMBER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S ALSO KNOWN AS "ALL SAINTS' DAY" OR "ALL ____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066680" y="4267080"/>
            <a:ext cx="7010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S  IN  TITLES  OF  HARRY  POTTER  BOOK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CRIME FILM STARRING GENE HACKMAN AND CHRIS O'DONNELL IS BASED ON A 1994 JOHN GRISHAM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FEMALE DEODORANT, AND THE ONLY ONE NOW SOLD BY PROCTER &amp; GAM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3 FILM ABOUT THE ABDUCTION AND SEARCH FOR 2 GIRLS STARRED HUGH JACKMAN, JAKE GYLLENHAAL, AND VIOLA DAVI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I HENDRIX SONG CONTAINS THE LYRICS "OH!  MOVE OVER, ROVER, AND LET JIMI TAKE OV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XONOMIC RANK IS BETWEEN "CLASS" AND "FAMI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CAPITAL WITH A POPULATION OF OVER 1 MILLION PEO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86840" y="872640"/>
            <a:ext cx="4419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RIEFLY CHANGED HIS NAME TO THIS SYMB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5105520" y="533520"/>
            <a:ext cx="3543120" cy="3873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2T17:21:53Z</dcterms:created>
  <dc:creator>Jennifer Budzinski</dc:creator>
  <dc:description/>
  <dc:language>en-US</dc:language>
  <cp:lastModifiedBy>Erich Friedman</cp:lastModifiedBy>
  <dcterms:modified xsi:type="dcterms:W3CDTF">2020-08-31T16:32:08Z</dcterms:modified>
  <cp:revision>416</cp:revision>
  <dc:subject/>
  <dc:title>Slide 1</dc:title>
</cp:coreProperties>
</file>