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58E7-853B-4B6A-B9DC-662C5D516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2773-CC1D-4229-8843-61F92E2C5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8348-830B-4E97-AE07-C47A40E3E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BE82-888E-40B9-8685-666573AEE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8208-51DD-44C4-BA27-BBCC2B8D4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8ED6-BF81-4A87-A50E-0C74D171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F946-5F0D-4E8B-AB0B-2ACAFB44F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1BE6-D77C-4EC9-BCE4-9B66E0D4B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C3D5-169F-4328-8D1E-B8AF11295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EFBA-B246-449C-9135-24C5EDB5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EA1A-3D9B-4532-87F1-BA72B0F4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B14D-18C9-486A-BE22-B41CDC533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E95A-449F-41DB-885B-9BED7268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B4EF-0D6C-4DFE-B70C-14BE844B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EDEC-72DF-4A56-A43C-BF5AD67CD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CB23-F348-4FA2-A90E-96C5421E8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C81D-D87A-4E99-94B8-1126C7BEB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D334-4332-4D74-A31C-DD37BDA71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C505-4AA5-4158-A68B-3132D592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18A9-50A5-46AE-8B91-50D9D12BF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0EA1-9A1F-40E1-9D14-B0AF76F81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34EC-7D46-4BD4-83A8-9097F06FE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8949-1632-4B72-BD4D-A8E4A3D87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AIDS DEATHS ARE  ON THE DECLINE, WHAT IS THE LEADING CAUSE OF DEATH IN THE DEVELOPING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ING JAMES RODAY AND DULÉ HILL HID A PINEAPPLE IN ALMOST EVERY EPIS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AVORINGS THAT COME FROM SEEDS, ROOTS, OR BARK ARE CALLED SPICES.  WHAT ARE FLAVORINGS THAT COME  FROM LEAV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71600" y="7621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S OF RUSSIA BEFORE 1917 TOOK WHAT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ANG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ANS COMPANY OWNS THE NORTHFACE, JANSPORT, AND LEE BR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TINENT RANKS THIRD BOTH IN NUMBER OF COUNTRIES AND TOTAL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NEMONIC  DE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3560"/>
            <a:ext cx="8153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EXCUSE MY DEAR AUNT SALLY" IS AN EXAMPLE OF WHAT TECHNIQUE TO HELP MEM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N AFRICAN WILDEBE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ING JAMES RODAY AND DULÉ HILL HID A PINEAPPLE IN ALMOST EVERY EPIS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24000" y="762120"/>
            <a:ext cx="849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SS PIECE THAT STARTS IN THE BACK ROW THAT CAN MOVE ON THE FIRST MOVE OF THE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AIDS DEATHS ARE  ON THE DECLINE, WHAT IS THE LEADING CAUSE OF DEATH IN THE DEVELOPING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00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T  WITH  A  SILENT 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AVORINGS THAT COME FROM SEEDS, ROOTS, OR BARK ARE CALLED SPICES.  WHAT ARE FLAVORINGS THAT COME FROM LEAV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S OF RUSSIA BEFORE 1917 TOOK WHAT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ANS COMPANY OWNS THE NORTHFACE, JANSPORT, AND LEE BR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TINENT RANKS THIRD BOTH IN NUMBER OF COUNTRIES AND TOTAL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EXCUSE MY DEAR AUNT SALLY" IS AN EXAMPLE OF WHAT TECHNIQUE TO HELP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N AFRICAN WILDEBE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SS PIECE THAT STARTS IN THE BACK ROW THAT CAN MOVE ON THE FIRST MOVE OF THE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1:29:33Z</dcterms:created>
  <dc:creator>Jennifer Budzinski</dc:creator>
  <dc:description/>
  <dc:language>en-US</dc:language>
  <cp:lastModifiedBy>Erich Friedman</cp:lastModifiedBy>
  <dcterms:modified xsi:type="dcterms:W3CDTF">2020-08-31T16:32:28Z</dcterms:modified>
  <cp:revision>415</cp:revision>
  <dc:subject/>
  <dc:title>Slide 1</dc:title>
</cp:coreProperties>
</file>