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1C58-53EC-4F85-A7FC-61BBAE70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036-AC8E-4955-ABCE-BADC5C87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7CC-4EE7-45F1-BE19-BA141930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74E-9530-4840-9F94-81AB0AE6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000-3D95-4A8A-B175-18895091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8FA3-F71E-453E-BA2B-1C6F9D46F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378-393E-437C-964A-A94E8210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7A8-0DE4-4C9B-885F-453C17C5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C2CA-1613-40FE-95A4-8E25CF2C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2839-B1AD-43C8-9667-099AA6C6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647-2B69-47CF-B21F-BDC22742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0134-608A-4365-876C-54DE4212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CCE4-12D1-45F3-BDE2-C2DCF4BD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7E84-7DAD-4E75-84FA-71B30542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B7E-0B80-4706-8DB8-690C10DD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F0A-5B87-4771-B9C5-4261797A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88B4-37D9-4806-BD11-93FAB046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EC76-878F-4F16-AC38-FD3AF1529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EC2-12AB-4207-A8A0-35349BB9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B6D4-E28F-4651-8A31-40B9AA78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57C-93BD-4684-8A85-5CC26C66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A16-DA7B-48B3-9D5E-985D73AD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BD4B-082F-4B1E-BDC2-984E78C6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AIDS DEATHS ARE  ON THE DECLINE, WHAT IS THE LEADING CAUSE OF DEATH IN THE DEVELOPING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ING JAMES RODAY AND DULÉ HILL HID A PINEAPPLE IN ALMOST EVERY EPIS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VORINGS THAT COME FROM SEEDS, ROOTS, OR BARK ARE CALLED SPICES.  WHAT ARE FLAVORINGS THAT COME  FROM LEAV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S OF RUSSIA BEFORE 1917 TOOK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AN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ANS COMPANY OWNS THE NORTHFACE, JANSPORT, AND LEE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RANKS THIRD BOTH IN NUMBER OF COUNTRIES AND TOT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NEMONIC 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356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EXCUSE MY DEAR AUNT SALLY" IS AN EXAMPLE OF WHAT TECHNIQUE TO HELP MEM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N AFRICAN WILDEBE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ING JAMES RODAY AND DULÉ HILL HID A PINEAPPLE IN ALMOST EVERY EPIS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THAT STARTS IN THE BACK ROW THAT CAN MOVE ON THE FIRST MOVE OF TH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AIDS DEATHS ARE  ON THE DECLINE, WHAT IS THE LEADING CAUSE OF DEATH IN THE DEVELOPING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00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  WITH  A  SILENT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VORINGS THAT COME FROM SEEDS, ROOTS, OR BARK ARE CALLED SPICES.  WHAT ARE FLAVORINGS THAT COME FROM LEAV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S OF RUSSIA BEFORE 1917 TOOK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ANS COMPANY OWNS THE NORTHFACE, JANSPORT, AND LEE BR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RANKS THIRD BOTH IN NUMBER OF COUNTRIES AND TOTAL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EXCUSE MY DEAR AUNT SALLY" IS AN EXAMPLE OF WHAT TECHNIQUE TO HELP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N AFRICAN WILDEBE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THAT STARTS IN THE BACK ROW THAT CAN MOVE ON THE FIRST MOVE OF THE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1:29:33Z</dcterms:created>
  <dc:creator>Jennifer Budzinski</dc:creator>
  <dc:description/>
  <dc:language>en-US</dc:language>
  <cp:lastModifiedBy>Erich Friedman</cp:lastModifiedBy>
  <dcterms:modified xsi:type="dcterms:W3CDTF">2020-08-31T16:32:28Z</dcterms:modified>
  <cp:revision>415</cp:revision>
  <dc:subject/>
  <dc:title>Slide 1</dc:title>
</cp:coreProperties>
</file>