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6B16-78F3-4A86-83E8-8E32FF25E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0E8F-AB61-41DA-885D-80521B441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7DBF-8DC4-49DF-879C-96B38FC54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1FD9-6668-4142-843A-B1A336D32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CF58-2F84-4BF7-BB4E-77C7DC721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7418-9290-4989-A1D3-E50DDEE15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8066-2475-43F2-BF8B-F4E893851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98FA-B771-4ED1-9E88-7F97D475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4F10-DE20-43AF-96A1-360CA8ED0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0BF4-B82F-480B-AA1E-B0A4F333D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6133-BC01-47FB-AA59-BC9EA106D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D318-7307-4BA9-9F55-FE2180836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C4B7-570A-473E-B97A-8B865CA46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65ED-AAC0-45C9-A871-EF13559AE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D288-4E59-4F31-958C-1BEE6B5F6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9CED-A3B7-459E-8029-E611F0909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9D7B-A804-450C-9BE8-CF8D54AEA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E4C7-CD11-471D-9301-C90B60247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B3B9-BFFA-4C92-B814-13A52BE9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523A-6CB2-402C-82F1-4BD06CAD6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ECE2-06E3-4221-90F4-1BF45227C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E38C-A4D3-4B4C-8E75-47A935DCD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F7E8-8DB6-4B80-B825-953CB402F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AIDS DEATHS ARE  ON THE DECLINE, WHAT IS THE LEADING CAUSE OF DEATH IN THE DEVELOPING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ING JAMES RODAY AND DULÉ HILL HID A PINEAPPLE IN ALMOST EVERY EPIS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AVORINGS THAT COME FROM SEEDS, ROOTS, OR BARK ARE CALLED SPICES.  WHAT ARE FLAVORINGS THAT COME  FROM LEAV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71600" y="7621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ERORS OF RUSSIA BEFORE 1917 TOOK WHAT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ANG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ANS COMPANY OWNS THE NORTHFACE, JANSPORT, AND LEE BR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TINENT RANKS THIRD BOTH IN NUMBER OF COUNTRIES AND TOTAL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NEMONIC  DE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3560"/>
            <a:ext cx="81532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EASE EXCUSE MY DEAR AUNT SALLY" IS AN EXAMPLE OF WHAT TECHNIQUE TO HELP MEM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N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AN AFRICAN WILDEBE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ING JAMES RODAY AND DULÉ HILL HID A PINEAPPLE IN ALMOST EVERY EPIS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24000" y="762120"/>
            <a:ext cx="849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SS PIECE THAT STARTS IN THE BACK ROW THAT CAN MOVE ON THE FIRST MOVE OF THE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AIDS DEATHS ARE  ON THE DECLINE, WHAT IS THE LEADING CAUSE OF DEATH IN THE DEVELOPING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00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T  WITH  A  SILENT  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AVORINGS THAT COME FROM SEEDS, ROOTS, OR BARK ARE CALLED SPICES.  WHAT ARE FLAVORINGS THAT COME FROM LEAV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ERORS OF RUSSIA BEFORE 1917 TOOK WHAT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ANS COMPANY OWNS THE NORTHFACE, JANSPORT, AND LEE BR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TINENT RANKS THIRD BOTH IN NUMBER OF COUNTRIES AND TOTAL POP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EASE EXCUSE MY DEAR AUNT SALLY" IS AN EXAMPLE OF WHAT TECHNIQUE TO HELP MEM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AN AFRICAN WILDEBE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SS PIECE THAT STARTS IN THE BACK ROW THAT CAN MOVE ON THE FIRST MOVE OF THE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1:29:33Z</dcterms:created>
  <dc:creator>Jennifer Budzinski</dc:creator>
  <dc:description/>
  <dc:language>en-US</dc:language>
  <cp:lastModifiedBy>Erich Friedman</cp:lastModifiedBy>
  <dcterms:modified xsi:type="dcterms:W3CDTF">2020-08-31T16:32:28Z</dcterms:modified>
  <cp:revision>415</cp:revision>
  <dc:subject/>
  <dc:title>Slide 1</dc:title>
</cp:coreProperties>
</file>