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AAD6-727D-4EF9-AE3A-8C3E9BD7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F78F-79CD-464A-9E09-30C1703C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37EE-D916-4416-85BB-51B2C162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3B3-617E-48C1-BE72-501F2234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79CC-EA7C-4B0A-9638-EC384EA9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4730-DBE9-4D96-82CC-40131D1A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A763-5024-40EB-A59A-E699CF33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BF08-D1CD-4B22-AF36-66069A5DC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30C7-977D-4B65-A301-4730302D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ED28-84E7-4EA2-B0FD-D4F3FE1C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F06D-20F4-48E3-B82F-18000712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BE3-DA1D-4AD3-88AA-3A0A4EA94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9160-EA64-4F90-B68A-D1D12198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FCCE-D631-4674-AA23-93B0E1083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479E-432B-4395-856B-4A9D846C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C61-D30B-4D04-8847-F466FFC4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6A92-22C6-4D07-B450-6477FD16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63C-04B1-4AB6-97FC-19A3D133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175C-4D1D-4941-AB38-9AAC21332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51A-926B-438B-B3CD-BC8AE82E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81E-D537-4908-BE8B-E389930C3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3C8-1DD8-47D1-B517-3AF2F43C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2BF-EE73-4DB9-8DF7-2C5101116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DID PLYMOUTH MANUFACTURE 1968-1980 WITH A CARTOON CHARACTER ON ITS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EW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2007 COMIC STRIP DRAWN BY TOM RYAN WAS SET IN GRIMY GUL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H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LIMESTONE STATUE OF A LION IN EGYPT HAS A HUMAN 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IZONA'S PROFESSIONAL BASE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MUSICAL GROUP IN THE U.K. FROM 1995 TO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'S NAME IS ANCIENT GREEK FOR "UNKNOWN SPINY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5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LIND MELON'S HIT SONG, WHICH WENT TO #1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1, A STUDY FOUND   THAT THE MASCOT OF WHAT CIGARETTE BRAND WAS MORE RECOGNIZABLE TO KIDS THAN MICKEY MO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2007 COMIC STRIP DRAWN BY TOM RYAN WAS SET IN GRIMY GUL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3824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237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 PERSON WHO SMUGGLES PEOPLE FROM MEXICO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DID PLYMOUTH MANUFACTURE 1968-1980 WITH A CARTOON CHARACTER ON ITS 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FIND  IN  THE  DE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LIMESTONE STATUE OF A LION IN EGYPT HAS A HUMAN F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IZONA'S PROFESSIONAL BASE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MUSICAL GROUP IN THE U.K. FROM 1995 TO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'S NAME IS ANCIENT GREEK FOR "UNKNOWN SPINY PLA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LIND MELON'S HIT SONG, WHICH WENT TO #1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1, A STUDY FOUND   THAT THE MASCOT OF WHAT CIGARETTE BRAND WAS MORE RECOGNIZABLE TO KIDS THAN MICKEY MOU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 PERSON WHO SMUGGLES PEOPLE FROM MEXICO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9:51:07Z</dcterms:created>
  <dc:creator>Jennifer Budzinski</dc:creator>
  <dc:description/>
  <dc:language>en-US</dc:language>
  <cp:lastModifiedBy>Erich Friedman</cp:lastModifiedBy>
  <dcterms:modified xsi:type="dcterms:W3CDTF">2020-08-31T16:32:45Z</dcterms:modified>
  <cp:revision>420</cp:revision>
  <dc:subject/>
  <dc:title>Slide 1</dc:title>
</cp:coreProperties>
</file>