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AB10-F25F-4F2A-B13B-FD2599F8C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E4EF-AC9E-4906-8150-78EF6A18F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F61A-7BBF-4153-BFFF-F04EC30C2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D758-8DAA-4265-AC08-EBA67BD87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C832-A7EA-4A09-AD0B-41963BB28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B55D-7688-41C7-8D44-01D6B8643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8B80-4AF0-47CB-BA40-D3B2EA8B4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F0DD-5FF6-48C0-B27C-D627B7DA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03A9-22E0-4C98-8BCD-6FA0EBEB2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6908-BBF9-46C2-B45F-9236BD697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2DEB-6918-4789-91F9-579FE8548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0C17-D97A-47E7-B72C-7AC1D6E36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76C0-4509-4092-BA0A-C45B47D19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6EDB-1AE1-41BF-88F5-1B14FAA88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5E76-6C41-4320-8559-DDF77752B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7D37-4DE0-4E15-8908-F5D4BE398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86E9-B367-40C8-BB00-4D2FD2AAA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8F67-5E46-4D14-89A5-CB5494D63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D2A5-6B26-4FD0-8C66-F083E804D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8095-355D-46D5-B10D-6EF156CE9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8559-D38E-4FB6-AD0D-1B490A34C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05BA-1477-458A-BFAB-817A07D22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A4ED-1D07-4A76-AD01-140E55829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DID PLYMOUTH MANUFACTURE 1968-1980 WITH A CARTOON CHARACTER ON ITS S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MBLEW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5-2007 COMIC STRIP DRAWN BY TOM RYAN WAS SET IN GRIMY GUL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PHI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 LIMESTONE STATUE OF A LION IN EGYPT HAS A HUMAN F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RIZONA'S PROFESSIONAL BASEBAL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A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SUCCESSFUL MUSICAL GROUP IN THE U.K. FROM 1995 TO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C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T'S NAME IS ANCIENT GREEK FOR "UNKNOWN SPINY PLA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50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LIND MELON'S HIT SONG, WHICH WENT TO #1 IN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1, A STUDY FOUND   THAT THE MASCOT OF WHAT CIGARETTE BRAND WAS MORE RECOGNIZABLE TO KIDS THAN MICKEY MOU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5-2007 COMIC STRIP DRAWN BY TOM RYAN WAS SET IN GRIMY GUL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3824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Y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2376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NAME FOR A PERSON WHO SMUGGLES PEOPLE FROM MEXICO TO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ADRU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DID PLYMOUTH MANUFACTURE 1968-1980 WITH A CARTOON CHARACTER ON ITS S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0060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FIND  IN  THE  DES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RGE LIMESTONE STATUE OF A LION IN EGYPT HAS A HUMAN F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RIZONA'S PROFESSIONAL BASEBAL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SUCCESSFUL MUSICAL GROUP IN THE U.K. FROM 1995 TO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T'S NAME IS ANCIENT GREEK FOR "UNKNOWN SPINY PLA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LIND MELON'S HIT SONG, WHICH WENT TO #1 IN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91, A STUDY FOUND   THAT THE MASCOT OF WHAT CIGARETTE BRAND WAS MORE RECOGNIZABLE TO KIDS THAN MICKEY MOUS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NAME FOR A PERSON WHO SMUGGLES PEOPLE FROM MEXICO TO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9:51:07Z</dcterms:created>
  <dc:creator>Jennifer Budzinski</dc:creator>
  <dc:description/>
  <dc:language>en-US</dc:language>
  <cp:lastModifiedBy>Erich Friedman</cp:lastModifiedBy>
  <dcterms:modified xsi:type="dcterms:W3CDTF">2020-08-31T16:32:45Z</dcterms:modified>
  <cp:revision>420</cp:revision>
  <dc:subject/>
  <dc:title>Slide 1</dc:title>
</cp:coreProperties>
</file>