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389E-BB11-4866-8E0A-76093931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0409-AC49-4159-B9CC-22EC6316E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49E5-0C60-4659-932A-7C2ED631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718-3AA1-46CC-9AA9-21EFABB2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5160-6AC4-47FE-98DE-EF61E5B4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9728-B4F9-4107-B547-CE8F585B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2DD-1D0A-490C-B8C3-E2C027E0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0269-BEA9-4470-B088-D4C0FB57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7C72-BB68-4344-9808-C6FA2E627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A26E-D0A3-465C-A7D7-46490FBF3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6339-DB32-4C05-8DF4-58819EA0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84D7-761E-4A42-BA38-EDAA5181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4F2-75C0-4A30-A404-4D2E0F49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599C-5B73-46CC-8E01-A2B750F1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1EE-E5E1-48B1-86F6-88E45281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F449-606C-4CC3-BC9E-9ABB8345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E214-CA08-42F4-915D-E493065FC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82A4-A966-46AD-863C-70B9DEAE1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8A04-BFED-4B15-B018-0834252C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31D3-AB40-4927-87A5-EBC5E385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DE6E-9111-4BCD-BA49-E1E52114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1CC-A58C-4C72-B819-6EC70FE08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16E1-3E56-4609-BBF5-423C2D78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DID PLYMOUTH MANUFACTURE 1968-1980 WITH A CARTOON CHARACTER ON ITS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EW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2007 COMIC STRIP DRAWN BY TOM RYAN WAS SET IN GRIMY GUL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H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LIMESTONE STATUE OF A LION IN EGYPT HAS A HUMAN 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IZONA'S PROFESSIONAL BASE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MUSICAL GROUP IN THE U.K. FROM 1995 TO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'S NAME IS ANCIENT GREEK FOR "UNKNOWN SPINY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5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LIND MELON'S HIT SONG, WHICH WENT TO #1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1, A STUDY FOUND   THAT THE MASCOT OF WHAT CIGARETTE BRAND WAS MORE RECOGNIZABLE TO KIDS THAN MICKEY MO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2007 COMIC STRIP DRAWN BY TOM RYAN WAS SET IN GRIMY GUL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3824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237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 PERSON WHO SMUGGLES PEOPLE FROM MEXICO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DID PLYMOUTH MANUFACTURE 1968-1980 WITH A CARTOON CHARACTER ON ITS 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FIND  IN  THE  DE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LIMESTONE STATUE OF A LION IN EGYPT HAS A HUMAN F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IZONA'S PROFESSIONAL BASE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MUSICAL GROUP IN THE U.K. FROM 1995 TO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'S NAME IS ANCIENT GREEK FOR "UNKNOWN SPINY PLA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LIND MELON'S HIT SONG, WHICH WENT TO #1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1, A STUDY FOUND   THAT THE MASCOT OF WHAT CIGARETTE BRAND WAS MORE RECOGNIZABLE TO KIDS THAN MICKEY MOU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 PERSON WHO SMUGGLES PEOPLE FROM MEXICO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9:51:07Z</dcterms:created>
  <dc:creator>Jennifer Budzinski</dc:creator>
  <dc:description/>
  <dc:language>en-US</dc:language>
  <cp:lastModifiedBy>Erich Friedman</cp:lastModifiedBy>
  <dcterms:modified xsi:type="dcterms:W3CDTF">2020-08-31T16:32:45Z</dcterms:modified>
  <cp:revision>420</cp:revision>
  <dc:subject/>
  <dc:title>Slide 1</dc:title>
</cp:coreProperties>
</file>