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EC12-2404-491C-9E81-D81B987E2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10CD-9F98-408E-9BD8-EEE3D7873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B413-ADB3-435B-966A-1398F7855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5B34-407D-4931-8242-7525B334A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00AF-1DA0-4E52-9593-E558A0E54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BFED-9765-44B0-A815-680CAF20A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A768-09CA-4D3A-9998-49995C689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BA9A-E839-4487-9BD0-5E76C8A1C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F014-B92F-4507-B3FE-21CF9C15D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5937-EC94-4D7C-BA6B-04F0A694D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6ADA-5281-4B65-9267-FA7BB439C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91BF-79B8-46F2-9F66-807BC75B8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5AC8-9A9E-4679-A4E3-DC6380A39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D583-0D4B-48C5-BC79-348D2D18C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39D7-E4C6-48D2-8590-981D3E159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6F57-ABE2-4462-87AF-11D9CF2E0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DDAA-DC65-488F-A530-4DC4CB4DF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5599-22DA-4B0A-8AA9-3E4B8B1CC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CC6F-9526-4F0A-B82D-756BBE342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9DBC-E62C-4F83-B98F-F5A2FE696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2610-E3F1-44A2-8009-42392F1DF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DF24-A710-4211-BC17-F1F101B64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B434-A03A-49A6-87BF-0EA4DD48A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9 FILM DIRECTED     BY M. NIGHT SHYAMALAN COMPLETED A TRILOGY WITH "UNBREAKABLE" AND "SPLI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19320" y="762120"/>
            <a:ext cx="6705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DIE FOSTER FILM WAS BASED ON A BOOK BY CARL SAG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OHN)  CAN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STARRED IN THE FILM "UNCLE BU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T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71640" y="762120"/>
            <a:ext cx="7200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5 FILM DOES HARRISON FORD PROTECT AN AMISH B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D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THOUGH ORIGINALLY A RADIO CHARACTER, IN A 1994 FILM, ALEC BALDWIN PLAYED THIS MYSTERIOUS HERO KNOWN AS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CH  (ADAM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90560" y="762120"/>
            <a:ext cx="7562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REAL-LIFE DOCTOR WHOM ROBIN WILLIAMS PLAYED IN A 1998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43080" y="762120"/>
            <a:ext cx="8458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AME OF A 1995 FILM STARRING DANNY GLOVER, RAY LIOTTA, AND DENIS LEARY IS "OPERATION DUMBO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OUT  OF)  S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OF THE TITLE OF A FILM STARRING GEORGE CLOONEY AS A BANK ROBBER AND JENNIFER LOPEZ AS A U.S. MARSH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DIE FOSTER FILM WAS BASED ON A BOOK BY CARL SAG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E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47840" y="762120"/>
            <a:ext cx="8248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DY PARTS DID TOM CRUISE HAVE "FIXED" IN    2002 TO BECOME MORE MARKETABLE AS A FILM ST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0464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9 FILM DIRECTED      BY M. NIGHT SHYAMALAN COMPLETED A TRILOGY WITH "UNBREAKABLE" AND "SPL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733400" y="4343400"/>
            <a:ext cx="567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FOLLOW  THE  WORD  "EY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STARRED IN THE FILM "UNCLE BU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5 FILM DOES HARRISON FORD PROTECT AN AMISH B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THOUGH ORIGINALLY A RADIO CHARACTER, IN A 1994 FILM, ALEC BALDWIN PLAYED THIS MYSTERIOUS HERO KNOWN AS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REAL-LIFE DOCTOR WHOM ROBIN WILLIAMS PLAYED IN A 1998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AME OF A 1995 FILM STARRING DANNY GLOVER, RAY LIOTTA, AND DENIS LEARY IS "OPERATION DUMBO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OF THE TITLE OF A FILM STARRING GEORGE CLOONEY AS A BANK ROBBER AND JENNIFER LOPEZ AS A U.S. MARSH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99960" y="762120"/>
            <a:ext cx="8344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DY PARTS DID TOM CRUISE HAVE "FIXED" IN     2002 TO BECOME MORE MARKETABLE AS A FILM ST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0-08-31T16:33:02Z</dcterms:modified>
  <cp:revision>408</cp:revision>
  <dc:subject/>
  <dc:title>Slide 1</dc:title>
</cp:coreProperties>
</file>