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D2DF-538B-44C2-812C-1D79EA8A1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702B-0F4D-42A8-9C73-53EDA4A02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C91C-145D-4CBE-A6DB-C6E02DBB7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FF45-CD93-44EA-ABBB-BD68B86F5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505E-0203-4702-BA2A-FBA8A954C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5189-FCC1-4459-9C79-C7A9CF017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4A49-F53A-4F57-9855-6FE4144C2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25D7-A1B8-4473-976A-EAFE5DC45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8401-08E2-4388-8D07-96182EB74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F0C6-1E6E-4F48-8735-568B3438B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6B7E-4406-4785-AC1A-507CDEBDB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B4E8-31C0-4A6F-8E4C-EA21545D9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62EE-3966-4B3A-9AB7-63A75EA37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A8E5-4C74-46C9-9173-584083C2D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0EB7-18C1-4159-BC4F-DF3E7962F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F99C-330D-41B4-8117-3553109B9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7BFE-7415-47AF-A215-BDF9CF0A3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DF8E-ED6A-406E-94F6-EF3921E20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56A9-F437-48C5-B19A-B11C7D802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FE9C-8D5C-4A4A-A4D3-7077B4E44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EEC8-0A3D-4ABE-8E9E-055F572B2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1EA6-A9FC-4BDC-8337-E9938F799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A6A0-60DE-47B7-9191-C954CE23B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9 FILM DIRECTED     BY M. NIGHT SHYAMALAN COMPLETED A TRILOGY WITH "UNBREAKABLE" AND "SPL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DIE FOSTER FILM WAS BASED ON A BOOK BY CARL SA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C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THE FILM "UNCLE BU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762120"/>
            <a:ext cx="7200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5 FILM DOES HARRISON FORD PROTECT AN AMISH B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HOUGH ORIGINALLY A RADIO CHARACTER, IN A 1994 FILM, ALEC BALDWIN PLAYED THIS MYSTERIOUS HERO KNOWN A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CH  (ADA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REAL-LIFE DOCTOR WHOM ROBIN WILLIAMS PLAYED IN A 1998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A 1995 FILM STARRING DANNY GLOVER, RAY LIOTTA, AND DENIS LEARY IS "OPERATION DUMBO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UT  OF)  S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A FILM STARRING GEORGE CLOONEY AS A BANK ROBBER AND JENNIFER LOPEZ AS A U.S. MARSH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DIE FOSTER FILM WAS BASED ON A BOOK BY CARL SA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47840" y="762120"/>
            <a:ext cx="8248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S DID TOM CRUISE HAVE "FIXED" IN    2002 TO BECOME MORE MARKETABLE AS A FILM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0464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9 FILM DIRECTED      BY M. NIGHT SHYAMALAN COMPLETED A TRILOGY WITH "UNBREAKABLE" AND "SPL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33400" y="4343400"/>
            <a:ext cx="567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THE  WORD  "EY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THE FILM "UNCLE BU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5 FILM DOES HARRISON FORD PROTECT AN AMISH B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HOUGH ORIGINALLY A RADIO CHARACTER, IN A 1994 FILM, ALEC BALDWIN PLAYED THIS MYSTERIOUS HERO KNOWN A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REAL-LIFE DOCTOR WHOM ROBIN WILLIAMS PLAYED IN A 1998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A 1995 FILM STARRING DANNY GLOVER, RAY LIOTTA, AND DENIS LEARY IS "OPERATION DUMBO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A FILM STARRING GEORGE CLOONEY AS A BANK ROBBER AND JENNIFER LOPEZ AS A U.S. MARSH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S DID TOM CRUISE HAVE "FIXED" IN     2002 TO BECOME MORE MARKETABLE AS A FILM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6:33:02Z</dcterms:modified>
  <cp:revision>408</cp:revision>
  <dc:subject/>
  <dc:title>Slide 1</dc:title>
</cp:coreProperties>
</file>