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20D2-C074-44ED-A702-2541612A6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388E-FF96-4EA9-BAD7-1DF41EE5F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9FF6-4E1E-44FC-9DF7-5302169F7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396A-3573-4C4F-84CB-2B6E3BD10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6380-FFED-40FF-86BD-4032E0B29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7599-EB54-42D0-9437-C93E031E9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EACE-9E2B-482C-AF29-30C0D14EE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E8F2-F945-4F5C-94CA-3CB4D36E3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4A07-6A0E-40E0-ACC8-D8C255403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3091-E4D8-4BD5-858C-707346810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680A-8EC5-463A-8176-4E91E6813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AA03-4250-484C-958A-9D5446D1D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B927-350F-4834-AF7E-CE3546C47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CE3C-690C-4FEB-B6EF-011637B17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F321-4765-4F75-A90F-224BBEA31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EF21-CA01-4DF4-8DDB-67A155498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5F15-0196-429E-BD1E-6AD8AE7A1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8FE3-1AE6-4208-9B3A-49631908E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0E2D-BF05-48B6-BD20-625CA64CA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8950-5034-49DE-9FA3-B7F367AD6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62905-C43A-460F-936F-B21DC95C1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B652-D21F-42C3-99AE-44F58FB3B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735F-326B-4F21-83D5-9E57FF36F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9 FILM DIRECTED     BY M. NIGHT SHYAMALAN COMPLETED A TRILOGY WITH "UNBREAKABLE" AND "SPLI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19320" y="762120"/>
            <a:ext cx="6705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DIE FOSTER FILM WAS BASED ON A BOOK BY CARL SAG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OHN)  CAN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STARRED IN THE FILM "UNCLE BU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T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71640" y="762120"/>
            <a:ext cx="7200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5 FILM DOES HARRISON FORD PROTECT AN AMISH B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D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THOUGH ORIGINALLY A RADIO CHARACTER, IN A 1994 FILM, ALEC BALDWIN PLAYED THIS MYSTERIOUS HERO KNOWN AS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CH  (ADAM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90560" y="762120"/>
            <a:ext cx="7562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REAL-LIFE DOCTOR WHOM ROBIN WILLIAMS PLAYED IN A 1998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43080" y="762120"/>
            <a:ext cx="8458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AME OF A 1995 FILM STARRING DANNY GLOVER, RAY LIOTTA, AND DENIS LEARY IS "OPERATION DUMBO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OUT  OF)  S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OF THE TITLE OF A FILM STARRING GEORGE CLOONEY AS A BANK ROBBER AND JENNIFER LOPEZ AS A U.S. MARSH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DIE FOSTER FILM WAS BASED ON A BOOK BY CARL SAG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E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47840" y="762120"/>
            <a:ext cx="8248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DY PARTS DID TOM CRUISE HAVE "FIXED" IN    2002 TO BECOME MORE MARKETABLE AS A FILM ST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0464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9 FILM DIRECTED      BY M. NIGHT SHYAMALAN COMPLETED A TRILOGY WITH "UNBREAKABLE" AND "SPL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733400" y="4343400"/>
            <a:ext cx="567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FOLLOW  THE  WORD  "EY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STARRED IN THE FILM "UNCLE BU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5 FILM DOES HARRISON FORD PROTECT AN AMISH B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THOUGH ORIGINALLY A RADIO CHARACTER, IN A 1994 FILM, ALEC BALDWIN PLAYED THIS MYSTERIOUS HERO KNOWN AS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REAL-LIFE DOCTOR WHOM ROBIN WILLIAMS PLAYED IN A 1998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AME OF A 1995 FILM STARRING DANNY GLOVER, RAY LIOTTA, AND DENIS LEARY IS "OPERATION DUMBO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OF THE TITLE OF A FILM STARRING GEORGE CLOONEY AS A BANK ROBBER AND JENNIFER LOPEZ AS A U.S. MARSH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99960" y="762120"/>
            <a:ext cx="8344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DY PARTS DID TOM CRUISE HAVE "FIXED" IN     2002 TO BECOME MORE MARKETABLE AS A FILM ST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0-08-31T16:33:02Z</dcterms:modified>
  <cp:revision>408</cp:revision>
  <dc:subject/>
  <dc:title>Slide 1</dc:title>
</cp:coreProperties>
</file>