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EC7B-D8FA-47E5-8588-FE7737A19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420D-2D13-470A-BD0C-46A8A9A3F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FC48-0755-49F3-8F33-C8A624C4D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1C1A-69B9-407C-9484-886A96DC4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F97F-C2EC-4D88-A3D5-CB10CBEF9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4008-D8FA-48F3-8BFD-82A1F7A10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A4AF-6F13-4FF8-90D6-A8763285E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0D58-D53E-42CC-B48A-A89A27F37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AB74-5BEA-4075-BA9B-F616C2753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51AB-433A-43F9-8FFA-E7326BDD2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70B1-4FC7-4EBC-8627-C36FB2DA2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2B0E-00EA-4D5B-99EE-78EE185CF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F1C2-F4CF-439E-BA29-A75FCD5CF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D1D0-ED92-4663-8805-016617670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9F32-1DEA-45C6-8CEA-540A552D1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81CE-1419-46C3-B9A7-A052AA8B9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541B-96AF-4315-981E-BB8CF242B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2104-03E2-4ED0-96CF-0162A98D5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6C41-D4F2-4CEE-A354-900F607FC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A9A6-79FF-4A82-A2A4-DECE65CDE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8C5B-EC4F-4FBA-B0CC-33E7D6B6E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6286-BBB7-4400-85B6-B3E64B757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2E68-4214-4751-BD44-6A27263D1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04880" y="761760"/>
            <a:ext cx="7734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RE NONE OF IN THE HEBREW ALPHABET, REQUIRING A SERIES OF DOTS AND LINES INSTEA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KETBALL  PLAY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95240" y="762120"/>
            <a:ext cx="7553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SPORTSMEN WERE GEORGE MCGINNIS, TRACY MCGRADY, AND KEVIN MCHA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PICE  GIR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233280" y="762120"/>
            <a:ext cx="8675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INVENTED THE WORD "ZIGAZIG-HA" DURING A LAST-MINUTE RAP ADDITION TO THEIR 1996 HIT "WANNAB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N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24000" y="762120"/>
            <a:ext cx="8496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YUGA AND SENECA, THE DEEPEST BODIES OF WATER IN NEW YORK STATE, ARE IN A GROUP OF LAKES NICKNAMED FOR WHAT PART OF THE BO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977760" y="4875120"/>
            <a:ext cx="7188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OR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68560" y="760320"/>
            <a:ext cx="6806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ZEI CHAIM ARE THE WOODEN ROLLERS USED IN A SYNAGOGUE TO HOLD WHAT TEX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IMPS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19000" y="762120"/>
            <a:ext cx="7506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Y RECENTLY SURPASSED GUNSMOKE AS THE LONGEST-RUNNING SCRIPTED PRIMETIME SHOW IN U.S.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03120" y="762120"/>
            <a:ext cx="8537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ALT-PRODUCING ELEMENTS NAME THE TYPE OF HIGH-TEMPERATURE LAMPS USED FOR STAGE LIGHTING AND CAR HEADLIGH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U.S.  ARMED  FO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65120" y="762120"/>
            <a:ext cx="8213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ATIONAL SECURITY ACT OF 1947 ESTABLISHED THE CIA AND RESTRUCTUR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1800" y="762120"/>
            <a:ext cx="7659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SPORTSMEN WERE GEORGE MCGINNIS, TRACY MCGRADY, AND KEVIN MCHA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REAT  LAK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90480" y="762120"/>
            <a:ext cx="7763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GROUP OF FRESHWATER LAKES ON EARTH, BY ARE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OW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04960" y="762120"/>
            <a:ext cx="7532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RE NONE OF IN THE HEBREW ALPHABET, REQUIRING A SERIES OF DOTS AND LINES INSTE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523880" y="4800600"/>
            <a:ext cx="6120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OUPS  OF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209520" y="761760"/>
            <a:ext cx="8724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INVENTED THE WORD "ZIGAZIG-HA" DURING A LAST-MINUTE RAP ADDITION TO THEIR 1996 HIT "WANNAB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276120" y="762120"/>
            <a:ext cx="8591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YUGA AND SENECA, THE DEEPEST BODIES OF WATER IN NEW YORK STATE, ARE IN A GROUP OF LAKES NICKNAMED FOR WHAT PART OF THE BO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224000" y="762120"/>
            <a:ext cx="6696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ZEI CHAIM ARE THE WOODEN ROLLERS USED IN A SYNAGOGUE TO HOLD WHAT TEX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20800" y="762120"/>
            <a:ext cx="7500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Y RECENTLY SURPASSED GUNSMOKE AS THE LONGEST-RUNNING SCRIPTED PRIMETIME SHOW IN U.S. HIST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297000" y="761760"/>
            <a:ext cx="8550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ALT-PRODUCING ELEMENTS NAME THE TYPE OF HIGH-TEMPERATURE LAMPS USED FOR STAGE LIGHTING AND CAR HEADLIGH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4360" y="761760"/>
            <a:ext cx="8315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ATIONAL SECURITY ACT OF 1947 ESTABLISHED THE CIA AND RESTRUCTURE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71040" y="762120"/>
            <a:ext cx="7799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GROUP OF FRESHWATER LAKES ON EARTH, BY ARE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0-08-31T16:33:25Z</dcterms:modified>
  <cp:revision>421</cp:revision>
  <dc:subject/>
  <dc:title>Slide 1</dc:title>
</cp:coreProperties>
</file>