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757F-2073-4B6C-860F-E518E56C0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7ADC-F6C3-47F8-B150-1A8432CE9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9F1F-580E-4C35-90C0-965C6D665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F6B6-7CDF-4947-B169-CB045EA72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F261-B9E8-4368-B3FB-F4F46C2A9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AEDC-83BD-4043-B762-2EB3EF07D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6F7D-14F4-4FE5-B9AC-66ABFDF0B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EDC6-3206-4BE1-B290-172FA4B6F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C9A3-1E6B-467E-A9C4-A9BDF9204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E974-2FEA-4EA0-B6BB-25C7434D6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54E7-88EA-4CC0-9593-50A465A1F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E5D2-3EAB-4005-996E-7828ADA20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5D7E-ED93-4630-A08E-1B0FA51CD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73B4-A409-442D-9794-5D19414AC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240B-0919-4F77-A538-67FA5F3BB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C947-097A-421C-A49B-704C4F4B1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EEBB-4185-4B82-BB7F-1B8775871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34A0-6EF2-43AD-B6B2-3F1962DDE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08F9-5B63-4BF7-9322-E08B601C4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BD2E-A73E-47A2-B395-9217CEA4A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E48A-3A3D-4CC4-AE9E-F1099F27B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C0ED-2313-47A9-ADCF-11EE6B7BA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77BC-4078-401E-9479-E7814CC20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04880" y="761760"/>
            <a:ext cx="7734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RE NONE OF IN THE HEBREW ALPHABET, REQUIRING A SERIES OF DOTS AND LINES INSTEA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KETBALL  PLAY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95240" y="762120"/>
            <a:ext cx="7553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SPORTSMEN WERE GEORGE MCGINNIS, TRACY MCGRADY, AND KEVIN MCHA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PICE  GIR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233280" y="762120"/>
            <a:ext cx="8675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INVENTED THE WORD "ZIGAZIG-HA" DURING A LAST-MINUTE RAP ADDITION TO THEIR 1996 HIT "WANNAB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N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24000" y="762120"/>
            <a:ext cx="8496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YUGA AND SENECA, THE DEEPEST BODIES OF WATER IN NEW YORK STATE, ARE IN A GROUP OF LAKES NICKNAMED FOR WHAT PART OF THE BO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977760" y="4875120"/>
            <a:ext cx="7188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OR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68560" y="760320"/>
            <a:ext cx="6806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ZEI CHAIM ARE THE WOODEN ROLLERS USED IN A SYNAGOGUE TO HOLD WHAT TEX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IMPS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19000" y="762120"/>
            <a:ext cx="7506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Y RECENTLY SURPASSED GUNSMOKE AS THE LONGEST-RUNNING SCRIPTED PRIMETIME SHOW IN U.S.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OG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03120" y="762120"/>
            <a:ext cx="8537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ALT-PRODUCING ELEMENTS NAME THE TYPE OF HIGH-TEMPERATURE LAMPS USED FOR STAGE LIGHTING AND CAR HEADLIGH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U.S.  ARMED  FO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65120" y="762120"/>
            <a:ext cx="8213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ATIONAL SECURITY ACT OF 1947 ESTABLISHED THE CIA AND RESTRUCTUR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1800" y="762120"/>
            <a:ext cx="7659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SPORTSMEN WERE GEORGE MCGINNIS, TRACY MCGRADY, AND KEVIN MCHA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REAT  LAK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90480" y="762120"/>
            <a:ext cx="7763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GROUP OF FRESHWATER LAKES ON EARTH, BY ARE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OW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04960" y="762120"/>
            <a:ext cx="7532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RE NONE OF IN THE HEBREW ALPHABET, REQUIRING A SERIES OF DOTS AND LINES INSTE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523880" y="4800600"/>
            <a:ext cx="6120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OUPS  OF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209520" y="761760"/>
            <a:ext cx="8724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INVENTED THE WORD "ZIGAZIG-HA" DURING A LAST-MINUTE RAP ADDITION TO THEIR 1996 HIT "WANNAB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276120" y="762120"/>
            <a:ext cx="8591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YUGA AND SENECA, THE DEEPEST BODIES OF WATER IN NEW YORK STATE, ARE IN A GROUP OF LAKES NICKNAMED FOR WHAT PART OF THE BO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224000" y="762120"/>
            <a:ext cx="6696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ZEI CHAIM ARE THE WOODEN ROLLERS USED IN A SYNAGOGUE TO HOLD WHAT TEX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20800" y="762120"/>
            <a:ext cx="7500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Y RECENTLY SURPASSED GUNSMOKE AS THE LONGEST-RUNNING SCRIPTED PRIMETIME SHOW IN U.S. HIST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297000" y="761760"/>
            <a:ext cx="8550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ALT-PRODUCING ELEMENTS NAME THE TYPE OF HIGH-TEMPERATURE LAMPS USED FOR STAGE LIGHTING AND CAR HEADLIGH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4360" y="761760"/>
            <a:ext cx="8315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ATIONAL SECURITY ACT OF 1947 ESTABLISHED THE CIA AND RESTRUCTURE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71040" y="762120"/>
            <a:ext cx="7799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GROUP OF FRESHWATER LAKES ON EARTH, BY ARE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0-08-31T16:33:25Z</dcterms:modified>
  <cp:revision>421</cp:revision>
  <dc:subject/>
  <dc:title>Slide 1</dc:title>
</cp:coreProperties>
</file>