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0D32-F5C7-4298-9FCF-D4CEBE61C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09192-DE23-48CF-A405-E08FACF62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C1534-30B3-4A2B-8479-242DC2215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E0DCD-BCAE-4088-98B5-6324AD175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0BA7A-A717-4256-BFD8-FD3E3543B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81452-D889-4B1A-9206-F95B3055C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1376-9A41-4849-8B46-9F175FE70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7FF76-2632-4470-B1D1-28179B5D5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5C4EB-E390-4933-BB2B-82F0C0769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D68DA-370A-47D8-8E13-19450344F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09970-5E69-4E94-9147-0B16E7CB2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AAF4A-F968-4A7D-B9A7-9DDE3C1F3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F3709-E0B0-41C1-A1F7-CEA50AAAA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249FF-77BB-43C8-914B-BF6DB1AEA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9C86-7483-4198-9604-0F3A536A4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4E2F0-D578-486C-9A72-D4EAF67F0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5AF6D-C756-4FF3-9B1C-7B5101242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7295A-84F8-4484-B091-8737B78C0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EF5A1-AA1E-4C30-B32B-A56526650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3423B-127B-4248-A7EB-50AC26765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ED03F-E65B-4FD1-A68C-28463598B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317E2-48B5-4D2F-8E38-59E71D0E2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BC3F6-E5DC-4089-A460-B4CBE399E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04880" y="761760"/>
            <a:ext cx="7734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RE NONE OF IN THE HEBREW ALPHABET, REQUIRING A SERIES OF DOTS AND LINES INSTEA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SKETBALL  PLAY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95240" y="762120"/>
            <a:ext cx="7553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SPORTSMEN WERE GEORGE MCGINNIS, TRACY MCGRADY, AND KEVIN MCHA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PICE  GIR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233280" y="762120"/>
            <a:ext cx="8675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 INVENTED THE WORD "ZIGAZIG-HA" DURING A LAST-MINUTE RAP ADDITION TO THEIR 1996 HIT "WANNAB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NG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24000" y="762120"/>
            <a:ext cx="8496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YUGA AND SENECA, THE DEEPEST BODIES OF WATER IN NEW YORK STATE, ARE IN A GROUP OF LAKES NICKNAMED FOR WHAT PART OF THE BOD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977760" y="4875120"/>
            <a:ext cx="7188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TORA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168560" y="760320"/>
            <a:ext cx="6806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ZEI CHAIM ARE THE WOODEN ROLLERS USED IN A SYNAGOGUE TO HOLD WHAT TEX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IMPS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19000" y="762120"/>
            <a:ext cx="7506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EDY RECENTLY SURPASSED GUNSMOKE AS THE LONGEST-RUNNING SCRIPTED PRIMETIME SHOW IN U.S. HISTO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03120" y="762120"/>
            <a:ext cx="8537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ALT-PRODUCING ELEMENTS NAME THE TYPE OF HIGH-TEMPERATURE LAMPS USED FOR STAGE LIGHTING AND CAR HEADLIGH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238400" y="4876920"/>
            <a:ext cx="6667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U.S.  ARMED  FO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65120" y="762120"/>
            <a:ext cx="8213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NATIONAL SECURITY ACT OF 1947 ESTABLISHED THE CIA AND RESTRUCTURE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1800" y="762120"/>
            <a:ext cx="7659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SPORTSMEN WERE GEORGE MCGINNIS, TRACY MCGRADY, AND KEVIN MCHA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GREAT  LAK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90480" y="762120"/>
            <a:ext cx="7763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GROUP OF FRESHWATER LAKES ON EARTH, BY ARE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OW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04960" y="762120"/>
            <a:ext cx="75326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RE NONE OF IN THE HEBREW ALPHABET, REQUIRING A SERIES OF DOTS AND LINES INSTE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523880" y="4800600"/>
            <a:ext cx="6120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OUPS  OF 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209520" y="761760"/>
            <a:ext cx="8724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 INVENTED THE WORD "ZIGAZIG-HA" DURING A LAST-MINUTE RAP ADDITION TO THEIR 1996 HIT "WANNAB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276120" y="762120"/>
            <a:ext cx="8591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YUGA AND SENECA, THE DEEPEST BODIES OF WATER IN NEW YORK STATE, ARE IN A GROUP OF LAKES NICKNAMED FOR WHAT PART OF THE BOD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224000" y="762120"/>
            <a:ext cx="6696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ZEI CHAIM ARE THE WOODEN ROLLERS USED IN A SYNAGOGUE TO HOLD WHAT TEX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20800" y="762120"/>
            <a:ext cx="75009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EDY RECENTLY SURPASSED GUNSMOKE AS THE LONGEST-RUNNING SCRIPTED PRIMETIME SHOW IN U.S. HISTO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297000" y="761760"/>
            <a:ext cx="8550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ALT-PRODUCING ELEMENTS NAME THE TYPE OF HIGH-TEMPERATURE LAMPS USED FOR STAGE LIGHTING AND CAR HEADLIGH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14360" y="761760"/>
            <a:ext cx="8315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NATIONAL SECURITY ACT OF 1947 ESTABLISHED THE CIA AND RESTRUCTURE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71040" y="762120"/>
            <a:ext cx="7799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GROUP OF FRESHWATER LAKES ON EARTH, BY ARE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0-08-31T16:33:25Z</dcterms:modified>
  <cp:revision>421</cp:revision>
  <dc:subject/>
  <dc:title>Slide 1</dc:title>
</cp:coreProperties>
</file>