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55B2-7625-4646-B35E-5F444EE5F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80DA-2B97-47BE-B1C4-E343A825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ED41-A470-4B5A-989C-EF491B974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F531-A993-47AA-BFC7-4D74CD2F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0B60-F9E5-4D0E-8523-B88496C0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568-DE79-499A-AC3C-F3BF0CD8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6BB5-026D-4DE3-9131-7263268E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6C3C-6735-44F3-845C-56AC92D76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C2E-CFE1-4281-8BD4-6E4B0EAA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CC86-4EA3-4BF8-A320-0ACDA4A4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24FB-1AD4-4F68-BB66-F8FFC3C6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91DB-D9BF-444F-8D4E-AC661C9E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7A74-77CC-4D8F-9464-4A16BF9C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1B03-71E6-44FC-B07B-4856F3D3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C4C2-1443-43B0-8724-FE668B70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F3DE-5529-4026-8D43-74DF326A0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CDDA-D8A1-4F28-ACC2-E72BB66B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519-7AD2-4C42-8EC7-B048EB74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4E8-F258-4812-82DC-B55A79375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F41A-4F0D-45D1-9BE4-7D96C5F16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7AEA-C537-4118-BD59-31F1D68AD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BF5A-7E16-47D9-B467-8977AE53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BCB-916D-4CB5-A806-FC173CB7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OF COLLEGES AFTER "COLLEGE", "UNIVERSITY", AND "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ENT NETFLIX SERIES STARS ERIC MCCORMICK AS A PERSON FROM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SWITZER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SHALLOWEST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95160" y="762120"/>
            <a:ext cx="775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A TAX SYSTEM WHERE THE MARGINAL RATE INCREASES WITH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T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-152280" y="4876920"/>
            <a:ext cx="9448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NA  (CERTIFIED  NURSING  ASSISTA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6858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PS PATIENTS ONLY UNDER THE SUPERVISION OF AN RN (REGISTERED NURSE) OR LPN (LICENSED PRACTICAL NURS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10040"/>
            <a:ext cx="6934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76200" y="762120"/>
            <a:ext cx="839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ORANGE CITY S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2276640" y="2552760"/>
            <a:ext cx="45907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ENT NETFLIX SERIES STARS ERIC MCCORMICK AS A PERSON FROM THE FU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DEFINITE PRONOUN APPEARS EARLIEST IN THE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OF COLLEGES AFTER "COLLEGE", "UNIVERSITY", AND "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INSURANCE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SWITZER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SHALLOWEST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A TAX SYSTEM WHERE THE MARGINAL RATE INCREASES WITH IN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90680" y="762120"/>
            <a:ext cx="636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NNECTIC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PS PATIENTS ONLY UNDER THE SUPERVISION OF AN RN (REGISTERED NURSE) OR LPN (LICENSED PRACTICAL NURS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ORANGE CITY S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76640" y="2590920"/>
            <a:ext cx="4590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DEFINITE PRONOUN APPEARS EARLIEST IN THE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5:48Z</dcterms:modified>
  <cp:revision>435</cp:revision>
  <dc:subject/>
  <dc:title>Slide 1</dc:title>
</cp:coreProperties>
</file>