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6B65-55EF-4DAD-9C7C-4A9653515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27F4-5297-462A-B8F4-E8A405725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2D59-C6DB-4B69-90B4-DCE2F35E2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668A-BD5E-484A-B0CA-41CBD57F4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272A-2987-4E84-8B96-C1478B932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2959-4938-4733-836B-01993A2AB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D413-036E-4B8F-9A82-9AA397374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895C-4052-4136-AFBA-A09C5794B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42CB-82B4-43C2-BFCC-CE40D5775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B9EC-D839-408B-A309-9B69A7C71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A95E-91B2-4555-9320-4A14C2F97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7348-F63D-403F-AD5F-F5F4FC44A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6D7F-0942-4CE7-980D-2FCC5103A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23A6-13D5-4C41-BA1E-6091933FD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8F18-7DB9-4FBE-AD0F-35758A1E5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8CDE-03F9-4893-AA49-13E70C56C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FA7A-C2BE-45A8-8143-8288CBFE3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525A-EDCC-4FAE-BB75-2F0C9EC60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2401-59A0-4223-BCEE-1BC2F9819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F58D-E572-4220-9FB3-D858B6FBC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B5CE-6620-4EEC-9DF3-97B7BA106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6123-52F1-44B5-B89B-BF476D899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AE39-C307-47C7-80E2-FA199E41D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WORD IN THE NAMES OF COLLEGES AFTER "COLLEGE", "UNIVERSITY", AND "O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VE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CENT NETFLIX SERIES STARS ERIC MCCORMICK AS A PERSON FROM THE FU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UR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038240" y="762120"/>
            <a:ext cx="7067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SWITZER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THE SHALLOWEST OF THE GREAT LAK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GRESS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95160" y="762120"/>
            <a:ext cx="7753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DESCRIBES A TAX SYSTEM WHERE THE MARGINAL RATE INCREASES WITH INC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T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409760" y="762120"/>
            <a:ext cx="6324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CONNECTIC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-152280" y="4876920"/>
            <a:ext cx="9448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NA  (CERTIFIED  NURSING  ASSISTA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762120" y="685800"/>
            <a:ext cx="7619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ELPS PATIENTS ONLY UNDER THE SUPERVISION OF AN RN (REGISTERED NURSE) OR LPN (LICENSED PRACTICAL NURS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910040"/>
            <a:ext cx="69343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R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376200" y="762120"/>
            <a:ext cx="8391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ORANGE CITY SIG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2276640" y="2552760"/>
            <a:ext cx="45907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CENT NETFLIX SERIES STARS ERIC MCCORMICK AS A PERSON FROM THE FU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4304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NDEFINITE PRONOUN APPEARS EARLIEST IN THE DICTION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WORD IN THE NAMES OF COLLEGES AFTER "COLLEGE", "UNIVERSITY", AND "O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52280" y="487692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INSURANCE  COMPA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SWITZER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66720" y="762120"/>
            <a:ext cx="7810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THE SHALLOWEST OF THE GREAT LAK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DESCRIBES A TAX SYSTEM WHERE THE MARGINAL RATE INCREASES WITH INCO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390680" y="762120"/>
            <a:ext cx="6362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CONNECTIC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ELPS PATIENTS ONLY UNDER THE SUPERVISION OF AN RN (REGISTERED NURSE) OR LPN (LICENSED PRACTICAL NURS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ORANGE CITY SIG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276640" y="2590920"/>
            <a:ext cx="45907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NDEFINITE PRONOUN APPEARS EARLIEST IN THE DICTION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35:48Z</dcterms:modified>
  <cp:revision>435</cp:revision>
  <dc:subject/>
  <dc:title>Slide 1</dc:title>
</cp:coreProperties>
</file>