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10C6-567C-4C36-A6BC-91E1ADC43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0BBD-6F91-4948-BE70-6D937F5AB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EFAC-192D-49EA-AA0B-173D5537C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ACA2-8CBD-46AD-9B8B-937DF1B6B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7928-E3EC-468C-AACD-447ADECDD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8795-C46B-4893-BC68-69C7F74BD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839C-6F77-4ACA-A38A-06E409EBB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3E74-06C3-4EC9-A32A-33D6B28D1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E56C-56BB-43B7-A619-1DFA72D41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D7B6-8399-4FC2-B9B8-2A3F18FFB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3646-3672-4C00-B766-54E9320B1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F96A-65F9-4E14-B101-44F765C4B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D9EE-A0F2-4AAE-9E7A-BE6AA132D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D32E-FFA3-41C3-AD8A-D5B8261C1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FDA8-1F19-4AE1-B75F-F0CF791D8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78F2-4BD7-4DBB-89C3-E25BE4AAA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1CEB-739C-463E-AA74-A13E9873C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4624-0868-411F-871E-FA757DB33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52F5-D14A-4D0F-9EBE-63E7E1748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72DD-B005-42C9-833C-CC8C26B7E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2DC4-F5FA-4B5E-8044-9A2355AC6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18BE-0F6F-4321-8FEA-5FE49575F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CF1F-F8F7-4D0A-AC5C-113D944FB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IN THE NAMES OF COLLEGES AFTER "COLLEGE", "UNIVERSITY", AND "O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VE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ENT NETFLIX SERIES STARS ERIC MCCORMICK AS A PERSON FROM THE FU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U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038240" y="762120"/>
            <a:ext cx="706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SWITZER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THE SHALLOWEST OF THE GREAT L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GRES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95160" y="762120"/>
            <a:ext cx="775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DESCRIBES A TAX SYSTEM WHERE THE MARGINAL RATE INCREASES WITH INC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T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409760" y="762120"/>
            <a:ext cx="6324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ONNECTIC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-152280" y="4876920"/>
            <a:ext cx="9448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NA  (CERTIFIED  NURSING  ASSISTA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62120" y="68580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ELPS PATIENTS ONLY UNDER THE SUPERVISION OF AN RN (REGISTERED NURSE) OR LPN (LICENSED PRACTICAL NURS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910040"/>
            <a:ext cx="69343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76200" y="762120"/>
            <a:ext cx="8391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ORANGE CITY SIG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2276640" y="2552760"/>
            <a:ext cx="45907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ENT NETFLIX SERIES STARS ERIC MCCORMICK AS A PERSON FROM THE FU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NDEFINITE PRONOUN APPEARS EARLIEST IN THE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IN THE NAMES OF COLLEGES AFTER "COLLEGE", "UNIVERSITY", AND "O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2280" y="48769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INSURANCE  COMPA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SWITZER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66720" y="762120"/>
            <a:ext cx="781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THE SHALLOWEST OF THE GREAT L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DESCRIBES A TAX SYSTEM WHERE THE MARGINAL RATE INCREASES WITH INCO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90680" y="762120"/>
            <a:ext cx="6362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ONNECTIC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ELPS PATIENTS ONLY UNDER THE SUPERVISION OF AN RN (REGISTERED NURSE) OR LPN (LICENSED PRACTICAL NURS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ORANGE CITY SIG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276640" y="2590920"/>
            <a:ext cx="45907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NDEFINITE PRONOUN APPEARS EARLIEST IN THE DICTION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5:48Z</dcterms:modified>
  <cp:revision>435</cp:revision>
  <dc:subject/>
  <dc:title>Slide 1</dc:title>
</cp:coreProperties>
</file>