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1F87A-5949-414F-A47C-6885FF73F1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FB414-641A-4F22-9DD4-DFC58654A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817CD-E895-4392-8457-4F2F6492B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D7C3E-B566-415B-B4C6-566638289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0061B-9FE5-4607-8462-9FC492B3B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1FBEF-8DE3-4C3F-A7B7-840526310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BF9BA-0AA2-4BAE-82AC-4C50DC3C7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23FD4-BDD0-45B2-AEDE-1C50B1DEF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8A9E4-02C4-4E9E-B3A3-7242A2444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05727-C9E9-411E-9337-BC6115F55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6C371-F155-461E-B257-DBA55C0BC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3F1FC-F2A0-40CD-AB31-C1B6FB3C7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79BE9-B4ED-4FA0-A6EF-401ED4559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8F964-17BC-42CF-B183-CEF2DFC40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D746A-1278-4EEF-89A9-63F4D4002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9D226-742D-415F-BE2B-E24B8D0A6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FB72C-B502-4279-80B9-0E40DAB3F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51F60-60AF-44F3-A745-B6469C073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5FBFF-AA99-42E6-BB22-F546D9105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6EE0C-8836-403A-8349-AF1C52B44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F5B3F-226C-4FBB-9160-DBDA7FBFA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C9882-6635-447D-826A-FD42E86BC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28055-336C-4468-A5F2-E8940FF6A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71600" y="137160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28480" y="762120"/>
            <a:ext cx="8087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FOLLOW "SPEED", "SUN", OR "BUT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380880" y="48769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ATLANTIC)  COAST  (CONFEREN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204920" y="762120"/>
            <a:ext cx="6732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FIRST "C" STAND FOR IN FOOTBALL'S "ACC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407960" y="762120"/>
            <a:ext cx="6328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ONY ORLANDO'S MUSICAL PARTN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.H.I.E.L.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95360" y="762120"/>
            <a:ext cx="81532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SPECIAL LAW ENFORCEMENT AND COUNTER-TERRORISM AGENCY IN THE MARVEL UNIVER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MISSING FROM THIS ARCHIMEDES QUOTE: "GIVE ME A ____ AND A  PLACE TO STAND AND I    WILL MOVE THE WORL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00120" y="762120"/>
            <a:ext cx="79437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FRUIT MENTIONED IN "THE TWELVE DAYS OF CHRISTMA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257480" y="762120"/>
            <a:ext cx="6629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SCRAPINGS OF UNWAXED CITRUS FRUITS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V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285840" y="762120"/>
            <a:ext cx="8572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FORE PLASTIC, WHAT WERE BILLIARD BALLS AND PIANO KEYS OFTEN MADE FR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343160" y="762120"/>
            <a:ext cx="6457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FIRST "C" STAND FOR IN FOOTBALL'S "ACC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676520" y="4876920"/>
            <a:ext cx="5790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90440" y="762120"/>
            <a:ext cx="8763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S A PACIFIST, PABLO PICASSO NAMED HIS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HILD "PALOMA", THE SPANISH WORD FOR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04720" y="762120"/>
            <a:ext cx="8134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FOLLOW "SPEED", "SUN", OR "BUT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486080" y="4876920"/>
            <a:ext cx="6172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ANDS  OF  SO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352520" y="761760"/>
            <a:ext cx="6438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ONY ORLANDO'S MUSICAL PARTN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95360" y="762120"/>
            <a:ext cx="8153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SPECIAL LAW ENFORCEMENT AND COUNTER-TERRORISM AGENCY IN THE MARVEL UNIVER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19120" y="762120"/>
            <a:ext cx="8105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MISSING FROM THIS ARCHIMEDES QUOTE: "GIVE ME A ____ AND A  PLACE TO STAND AND I    WILL MOVE THE WORL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42880" y="762120"/>
            <a:ext cx="8058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FRUIT MENTIONED IN "THE TWELVE DAYS OF CHRISTMA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257120" y="761760"/>
            <a:ext cx="6629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SCRAPINGS OF UNWAXED CITRUS FRUITS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42880" y="762120"/>
            <a:ext cx="8058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FORE PLASTIC, WHAT WERE BILLIARD BALLS AND PIANO KEYS OFTEN MADE FR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52280" y="762120"/>
            <a:ext cx="8839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S A PACIFIST, PABLO PICASSO NAMED HIS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HILD "PALOMA", THE SPANISH WORD FOR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5T11:07:52Z</dcterms:created>
  <dc:creator>Jennifer Budzinski</dc:creator>
  <dc:description/>
  <dc:language>en-US</dc:language>
  <cp:lastModifiedBy>Erich Friedman</cp:lastModifiedBy>
  <dcterms:modified xsi:type="dcterms:W3CDTF">2020-08-31T16:36:05Z</dcterms:modified>
  <cp:revision>477</cp:revision>
  <dc:subject/>
  <dc:title>Slide 1</dc:title>
</cp:coreProperties>
</file>