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EBC-2FF2-47AD-8537-520E71A8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ED14-984E-4787-8CFB-CB83C578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1A3F-4BFB-46CA-92A5-F89C6077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A3B-ED93-4D51-BCE9-25622718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AED-0F4B-4DA1-92DC-1DE1530F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D58B-ABAE-4C56-9344-1D547508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8F5-592D-409D-8D30-1F29119B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F16F-1AA0-4DD7-ABF3-8465A676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5EBA-5F60-44AD-971E-85525F8D4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C50F-DB3D-4DF9-8730-5274BA8C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FEFA-77EC-40F0-BDCB-1CAF1404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C5E7-3D8E-4C80-919B-4EBB1EB20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07CB-7AC9-4841-88F8-53B98DD85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BAE0-E272-4AFF-A3D3-5BAD6D3C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BE00-7040-4C44-84C0-8B2DE5D0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25D-C906-49BF-890B-570CEEA3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65F6-9570-4181-A22D-9DEE9BA0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106A-2D75-49D0-B080-CED6DD4C3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00F1-804B-4C18-90A5-5959B540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E35C-53E7-4D62-854E-78DCDF2F9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A4DD-D3ED-4196-B490-13905DD6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E5B2-AC49-4668-87FA-8EC5546F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E1E2-7280-43F5-9C14-926050F2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8480" y="762120"/>
            <a:ext cx="808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SPEED", "SUN", OR "BUT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TLANTIC)  COAST  (CONFER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04920" y="762120"/>
            <a:ext cx="673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C" STAND FOR IN FOOTBALL'S "AC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7960" y="762120"/>
            <a:ext cx="6328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ONY ORLANDO'S MUSICAL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H.I.E.L.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CIAL LAW ENFORCEMENT AND COUNTER-TERRORISM AGENC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ARCHIMEDES QUOTE: "GIVE ME A ____ AND A  PLACE TO STAND AND I    WILL MOVE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0120" y="762120"/>
            <a:ext cx="7943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RUIT MENTIONED IN "THE TWELVE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CRAPINGS OF UNWAXED CITRUS FRUI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PLASTIC, WHAT WERE BILLIARD BALLS AND PIANO KEYS OFTEN MAD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43160" y="762120"/>
            <a:ext cx="645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C" STAND FOR IN FOOTBALL'S "AC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SPEED", "SUN", OR "BUT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SO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ONY ORLANDO'S MUSICAL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CIAL LAW ENFORCEMENT AND COUNTER-TERRORISM AGENC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ARCHIMEDES QUOTE: "GIVE ME A ____ AND A  PLACE TO STAND AND I    WILL MOVE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RUIT MENTIONED IN "THE TWELVE DAYS OF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CRAPINGS OF UNWAXED CITRUS FRUI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PLASTIC, WHAT WERE BILLIARD BALLS AND PIANO KEYS OFTEN MAD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6:36:05Z</dcterms:modified>
  <cp:revision>477</cp:revision>
  <dc:subject/>
  <dc:title>Slide 1</dc:title>
</cp:coreProperties>
</file>