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FE3E-EF14-4B19-82D0-CE9FF3D88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4965-3212-4B82-B994-9DE8E591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0696-218B-4905-AEBA-7D0D8A97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669D-99DF-48D3-97C5-A7201FB3B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CCA8-1B0D-4DB7-8482-85B05340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99D-7B25-46AC-9023-A494DDD2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3BF-B2AD-4365-A836-EB39AA72A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F829-B078-4DF7-A9DD-019CFA2CC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2BD-1567-4C5B-9643-49DF59F6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F002-EC46-4B7B-ADE9-DC0C99AF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C68-CC51-4728-9FA5-2BEB79CD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5EBE-C202-4C3F-BC85-B50711C13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848-EA40-4468-B3B9-59DB6E9F0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EE1-F805-4DBA-9C09-CA7345BD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EB06-3121-42A7-BFB0-99E6ACA3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425F-9518-4ED4-BABF-A68332777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17D1-9541-40A4-9F1C-8931A55C8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F889-5C8D-4DD2-B1E5-8AF02A35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45D9-BEEF-40C6-BCF3-30557BC14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9A6D-D7BB-436D-90C3-467CE835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36B5-2BA6-40D4-806A-A50A654AD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36A3-EC2C-4171-8879-8BB7A535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7344-923D-49AC-B3F3-A23218CE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8480" y="762120"/>
            <a:ext cx="808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SPEED", "SUN", OR "BUT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TLANTIC)  COAST  (CONFER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04920" y="762120"/>
            <a:ext cx="673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C" STAND FOR IN FOOTBALL'S "AC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7960" y="762120"/>
            <a:ext cx="6328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ONY ORLANDO'S MUSICAL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H.I.E.L.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CIAL LAW ENFORCEMENT AND COUNTER-TERRORISM AGENC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ARCHIMEDES QUOTE: "GIVE ME A ____ AND A  PLACE TO STAND AND I    WILL MOVE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0120" y="762120"/>
            <a:ext cx="7943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RUIT MENTIONED IN "THE TWELVE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CRAPINGS OF UNWAXED CITRUS FRUIT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PLASTIC, WHAT WERE BILLIARD BALLS AND PIANO KEYS OFTEN MAD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43160" y="762120"/>
            <a:ext cx="645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C" STAND FOR IN FOOTBALL'S "AC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SPEED", "SUN", OR "BUT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8769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SO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ONY ORLANDO'S MUSICAL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CIAL LAW ENFORCEMENT AND COUNTER-TERRORISM AGENC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ARCHIMEDES QUOTE: "GIVE ME A ____ AND A  PLACE TO STAND AND I    WILL MOVE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RUIT MENTIONED IN "THE TWELVE DAYS OF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CRAPINGS OF UNWAXED CITRUS FRUIT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PLASTIC, WHAT WERE BILLIARD BALLS AND PIANO KEYS OFTEN MAD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6:36:05Z</dcterms:modified>
  <cp:revision>477</cp:revision>
  <dc:subject/>
  <dc:title>Slide 1</dc:title>
</cp:coreProperties>
</file>