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D29-910F-41A8-B79C-42DDB5DB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DEE-8D42-4439-9D25-612EC91E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E58-2856-4952-A066-DEE59657D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55C-851D-44B4-B528-385E15BA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BAA-35C5-4471-88BC-BAB0BA91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172-439F-49E3-8A9D-A21D1609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B1A2-BE07-4E3A-AB2F-EA92CE76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EC3C-50C9-4D73-909D-B9B41B13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D10-2977-4683-92A7-66BCDFB0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3804-8CCD-400D-B283-91F7C601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81B-00FB-4DB3-BB5A-C5BD7704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7AB-E006-46AC-A9A5-6DC91EC2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1E5-9A07-4D0E-900B-E742938B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E27-53FE-4A7D-9118-054D79D6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478-7762-414F-ACA3-120B58E9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9FB6-7A81-4E9A-807A-685B0598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960A-987E-4F59-8457-A35D9292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5F5-E776-4F18-9DF7-7980EBAA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5398-5AFA-4542-B85D-719001A9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D71-9541-43CF-896D-6A9F39FB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E4F-3F88-4461-BD53-E8F12865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7290-880B-4679-B602-E4B828CD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F97-29EC-4695-82ED-69BA3F7C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343400"/>
            <a:ext cx="6324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STERHOOD  OF  THE  TRAVELING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0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  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METAL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S  IN  BO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HER  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E  THAT  B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KINI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00280" y="4343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IN  THE  GRAY  FLANNEL  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RTICLES  OF  CL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00:27:07Z</dcterms:created>
  <dc:creator>Jennifer Budzinski</dc:creator>
  <dc:description/>
  <dc:language>en-US</dc:language>
  <cp:lastModifiedBy>Erich Friedman</cp:lastModifiedBy>
  <dcterms:modified xsi:type="dcterms:W3CDTF">2020-08-24T17:28:20Z</dcterms:modified>
  <cp:revision>346</cp:revision>
  <dc:subject/>
  <dc:title>Slide 1</dc:title>
</cp:coreProperties>
</file>