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FA08-3739-461E-AB77-5A908097D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025D-62BB-42DC-9477-A4D72E59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E208-9FDF-4647-9F3C-5B0F6145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D1CE-F6F9-4356-B636-9A50103F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D781-7C34-49DE-88F3-36653623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FA89-4AF1-4F52-9007-CCD0E8E5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B7E-02D3-4F2B-B389-D4BF5C5FB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66BC-D4C4-42F2-891A-DD46DE9A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F7FE-2DAF-4F37-87F6-24A50C46B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EE68-633A-43F6-AF8C-4820345AB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9E9A-CAB8-4D38-8483-3B2BA005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7A56-1212-4746-BEDD-543D59AD5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162C-FE53-4C20-BD48-6A34A9FD1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085-5550-4668-9897-E1DD509E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5193-A062-4569-B978-16541EC5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B186-371D-4328-9372-6FA4B2349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53AF-65E3-49BE-9720-FA9351BA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2C71-8A51-497B-B387-B4E2C3D05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CF6C-3F7C-4D0F-AC58-E8D9C494F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0CCA-3B5A-48C5-8306-A97456D0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8AB8-E3CF-479F-B2BA-9FF9048F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D51B-E47E-41AC-828A-A85C6F7A4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0A33-294D-4358-BEB6-145A1B49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FILM FOLLOWS WWII VETERAN GREGORY PECK TRYING TO BALANCE HIS NEW JOB WITH HIS HOME LIFE WITH JENNIFER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343400"/>
            <a:ext cx="6324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STERHOOD  OF  THE  TRAVELING 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03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FOLLOWS 4 TEEN GIRLS APART FOR THE SUMMER FOR THE FIRS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  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COMEDY FILM STARRED KATHERINE HEIGL AND JAMES MARS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METAL  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STANLEY KUBRICK FILM FOLLOWS A PLATOON OF MARINES DURING TRAINING AND COMBAT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S  IN  BO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ANIMATED FILM USED THE VOICES OF ANTONIO BANDERAS, SALMA HAYEK, ZACH GALIFIANAKIS, BILLY BOB THORNTON, AND AMY SEDAR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ILM ADAPTATION OF A DR. SEUSS BOOK STARRED MIKE MY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HER  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STARRED CAMERON DIAZ, TONI COLLETTE, AND SHIRLEY MACLAI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E  THAT  B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FOLLOWS ADOPTIVE PARENTS KEITH CARRADINE AND DARYL HANNAH BEING STALKED BY THE BIOLOGICAL PAR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FOLLOWS 4 TEEN GIRLS APART FOR THE SUMMER FOR THE FIRST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KINI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TEEN PARTY      FILM FOLLOWS ANNETTE FUNICELLO BEING FOUGHT OVER BY TWO CHARACTERS PLAYED BY FRANKIE AVAL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800280" y="43434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IN  THE  GRAY  FLANNEL  S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FILM FOLLOWS WWII VETERAN GREGORY PECK TRYING TO BALANCE HIS NEW JOB WITH HIS HOME LIFE WITH JENNIFER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ARTICLES  OF  CL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COMEDY FILM STARRED KATHERINE HEIGL AND JAMES MARS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STANLEY KUBRICK FILM FOLLOWS A PLATOON OF MARINES DURING TRAINING AND COMBAT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ANIMATED FILM USED THE VOICES OF ANTONIO BANDERAS, SALMA HAYEK, ZACH GALIFIANAKIS, BILLY BOB THORNTON, AND AMY SEDAR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ILM ADAPTATION OF A DR. SEUSS BOOK STARRED MIKE MY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STARRED CAMERON DIAZ, TONI COLLETTE, AND SHIRLEY MACLAIN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FOLLOWS ADOPTIVE PARENTS KEITH CARRADINE AND DARYL HANNAH BEING STALKED BY THE BIOLOGICAL PAR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TEEN PARTY      FILM FOLLOWS ANNETTE FUNICELLO BEING FOUGHT OVER BY TWO CHARACTERS PLAYED BY FRANKIE AVAL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00:27:07Z</dcterms:created>
  <dc:creator>Jennifer Budzinski</dc:creator>
  <dc:description/>
  <dc:language>en-US</dc:language>
  <cp:lastModifiedBy>Erich Friedman</cp:lastModifiedBy>
  <dcterms:modified xsi:type="dcterms:W3CDTF">2020-08-24T17:28:20Z</dcterms:modified>
  <cp:revision>346</cp:revision>
  <dc:subject/>
  <dc:title>Slide 1</dc:title>
</cp:coreProperties>
</file>