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7742-B390-40D6-8B08-3E27CB63A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3490-28B5-4B76-B151-409FABE3B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3935-8BDA-47A9-9940-37434066F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4FDF-B995-40A7-9B07-9731313C1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8A7E-0BBD-402C-BF43-D62BC5AB3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2895-9348-42D4-937D-89AF00E62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5207-8FB8-4844-9555-069F2E1F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DB34-2789-4044-A465-95D96C9C9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E58E-E4F4-4454-AC37-D62F94AA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83A1-6BC4-4735-9588-3E4FF5621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1A7D-B2B1-41BF-84D9-B71D76494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DD47-2496-4F0C-AC7C-516C9942C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DB76-1A9B-424E-A8BA-A633A462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A0E1-6243-4CD6-A756-F886DD210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83AE-99ED-4932-A69A-44D12C97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C08C-DA06-40DB-9B27-26E8B41B0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42CF-C94B-447B-A277-627BCB294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B03-9AA1-4CFC-95DE-369F04861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D7FC-5770-4E0F-8211-5578AA4CA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B658-E49C-414E-A82D-1C71B027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0A72-6B2D-4891-B631-1D711B8C3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8170-D397-4E34-843B-F176D3583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A9C4-247F-4A84-9D42-07E04252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FILM FOLLOWS WWII VETERAN GREGORY PECK TRYING TO BALANCE HIS NEW JOB WITH HIS HOME LIFE WITH JENNIFER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409760" y="4343400"/>
            <a:ext cx="6324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STERHOOD  OF  THE  TRAVELING  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03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FOLLOWS 4 TEEN GIRLS APART FOR THE SUMMER FOR THE FIRS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  DR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COMEDY FILM STARRED KATHERINE HEIGL AND JAMES MARS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METAL  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STANLEY KUBRICK FILM FOLLOWS A PLATOON OF MARINES DURING TRAINING AND COMBAT I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S  IN  BO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ANIMATED FILM USED THE VOICES OF ANTONIO BANDERAS, SALMA HAYEK, ZACH GALIFIANAKIS, BILLY BOB THORNTON, AND AMY SEDAR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ILM ADAPTATION OF A DR. SEUSS BOOK STARRED MIKE MY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HER  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STARRED CAMERON DIAZ, TONI COLLETTE, AND SHIRLEY MACLAI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E  THAT  B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FOLLOWS ADOPTIVE PARENTS KEITH CARRADINE AND DARYL HANNAH BEING STALKED BY THE BIOLOGICAL PAR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FOLLOWS 4 TEEN GIRLS APART FOR THE SUMMER FOR THE FIRST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KINI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TEEN PARTY      FILM FOLLOWS ANNETTE FUNICELLO BEING FOUGHT OVER BY TWO CHARACTERS PLAYED BY FRANKIE AVAL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800280" y="434340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N  IN  THE  GRAY  FLANNEL  S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FILM FOLLOWS WWII VETERAN GREGORY PECK TRYING TO BALANCE HIS NEW JOB WITH HIS HOME LIFE WITH JENNIFER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ARTICLES  OF  CL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ROMANTIC COMEDY FILM STARRED KATHERINE HEIGL AND JAMES MARS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STANLEY KUBRICK FILM FOLLOWS A PLATOON OF MARINES DURING TRAINING AND COMBAT I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11 ANIMATED FILM USED THE VOICES OF ANTONIO BANDERAS, SALMA HAYEK, ZACH GALIFIANAKIS, BILLY BOB THORNTON, AND AMY SEDARI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ILM ADAPTATION OF A DR. SEUSS BOOK STARRED MIKE MYE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COMEDY DRAMA FILM STARRED CAMERON DIAZ, TONI COLLETTE, AND SHIRLEY MACLAIN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FOLLOWS ADOPTIVE PARENTS KEITH CARRADINE AND DARYL HANNAH BEING STALKED BY THE BIOLOGICAL PAR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TEEN PARTY      FILM FOLLOWS ANNETTE FUNICELLO BEING FOUGHT OVER BY TWO CHARACTERS PLAYED BY FRANKIE AVAL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00:27:07Z</dcterms:created>
  <dc:creator>Jennifer Budzinski</dc:creator>
  <dc:description/>
  <dc:language>en-US</dc:language>
  <cp:lastModifiedBy>Erich Friedman</cp:lastModifiedBy>
  <dcterms:modified xsi:type="dcterms:W3CDTF">2020-08-24T17:28:20Z</dcterms:modified>
  <cp:revision>346</cp:revision>
  <dc:subject/>
  <dc:title>Slide 1</dc:title>
</cp:coreProperties>
</file>