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D879-B44B-46F9-8BC7-0311CACBD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55F7-808E-4BB5-8B3E-FDF6A5AE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42A4-748F-47F8-B0A9-22871E1DA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AEB6-815D-4B3A-A188-E4E1F851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6BEF-EB8D-4FB4-8AE8-EDCFDFB3F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CE4-47BE-4480-B195-98027848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0275-BA82-483E-B4F4-926B3D86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34C-E195-4334-A88E-8538F27B6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5E0-3249-4CB4-B764-91EEB844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57FE-21F1-4311-815A-6A1E5B785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6FD3-878B-4ECD-B6C5-BA80BC941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F4E-BA4E-4785-A337-E8C1392C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9AC7-C43C-459A-8489-F8B0167A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AE5F-56D3-4214-B877-A46D14D8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DCB8-C069-425D-8707-D8CF91CE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34AB-7D9D-493E-B403-D26EF8A3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79D3-6190-4FAC-9685-B4B643085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0AF4-40B8-4797-9140-6E7FCF4AF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824-42CB-4B1F-96B5-EE46DA09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D4B5-DF53-4027-AEFC-173A33A59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1E88-1B2E-4339-A46F-44C47810B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87C1-4608-4035-8132-FCD16F36A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76BA-725F-4D58-A911-6912B6515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(ZUCKERBER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20800" y="762120"/>
            <a:ext cx="750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900680"/>
            <a:ext cx="74678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GH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19120" y="762120"/>
            <a:ext cx="81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ZEALAND SINGER'S SONG "ROYALS" WON GRAMMYS FOR "SONG OF THE YEAR" AND "BEST POP SOLO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91440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LYRIC FROM THE CHORDETTE'S SONG "MR. SANDMAN": "GIVE HIM THE WORD THAT I'M N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04720" y="487692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L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POWER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W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W OF MOTION, WHAT DOES m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HUSBAND OF "FLORENCE FOSTER JENKI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AN JOSE'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FINDING NEMO", WHAT WORD DO THE SEAGULLS REPEAT OVER AND OVER WHEN CHASING NEM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776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ON THIS THIS NFL OFFICIAL UNI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676680" cy="31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25Z</dcterms:modified>
  <cp:revision>450</cp:revision>
  <dc:subject/>
  <dc:title>Slide 1</dc:title>
</cp:coreProperties>
</file>