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5664-98B7-466D-B3FE-EACC41A25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3A4E-F199-4DA0-AE10-B5E8709B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33A2-1C43-4DC1-9AD0-1B202BF9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AAAD-A35D-4347-9500-14A1B097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921E-66CA-447C-A0D8-2053C4F86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E416-5294-491F-8AA4-4975E3EF8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4AA0-E0A4-44BA-933C-DBC13F01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D147-B3E7-4814-B6B6-C34D50B01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FAA2-95B6-4F0E-921D-DB7F26242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99B0-B249-4359-AD1D-0C65E914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FCA0-7629-4AA2-BB2E-1BD005A7F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722D-A7B2-4B7D-8651-FD5383D3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E8CD-6B6B-434D-BD83-70519191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0219-4F7F-4420-98B2-07616EE49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AACF-A9A0-4CF4-8F2C-2B2A7C15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1FC2-8589-4920-A531-8AE9ECF2E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599F-C34E-4E91-A8E2-FC9F85F2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587C-DB6C-4735-AD04-5AF9E2F1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B414-B6D8-4DBB-96FD-6C2502123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A8BC-C688-4EC7-B1F6-2F9754337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A04-A792-42A3-9F90-1E2E4989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DB7B-C51A-41BF-8E78-6670825B5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F969-884A-48C0-A428-112DB4C29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LYRIC FROM THE CHORDETTE'S SONG "MR. SANDMAN": "GIVE HIM THE WORD THAT I'M NO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ZEALAND SINGER'S SONG "ROYALS" WON GRAMMYS FOR "SONG OF THE YEAR" AND "BEST POP SOLO PERFORM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(ZUCKERBER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20800" y="762120"/>
            <a:ext cx="7500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POWER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900680"/>
            <a:ext cx="7467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W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W OF MOTION, WHAT DOES m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UGH)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19120" y="762120"/>
            <a:ext cx="810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HUSBAND OF "FLORENCE FOSTER JENK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76212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AN JOSE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47840" y="762120"/>
            <a:ext cx="8248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FINDING NEMO", WHAT WORD DO THE SEAGULLS REPEAT OVER AND OVER WHEN CHASING NEM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ZEALAND SINGER'S SONG "ROYALS" WON GRAMMYS FOR "SONG OF THE YEAR" AND "BEST POP SOLO PERFORM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  (JUD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914400"/>
            <a:ext cx="4800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ON THIS THIS NFL OFFICIAL UNI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67668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LYRIC FROM THE CHORDETTE'S SONG "MR. SANDMAN": "GIVE HIM THE WORD THAT I'M NO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04720" y="487692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L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POWER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W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W OF MOTION, WHAT DOES m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HUSBAND OF "FLORENCE FOSTER JENKI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AN JOSE'S NH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FINDING NEMO", WHAT WORD DO THE SEAGULLS REPEAT OVER AND OVER WHEN CHASING NEM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4776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ON THIS THIS NFL OFFICIAL UNI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676680" cy="31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6:25Z</dcterms:modified>
  <cp:revision>450</cp:revision>
  <dc:subject/>
  <dc:title>Slide 1</dc:title>
</cp:coreProperties>
</file>