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5C73-43D3-40AE-BBBF-8065EE4BD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897B-FA9D-4856-B32D-75D96667F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0C84-45BB-4907-9164-A04B330C8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0FB2-A78C-402A-9799-908323513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3765-862E-489F-A951-ECC1BAB44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FB37-F8B7-42F5-BB2C-94F009A7A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B25A-8639-4FEF-8611-F68DA2F60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55DD-E187-4D21-BF76-1EE3B83F3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6E86-1FF1-4345-9F45-A95483564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726F-4AC2-4291-8768-F3CBBAE49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A72C-2354-4F80-9B65-33EDCAD92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EF11-95BC-4FE8-A77A-782BB53B5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045D-8B20-4A7E-B5C0-1A713258D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478D-05C8-4948-96DD-58E1E3840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4FC2-94B2-4BC2-B800-0C07F65FF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2C60-6284-4063-9DCC-6460A6B7D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89D7-0EC0-4DF2-9A4F-2D8A7B230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198F-05E9-4BD3-99E7-F21BA0E4C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2537-4CBF-49C1-A21A-BC41A51FB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1531-7B74-4764-8856-54F8722FF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C474-D978-43A8-80CD-ED798DD95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E8DB-E99E-42C9-90AD-D4DC4E522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2B58-A940-418A-955A-D50AABB80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E LYRIC FROM THE CHORDETTE'S SONG "MR. SANDMAN": "GIVE HIM THE WORD THAT I'M NO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ZEALAND SINGER'S SONG "ROYALS" WON GRAMMYS FOR "SONG OF THE YEAR" AND "BEST POP SOLO PERFORMA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(ZUCKERBER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20800" y="762120"/>
            <a:ext cx="7500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EO OF FACE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OOGLE'S VERSION OF POWERPOI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838080" y="4900680"/>
            <a:ext cx="74678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EWTON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W OF MOTION, WHAT DOES m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UGH)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19120" y="762120"/>
            <a:ext cx="8105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HUSBAND OF "FLORENCE FOSTER JENKI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304920" y="762120"/>
            <a:ext cx="85341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AN JOSE'S NH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47840" y="762120"/>
            <a:ext cx="8248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FINDING NEMO", WHAT WORD DO THE SEAGULLS REPEAT OVER AND OVER WHEN CHASING NEM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ZEALAND SINGER'S SONG "ROYALS" WON GRAMMYS FOR "SONG OF THE YEAR" AND "BEST POP SOLO PERFORMA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E  (JUD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52280" y="914400"/>
            <a:ext cx="4800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L" STAND FOR ON THIS THIS NFL OFFICIAL UNIF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676680" cy="31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E LYRIC FROM THE CHORDETTE'S SONG "MR. SANDMAN": "GIVE HIM THE WORD THAT I'M NO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504720" y="4876920"/>
            <a:ext cx="814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LAN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85880" y="761760"/>
            <a:ext cx="757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EO OF FACE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43120" y="762120"/>
            <a:ext cx="7457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OOGLE'S VERSION OF POWERPOI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EWTON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W OF MOTION, WHAT DOES m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HUSBAND OF "FLORENCE FOSTER JENKI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33360" y="761760"/>
            <a:ext cx="8477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AN JOSE'S NHL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85640" y="762120"/>
            <a:ext cx="8172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FINDING NEMO", WHAT WORD DO THE SEAGULLS REPEAT OVER AND OVER WHEN CHASING NEM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1920" y="914400"/>
            <a:ext cx="4776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L" STAND FOR ON THIS THIS NFL OFFICIAL UNIFO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676680" cy="319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6:25Z</dcterms:modified>
  <cp:revision>450</cp:revision>
  <dc:subject/>
  <dc:title>Slide 1</dc:title>
</cp:coreProperties>
</file>