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D430-2AA9-4D80-B2D8-60A22EA89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CE52-251E-4934-BBD3-F29235EF9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DEF3-2488-4FF2-9A53-C35D06761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66A3-A6A5-4AF1-9C5F-F838327B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DC42-5EEA-4DE9-90B6-C1205ADC5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2805-793D-462D-B7DF-16CA2C52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EFC2-0B9E-4E33-9999-C236A24E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02F0-7889-42C8-A949-69A5B9D62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ED4-0633-4BE0-A18F-529CF8DBD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EBB6-3535-45F1-852A-596ACADE9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2FCE-0BE0-4A6C-9258-52F7ABC60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BBA6-3C93-4492-96F6-BF22B7CF6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1CCE-1617-4526-85F8-BEE11A35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FC95-3B7A-4C8F-9C8B-A16A2BEED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F857-1174-4998-B5F4-C75E4796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B570-13FB-4E25-8CF7-C24E5309F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FF91-42CB-4DEF-A78A-778BB737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E468-BE19-42E0-B37C-44A7DB09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F740-CC13-4BFA-BC9A-B05D697E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AB53-55CC-4629-A855-322F106DB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9D29-0B05-4D0F-BCB5-7313D0ED6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AD2F-8881-4A69-8DFF-9082F8B1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2AE4-5928-49C2-8018-C35F804A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INGALLS WILDER ON "LITTLE HOUSE ON THE PRAI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T ACTOR FOR "NIGHT MUST FALL" IN 1937 AND "HERE COMES MR. JORDAN" IN 19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G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UGH GUYS IN "THE PUBLIC ENEMY", "TAXI", "ANGELS WITH DIRTY FACES" AND "WHITE HE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MUR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SENATOR TO HAVE A STAR ON THE HOLLYWOOD WALK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RESIDENT TO TAKE THE OATH OF OFFICE, UNTIL DONALD TRUMP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TON  HE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NRA 1998-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W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4720" y="762120"/>
            <a:ext cx="8153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ESTER GOODE ON "GUNSMOKE" AND THE TITLE ROLE ON "MCCLO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  AS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HE MARY TYLER MOORE SHOW" ACTOR HAS WON THE MOST PRIMETIME E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T ACTOR FOR "NIGHT MUST FALL" IN 1937 AND "HERE COMES MR. JORDAN" IN 19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HELEN KELLER IN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GI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INGALLS WILDER ON "LITTLE HOUSE ON THE PRAI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04880" y="4267080"/>
            <a:ext cx="7734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VED  AS  PRESIDENT  OF  THE  SCREEN  ACTORS  GU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UGH GUYS IN "THE PUBLIC ENEMY", "TAXI", "ANGELS WITH DIRTY FACES" AND "WHITE HE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SENATOR TO HAVE A STAR ON THE HOLLYWOOD WALK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RESIDENT TO TAKE THE OATH OF OFFICE, UNTIL DONALD TRUMP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NRA 1998-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ESTER GOODE ON "GUNSMOKE" AND THE TITLE ROLE ON "MCCLO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HE MARY TYLER MOORE SHOW" ACTOR HAS WON THE MOST PRIMETIME E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HELEN KELLER IN "THE MIRACLE WOR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6:43Z</dcterms:modified>
  <cp:revision>429</cp:revision>
  <dc:subject/>
  <dc:title>Slide 1</dc:title>
</cp:coreProperties>
</file>