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595F-B56E-4902-8536-FF2E609D6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E2A-8FCA-4098-980C-EFD52087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99A4-777C-475B-B5A2-DFC03610E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A67-02A5-4B48-BC7C-9E48B8DA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3B48-AB74-4876-9448-95AE54CB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2DF9-90A4-46AB-A7C7-6183AEED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E77-E83B-4D14-9EB4-C3B282D10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B49A-E659-48F6-958D-6D4701E1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6C19-B313-4E99-A8EA-381D157DC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288-21B3-48F6-A2F5-729DAF57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78B-6D1A-4A2C-8B70-1CE10CDC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6F32-558F-4773-87FD-B9F1550E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24F4-C2E3-407F-A5C2-8B4BBC51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74F3-113B-47E4-990B-E25D6CBE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E4CF-9249-4E87-B08D-FB49E913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52D-33F9-4981-9F11-C432CAE6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70FB-70F3-4D6C-8BBB-6A7FBE74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FE6-9A96-49DA-8DC0-519658CB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9E6B-2EFE-42F6-94F5-2F477159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A6A-5065-4657-974F-EE515BBA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C8F4-206C-40BE-B64C-FD6BCF72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1E34-DC11-43FF-A1EB-336FC7EC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299B-AA74-4B4F-BFC1-A7859F7A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INGALLS WILDER ON "LITTLE HOUSE ON THE PRAI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T ACTOR FOR "NIGHT MUST FALL" IN 1937 AND "HERE COMES MR. JORDAN" IN 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UGH GUYS IN "THE PUBLIC ENEMY", "TAXI", "ANGELS WITH DIRTY FACES" AND "WHITE HE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UR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SENATOR TO HAVE A STAR ON THE HOLLYWOOD WALK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RESIDENT TO TAKE THE OATH OF OFFICE, UNTIL DONALD TRUMP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NRA 1998-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53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ESTER GOODE ON "GUNSMOKE" AND THE TITLE ROLE ON "MCCLO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  AS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HE MARY TYLER MOORE SHOW" ACTOR HAS WON THE MOST PRIMETIME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T ACTOR FOR "NIGHT MUST FALL" IN 1937 AND "HERE COMES MR. JORDAN" IN 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HELEN KELLER IN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GI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INGALLS WILDER ON "LITTLE HOUSE ON THE PRAI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04880" y="4267080"/>
            <a:ext cx="7734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VED  AS  PRESIDENT  OF  THE  SCREEN  ACTORS  G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UGH GUYS IN "THE PUBLIC ENEMY", "TAXI", "ANGELS WITH DIRTY FACES" AND "WHITE HE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SENATOR TO HAVE A STAR ON THE HOLLYWOOD WALK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RESIDENT TO TAKE THE OATH OF OFFICE, UNTIL DONALD TRUMP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NRA 1998-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ESTER GOODE ON "GUNSMOKE" AND THE TITLE ROLE ON "MCCLO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HE MARY TYLER MOORE SHOW" ACTOR HAS WON THE MOST PRIMETIME E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HELEN KELLER IN "THE MIRACLE WOR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6:43Z</dcterms:modified>
  <cp:revision>429</cp:revision>
  <dc:subject/>
  <dc:title>Slide 1</dc:title>
</cp:coreProperties>
</file>