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A5BB-48E1-4E86-9A7C-338937B41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8C056-992F-4C36-AE0C-B4189BDF1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8041-EEAC-42C9-8278-A768B3894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AAAF-F92B-4047-88CF-84B464A90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A7A0-4F02-476B-AA08-0F025342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D3B7-78BF-4231-8210-2A867383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C1EB-95A3-4BF0-AAE1-935D6075B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88FE-154C-4EB2-9840-756AB0FAF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8CFA-8336-4D55-9EAD-00DBF4F10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A874-4183-4023-A9CA-7E47C8842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B708-5935-40A2-972A-37D4B6455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4AB8-5B66-4BEB-A167-EE2AE3D80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26A0-359D-41C1-9A17-BD8168874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FA6E-6462-4FB4-AECE-02E99CE16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A4A7-C52E-4645-BD2F-86C027A2F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9943-8D8B-46CF-B0A6-28B542D68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E0ED-4ABD-4F03-98BF-7F49FB370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8FE6-48F5-4510-BF0C-6133AE896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C3CA-9E67-4D90-A8AC-412D24764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46A3-EB6D-4F12-9647-00CE8050E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DA54-C653-4D6E-B965-78C9268AB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EDB6-B062-4E01-8E32-7537F5732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A803-90A7-4E90-A348-38BB68547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INGALLS WILDER ON "LITTLE HOUSE ON THE PRAIR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MONTGOM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T ACTOR FOR "NIGHT MUST FALL" IN 1937 AND "HERE COMES MR. JORDAN" IN 194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G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UGH GUYS IN "THE PUBLIC ENEMY", "TAXI", "ANGELS WITH DIRTY FACES" AND "WHITE HE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MUR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SENATOR TO HAVE A STAR ON THE HOLLYWOOD WALK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RESIDENT TO TAKE THE OATH OF OFFICE, UNTIL DONALD TRUMP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TON  HE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NRA 1998-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W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4720" y="762120"/>
            <a:ext cx="8153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ESTER GOODE ON "GUNSMOKE" AND THE TITLE ROLE ON "MCCLO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  AS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HE MARY TYLER MOORE SHOW" ACTOR HAS WON THE MOST PRIMETIME E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T ACTOR FOR "NIGHT MUST FALL" IN 1937 AND "HERE COMES MR. JORDAN" IN 194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Y  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HELEN KELLER IN "THE MIRACLE WOR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GI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INGALLS WILDER ON "LITTLE HOUSE ON THE PRAIR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04880" y="4267080"/>
            <a:ext cx="7734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VED  AS  PRESIDENT  OF  THE  SCREEN  ACTORS  GU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UGH GUYS IN "THE PUBLIC ENEMY", "TAXI", "ANGELS WITH DIRTY FACES" AND "WHITE HE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1800" y="762120"/>
            <a:ext cx="842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SENATOR TO HAVE A STAR ON THE HOLLYWOOD WALK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PRESIDENT TO TAKE THE OATH OF OFFICE, UNTIL DONALD TRUMP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NRA 1998-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ESTER GOODE ON "GUNSMOKE" AND THE TITLE ROLE ON "MCCLO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HE MARY TYLER MOORE SHOW" ACTOR HAS WON THE MOST PRIMETIME E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HELEN KELLER IN "THE MIRACLE WORK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6:43Z</dcterms:modified>
  <cp:revision>429</cp:revision>
  <dc:subject/>
  <dc:title>Slide 1</dc:title>
</cp:coreProperties>
</file>