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1245-DF0A-45AE-B1DB-34D1438F0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F285-F40F-4A76-9BBB-7E1176D45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71A8-B0BC-4CA4-B3CD-4FB52DD8A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59BC-649C-485F-BA66-ECE0B8A25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5005-0AA3-40C0-907A-8BB3A4773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7EE5-837C-4807-8997-683CB0620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81C9-F92E-4D5E-8A73-5779E998C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F1D9-0206-4157-A31E-842B416CA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1F59-01A7-478B-908A-0579D1B7F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FDDD-4AFD-4C85-9FD8-BC2EF590F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9B7A-92A5-4347-A19F-0503F5911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7464-EE73-4BD2-A2A1-E1FD7C369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C178-FD59-4DC3-94D1-DA72EB140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FA74-BF09-4D52-BF8D-AB575C078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B035-4DF2-4A0C-A7E1-7D73CC3F2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D5E7-762E-477D-95F6-3C1F47637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ABA7-8E3E-4934-B570-9D01486AF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6F73-1A64-4AC7-B0A6-5DFCA1583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8AB9-33D7-4737-8DDB-7607556FF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B188-CF4F-4C83-AA31-5B01D1708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E3DA-E4A0-40E9-B77F-69630DD43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C164-71A0-4794-9F32-B2CCE79FF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3E0B-5CC5-46F3-987F-35AD344EB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3 FILM DOES STEVE MARTIN PLAY  DR. HFUHRUHUR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QUAL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990720"/>
            <a:ext cx="4419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ETHRO TULL'S FIRST TOP-10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00392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DNEY  B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80920" y="762120"/>
            <a:ext cx="738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LEGUMES ARE MOST COMMON IN CREOLE COO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CO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NCTUATION MARK APPEARS IN THE TITLE OF ALL 6 "MISSION IMPOSSIBLE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838080" y="4572000"/>
            <a:ext cx="74678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WRENCE  LIVERMORE  NATIONAL 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228600" y="860400"/>
            <a:ext cx="392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RESEARCH FACILITY HAS THIS LOGO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70836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. F. SK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, ALONG WITH JOHN WATSON AND IVAN PAVLOV, IS CONSIDERED A PIONEER OF MODERN BEHAVIOR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PL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28560" y="762120"/>
            <a:ext cx="7886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SUPERHERO PORTRAYED BY PAUL REUBENS IN THE 1999 FILM "MYSTERY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 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09520" y="762120"/>
            <a:ext cx="872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FILM DID JEFF BRIDGES WIN AN OSCAR FOR BEST ACTOR FOR PORTRAYING A COUNTRY 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040" y="914040"/>
            <a:ext cx="447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ETHRO TULL'S FIRST TOP-10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0039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GUE – IN – CH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AL PHRASE REFERS TO A SARCASTIC STATEMENT MADE WITH MOCK SERIOUS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N  WITH  TWO  BR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3 FILM DOES STEVE MARTIN PLAY  DR. HFUHRUHUR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847800" y="4876920"/>
            <a:ext cx="7448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ORG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6094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885960" y="761760"/>
            <a:ext cx="7372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LEGUMES ARE MOST COMMON IN CREOLE COO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1076400" y="762120"/>
            <a:ext cx="699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NCTUATION MARK APPEARS IN THE TITLE OF ALL 6 "MISSION IMPOSSIBLE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46240" y="9140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RESEARCH FACILITY HAS THIS LOGO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708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685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, ALONG WITH JOHN WATSON AND IVAN PAVLOV, IS CONSIDERED A PIONEER OF MODERN BEHAVIOR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SUPERHERO PORTRAYED BY PAUL REUBENS IN THE 1999 FILM "MYSTERY M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FILM DID JEFF BRIDGES WIN AN OSCAR FOR BEST ACTOR FOR PORTRAYING A COUNTRY SI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AL PHRASE REFERS TO A SARCASTIC STATEMENT MADE WITH MOCK SERIOUSN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8:49Z</dcterms:modified>
  <cp:revision>444</cp:revision>
  <dc:subject/>
  <dc:title>Slide 1</dc:title>
</cp:coreProperties>
</file>