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7700-3071-469C-AA31-43346804C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017F-A57E-4135-AE14-42CF3D0D2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3A92-5FD6-41A5-8ADB-36162C3C3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D33C-5E21-4B6C-A876-2C3005EE1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0E40-EABF-4A3A-84E0-3959E4468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9BB5-071F-4DDC-A0DE-ADCAB5322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9535-EADB-484D-9C2A-5CD15B297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14D5-9768-4C32-9B1D-BD7B2F05B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B56A-373B-486C-B629-EF2C848B9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45A8-79FC-4DA1-83DE-44ED4B843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8508-3C86-4EED-B28F-61C087AA4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5A52-F768-475A-A54C-1CA535A1B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963F-70E3-47D6-BA4F-C170C9678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86BF-9A69-4C5E-8129-15A497326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60FC-977D-4E3E-8B5C-8DF190460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F774-A8FD-45F1-9017-8EB7FDFB3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77E9-19AF-4093-BF10-BC30D7D46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BEC7-7D0F-4EAF-8903-8D902E290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F6CA-E0DD-4368-A431-624603059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45C2-AC39-4438-969C-903D653F9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11BC-9E76-4B7D-8859-57631820A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02B8-08F9-4644-9070-BBFB27218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6634-A4B2-4534-8640-ECDB873A9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3 FILM DOES STEVE MARTIN PLAY  DR. HFUHRUHUR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QUAL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0" y="990720"/>
            <a:ext cx="4419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JETHRO TULL'S FIRST TOP-10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4724280" y="457200"/>
            <a:ext cx="400392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DNEY  B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880920" y="762120"/>
            <a:ext cx="7382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LEGUMES ARE MOST COMMON IN CREOLE COOK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CO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143000" y="762120"/>
            <a:ext cx="6858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UNCTUATION MARK APPEARS IN THE TITLE OF ALL 6 "MISSION IMPOSSIBLE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838080" y="4572000"/>
            <a:ext cx="746784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WRENCE  LIVERMORE  NATIONAL 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228600" y="860400"/>
            <a:ext cx="3924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LIFORNIA RESEARCH FACILITY HAS THIS LOGO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2" descr=""/>
          <p:cNvPicPr/>
          <p:nvPr/>
        </p:nvPicPr>
        <p:blipFill>
          <a:blip r:embed="rId1"/>
          <a:stretch/>
        </p:blipFill>
        <p:spPr>
          <a:xfrm>
            <a:off x="4876920" y="533520"/>
            <a:ext cx="3708360" cy="38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. F. SKIN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52600" y="762120"/>
            <a:ext cx="8038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, ALONG WITH JOHN WATSON AND IVAN PAVLOV, IS CONSIDERED A PIONEER OF MODERN BEHAVIORIS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PL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28560" y="762120"/>
            <a:ext cx="78868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SUPERHERO PORTRAYED BY PAUL REUBENS IN THE 1999 FILM "MYSTERY M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ZY  HE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209520" y="762120"/>
            <a:ext cx="8724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FILM DID JEFF BRIDGES WIN AN OSCAR FOR BEST ACTOR FOR PORTRAYING A COUNTRY SING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4040" y="914040"/>
            <a:ext cx="4476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JETHRO TULL'S FIRST TOP-10 ALB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4724280" y="457200"/>
            <a:ext cx="40039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GUE – IN – CHE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DJECTIVAL PHRASE REFERS TO A SARCASTIC STATEMENT MADE WITH MOCK SERIOUSN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AN  WITH  TWO  BR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1219320" y="762120"/>
            <a:ext cx="6705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3 FILM DOES STEVE MARTIN PLAY  DR. HFUHRUHUR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847800" y="4876920"/>
            <a:ext cx="7448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ORG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6094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885960" y="761760"/>
            <a:ext cx="7372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LEGUMES ARE MOST COMMON IN CREOLE COOK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1076400" y="762120"/>
            <a:ext cx="6991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UNCTUATION MARK APPEARS IN THE TITLE OF ALL 6 "MISSION IMPOSSIBLE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46240" y="91404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LIFORNIA RESEARCH FACILITY HAS THIS LOGO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4876920" y="533520"/>
            <a:ext cx="3708360" cy="38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6858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, ALONG WITH JOHN WATSON AND IVAN PAVLOV, IS CONSIDERED A PIONEER OF MODERN BEHAVIORIS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90400" y="761760"/>
            <a:ext cx="7963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SUPERHERO PORTRAYED BY PAUL REUBENS IN THE 1999 FILM "MYSTERY M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85840" y="762120"/>
            <a:ext cx="8572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FILM DID JEFF BRIDGES WIN AN OSCAR FOR BEST ACTOR FOR PORTRAYING A COUNTRY SING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961920" y="762120"/>
            <a:ext cx="7220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DJECTIVAL PHRASE REFERS TO A SARCASTIC STATEMENT MADE WITH MOCK SERIOUSN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6:38:49Z</dcterms:modified>
  <cp:revision>444</cp:revision>
  <dc:subject/>
  <dc:title>Slide 1</dc:title>
</cp:coreProperties>
</file>