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7DA1-6193-4FF0-9D31-25384501A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7DFB-88F2-4BD2-8150-5A9809247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BB382-73BA-4016-AD06-E6CAAB753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B81E-FCA7-412D-90FA-0E25A3CB2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EE09-A057-4142-B149-CB7D3E104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FC16-92B9-4AC4-97D8-CC3BA8489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4B6D-E0AE-4A6A-B3EB-F1AA7F1CC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7864-CDBB-4C7B-B2C6-BD1AC1100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BFB5-9563-473A-8EEB-1F6A08F7E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17DC-97E5-4E80-8A9B-11EF4F1F4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8294-371D-4857-88E4-2ED29B236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196A-B402-4BFE-8A41-C6832C393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367B-EFAD-42CE-BCAD-665BD7363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16E3-17CF-4FFF-9694-7B97FC3AF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1A61-1AA1-46B0-9413-77E77065E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45F1-EB7B-4C42-9464-5A6DB22B5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9D11-0595-4FE8-BF23-1DC10E17D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7E2F-1C76-4C58-AD3B-1B07692A6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280E-4385-47F7-AEBE-37E1BC846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FD27-CA5A-4424-98BD-CB6240F87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04EA-6B65-434B-BC8B-26A8C3F69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D79B-F292-4510-8481-C999C4F06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3EA4-4FF4-41D5-9E89-309FA4530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3 FILM DOES STEVE MARTIN PLAY  DR. HFUHRUHUR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QUAL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0" y="990720"/>
            <a:ext cx="4419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ETHRO TULL'S FIRST TOP-10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4724280" y="457200"/>
            <a:ext cx="4003920" cy="403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DNEY  B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880920" y="762120"/>
            <a:ext cx="7382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LEGUMES ARE MOST COMMON IN CREOLE COO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CO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143000" y="762120"/>
            <a:ext cx="68580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UNCTUATION MARK APPEARS IN THE TITLE OF ALL 6 "MISSION IMPOSSIBLE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838080" y="4572000"/>
            <a:ext cx="746784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WRENCE  LIVERMORE  NATIONAL 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228600" y="860400"/>
            <a:ext cx="392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RESEARCH FACILITY HAS THIS LOGO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2" descr=""/>
          <p:cNvPicPr/>
          <p:nvPr/>
        </p:nvPicPr>
        <p:blipFill>
          <a:blip r:embed="rId1"/>
          <a:stretch/>
        </p:blipFill>
        <p:spPr>
          <a:xfrm>
            <a:off x="4876920" y="533520"/>
            <a:ext cx="3708360" cy="38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. F. SKI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52600" y="762120"/>
            <a:ext cx="803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, ALONG WITH JOHN WATSON AND IVAN PAVLOV, IS CONSIDERED A PIONEER OF MODERN BEHAVIORIS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PL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28560" y="762120"/>
            <a:ext cx="7886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SUPERHERO PORTRAYED BY PAUL REUBENS IN THE 1999 FILM "MYSTERY M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ZY 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09520" y="762120"/>
            <a:ext cx="8724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FILM DID JEFF BRIDGES WIN AN OSCAR FOR BEST ACTOR FOR PORTRAYING A COUNTRY SI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4040" y="914040"/>
            <a:ext cx="4476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ETHRO TULL'S FIRST TOP-10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4724280" y="457200"/>
            <a:ext cx="40039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GUE – IN – CH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AL PHRASE REFERS TO A SARCASTIC STATEMENT MADE WITH MOCK SERIOUSN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AN  WITH  TWO  BR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3 FILM DOES STEVE MARTIN PLAY  DR. HFUHRUHUR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847800" y="4876920"/>
            <a:ext cx="7448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ORG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6094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885960" y="761760"/>
            <a:ext cx="7372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LEGUMES ARE MOST COMMON IN CREOLE COOK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1076400" y="762120"/>
            <a:ext cx="6991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UNCTUATION MARK APPEARS IN THE TITLE OF ALL 6 "MISSION IMPOSSIBLE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46240" y="9140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RESEARCH FACILITY HAS THIS LOGO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4876920" y="533520"/>
            <a:ext cx="370836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6858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, ALONG WITH JOHN WATSON AND IVAN PAVLOV, IS CONSIDERED A PIONEER OF MODERN BEHAVIORIS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SUPERHERO PORTRAYED BY PAUL REUBENS IN THE 1999 FILM "MYSTERY M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FILM DID JEFF BRIDGES WIN AN OSCAR FOR BEST ACTOR FOR PORTRAYING A COUNTRY SING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61920" y="762120"/>
            <a:ext cx="7220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AL PHRASE REFERS TO A SARCASTIC STATEMENT MADE WITH MOCK SERIOUSN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38:49Z</dcterms:modified>
  <cp:revision>444</cp:revision>
  <dc:subject/>
  <dc:title>Slide 1</dc:title>
</cp:coreProperties>
</file>