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E21E-32B8-4A95-B450-D0EFC0D8F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E1CC-8998-48CA-8A92-A6591FAF3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EA9F-2181-413E-9462-FFD156BB3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E14B-1D1D-40FB-8739-F72B433AD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CBF7-5794-4192-BE65-1B86A82D7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9C3D-F265-41D6-A1FA-7955C3774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B968-6533-460A-A27A-2FE8C111B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99C8-33BD-4534-8F60-7F6F9FFD1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3041-EB1F-41DC-8693-62903ECE7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9BDC-AF15-4ED0-927D-0E80C3938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1B5C-8327-4E23-965C-EB14B7159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7D21-4578-454F-9276-8C893E8AB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B9DE-2426-4847-808A-438DECFD8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D1BF-A19F-44BB-9574-CB8723383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A5D1-73AE-4426-86D7-11088512E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57BC-CD10-45CF-951C-62243C4E9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7712-CC7B-4A92-A949-1B843FF3B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17DF-17AF-405A-9F5E-7CC096DC3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7389-E271-494E-8AA9-987BE572C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3DC9-1C07-4CC3-BCC2-C657C9C97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0A72-EA8D-4ED4-9FC9-ABD5B2DDC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7D90-217D-4CD6-9376-57BE91CC3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0917-866C-4B20-8452-2A26A5BC1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NAL JAMES BOND FILM TO STAR SEAN CONNERY, FOR WHICH HE WAS PAID A RECORD $1.25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  L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DAUGHTERS WERE REGAN, GONERIL, AND CORDE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SP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 HUMPHREY BOGART'S CHARACTER IN "THE MALTESE FALC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DER  OF  THE  P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17480"/>
            <a:ext cx="8229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EENAGE TRAGEDY" SONG WAS A #1 HIT FOR THE SHANGRI-LAS IN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RT  OF  DARK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43040" y="762120"/>
            <a:ext cx="765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APOCALYPSE NOW" WAS BASED ON WHAT JOSEPH CONRAD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O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ONG WAS A #1 HIT IN 1990 FOR THE STEVE MILLER BAND AFTER IT WAS USED IN A LEVI JEANS COMMERC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  LATIF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OT TOP BILLING IN THE FILMS "BEAUTY SHOP", "TAXI", AND "LAST HOLI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47920" y="762120"/>
            <a:ext cx="6248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BO DEREK'S MOST FAMOUS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DAUGHTERS WERE REGAN, GONERIL, AND CORDEL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LEM  SHUFF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1963 R&amp;B SONG BY BOB AND EARL WAS COVERED BY BOOKER T, THE MG'S, AND MOST SUCCESSFULLY, THE ROLLING 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MONDS  ARE  FOR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NAL JAMES BOND FILM TO STAR SEAN CONNERY, FOR WHICH HE WAS PAID A RECORD $1.25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95600" y="4267080"/>
            <a:ext cx="5752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ERMS  FROM   A  DECK  OF  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 HUMPHREY BOGART'S CHARACTER IN "THE MALTESE FALC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EENAGE TRAGEDY" SONG WAS A #1 HIT FOR THE SHANGRI-LAS IN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APOCALYPSE NOW" WAS BASED ON WHAT JOSEPH CONRAD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ONG WAS A #1 HIT IN 1990 FOR THE STEVE MILLER BAND AFTER IT WAS USED IN A LEVI JEANS COMMERCI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OT TOP BILLING IN   THE FILMS "BEAUTY SHOP", "TAXI", AND "LAST HOLI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BO DEREK'S MOST FAMOUS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1963 R&amp;B SONG BY BOB AND EARL WAS COVERED BY BOOKER T, THE MG'S, AND MOST SUCCESSFULLY, THE ROLLING ST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39:06Z</dcterms:modified>
  <cp:revision>436</cp:revision>
  <dc:subject/>
  <dc:title>Slide 1</dc:title>
</cp:coreProperties>
</file>