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04FF-C81A-4BD6-AB02-3DA01D18D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C295-701E-4FD7-9236-728487280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ED02-609D-4F27-B080-F4D4D107E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7CB-19F1-4714-935C-F32CC2207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1BFA-99D7-49FC-B784-D7113362F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C987-77B8-4BF2-9BEA-1426D7101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65DA-7D0F-46A4-A051-E558D17AD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CEA8-0BA7-4D1D-A9C0-332AC2ABC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4814-DA6D-4513-89B3-169B053FF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5C5-E632-4C2A-AE5E-0A186D9A7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AA0A-70E7-496A-85D8-F0E8C8878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C555-92DF-4B77-BA21-2D341198F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6A4B-6409-425C-AFC9-B8831AB79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9568-8AAF-4F1C-9D0A-C5F2D0FF9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7ADA-5ED3-431F-871C-9E2FC3D7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645E-F51E-4E91-8C4D-C98AA8AB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AC44-7DFD-4868-AC89-F152E1300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6F03-4507-4970-B6EB-93186C66A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B7E3-14D4-4B3C-BAA7-9E463918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BBE-3FAA-40C5-A888-738866F7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EDD5-E40A-46FE-9E4C-9ED9DAA2D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97D1-3AD3-4AF0-8B14-0723D297E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D573-8E9D-4F83-A9AD-4176A1E82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NAL JAMES BOND FILM TO STAR SEAN CONNERY, FOR WHICH HE WAS PAID A RECORD $1.25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DAUGHTERS WERE REGAN, GONERIL, AND CORDE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SP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HUMPHREY BOGART'S CHARACTER IN "THE MALTESE FALC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DER  OF  THE  P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1748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EENAGE TRAGEDY" SONG WAS A #1 HIT FOR THE SHANGRI-LAS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  OF  DARK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APOCALYPSE NOW" WAS BASED ON WHAT JOSEPH CONRAD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G WAS A #1 HIT IN 1990 FOR THE STEVE MILLER BAND AFTER IT WAS USED IN A LEVI JEANS COMMERC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LATIF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TOP BILLING IN THE FILMS "BEAUTY SHOP", "TAXI", AND "LAST HOLI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47920" y="762120"/>
            <a:ext cx="624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 DEREK'S MOST FAMOUS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DAUGHTERS WERE REGAN, GONERIL, AND CORDE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LEM  SHUFF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63 R&amp;B SONG BY BOB AND EARL WAS COVERED BY BOOKER T, THE MG'S, AND MOST SUCCESSFULLY, THE ROLLING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S  ARE  FOR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NAL JAMES BOND FILM TO STAR SEAN CONNERY, FOR WHICH HE WAS PAID A RECORD $1.25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95600" y="4267080"/>
            <a:ext cx="5752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ERMS  FROM   A  DECK  OF 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HUMPHREY BOGART'S CHARACTER IN "THE MALTESE FALC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EENAGE TRAGEDY" SONG WAS A #1 HIT FOR THE SHANGRI-LAS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APOCALYPSE NOW" WAS BASED ON WHAT JOSEPH CONRAD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G WAS A #1 HIT IN 1990 FOR THE STEVE MILLER BAND AFTER IT WAS USED IN A LEVI JEANS COMMERC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TOP BILLING IN   THE FILMS "BEAUTY SHOP", "TAXI", AND "LAST HOLI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 DEREK'S MOST FAMOUS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63 R&amp;B SONG BY BOB AND EARL WAS COVERED BY BOOKER T, THE MG'S, AND MOST SUCCESSFULLY, THE ROLLING 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9:06Z</dcterms:modified>
  <cp:revision>436</cp:revision>
  <dc:subject/>
  <dc:title>Slide 1</dc:title>
</cp:coreProperties>
</file>