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C5D1-A1F3-4D55-8C30-4E7B8CB54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C728-E50C-4BA1-AA9A-26C621C73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AB04-3B5C-4175-BA66-B64A44E58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1D7F-3B17-49E8-82C2-3759787ED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5D31-A9D9-4C9C-BED4-E4E9432AA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B55C-A5D1-43F2-BFAE-B7993B255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360E-33E2-49F9-971F-33922A3C0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1538-2627-41FE-AEDD-869F361F1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3951-AD71-41FF-9EFE-96587A471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55EA-0118-477A-A358-ED855DE7A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0B90-5343-410F-B9AF-8D4A60997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F596-EFF6-4F8E-B91B-D4C364B92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38E2-A40A-4CB6-97BC-DBB83B226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1A60-E343-4A11-AF26-3C5035BED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51AA-FD12-4CE8-B89F-BFDEEF6DB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720E-5511-4A33-8D65-B337D53DD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CB80-B40C-4673-A784-98973FE60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2181-326C-4EA4-AAA6-87E922CD3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3E15-897E-49D3-8EF9-02D45BABC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0EC6-BC57-4BBA-ABC7-3D5B7BE96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17AC-D540-4291-8717-07E0BF471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7583-EC9B-4D5D-A902-62219A462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929F-06E7-421E-90AB-8AC1D792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NAL JAMES BOND FILM TO STAR SEAN CONNERY, FOR WHICH HE WAS PAID A RECORD $1.25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DAUGHTERS WERE REGAN, GONERIL, AND CORDE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SP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HUMPHREY BOGART'S CHARACTER IN "THE MALTESE FALC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DER  OF  THE  P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1748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EENAGE TRAGEDY" SONG WAS A #1 HIT FOR THE SHANGRI-LAS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  OF  DARK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APOCALYPSE NOW" WAS BASED ON WHAT JOSEPH CONRAD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NG WAS A #1 HIT IN 1990 FOR THE STEVE MILLER BAND AFTER IT WAS USED IN A LEVI JEANS COMMERC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LATIF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TOP BILLING IN THE FILMS "BEAUTY SHOP", "TAXI", AND "LAST HOLI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47920" y="762120"/>
            <a:ext cx="624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O DEREK'S MOST FAMOUS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DAUGHTERS WERE REGAN, GONERIL, AND CORDE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LEM  SHUFF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63 R&amp;B SONG BY BOB AND EARL WAS COVERED BY BOOKER T, THE MG'S, AND MOST SUCCESSFULLY, THE ROLLING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S  ARE  FOR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NAL JAMES BOND FILM TO STAR SEAN CONNERY, FOR WHICH HE WAS PAID A RECORD $1.25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95600" y="4267080"/>
            <a:ext cx="5752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ERMS  FROM   A  DECK  OF 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HUMPHREY BOGART'S CHARACTER IN "THE MALTESE FALC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EENAGE TRAGEDY" SONG WAS A #1 HIT FOR THE SHANGRI-LAS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APOCALYPSE NOW" WAS BASED ON WHAT JOSEPH CONRAD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NG WAS A #1 HIT IN 1990 FOR THE STEVE MILLER BAND AFTER IT WAS USED IN A LEVI JEANS COMMERC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TOP BILLING IN   THE FILMS "BEAUTY SHOP", "TAXI", AND "LAST HOLI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O DEREK'S MOST FAMOUS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63 R&amp;B SONG BY BOB AND EARL WAS COVERED BY BOOKER T, THE MG'S, AND MOST SUCCESSFULLY, THE ROLLING 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9:06Z</dcterms:modified>
  <cp:revision>436</cp:revision>
  <dc:subject/>
  <dc:title>Slide 1</dc:title>
</cp:coreProperties>
</file>