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202D-FA2B-409D-8EC8-C6E2258A1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D5A5-139E-441D-97A1-62295BCF4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AE16-1E4F-4BE9-9620-610221DBB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BB96-96CD-4CC3-8591-B936835F2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46EA-0153-41F9-A1E3-B7ED15A48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0C3A-D163-4024-8FEA-FD6334398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217B-911E-4A98-B192-406575E28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E40A-93C0-411E-A04D-4161A7853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325C-1540-466E-B3EA-190163CDD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9CF9-0B09-453D-A694-33D64AEDC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D3D2-4F2A-4499-91ED-1F92F535D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9158-DBD5-40ED-A6F7-D8EC4B41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6E07-2747-4444-9FA4-239595928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1023-0ED6-4019-B876-01D33D479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6FC2-1D9B-4885-BA2C-92CB8EC37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CD70-CFAE-461E-B125-5FD595AC9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E15A-5157-4382-A820-E0BEF7563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32B5-1F42-4FBD-9494-339CB2BC8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AF09-C8E0-4FBE-A434-DCE948147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E627-4B9B-45F9-A091-E90A0AFA1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5D7A-A9AF-41F7-9AD6-DA47CFA5C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C9F8-792E-4A85-9BC4-F4C83C5E1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0AEC-31F5-444D-A7D5-735290885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TITLE OF A PIXA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33240" y="762120"/>
            <a:ext cx="787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IS HUGH LAURIE MOST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135080" y="762120"/>
            <a:ext cx="6873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BRITS USE FOR "ELEV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"TORTURE HORROR" FILM AND ITS 7 SEQUELS HAVE MADE OVER $1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838080" y="4894200"/>
            <a:ext cx="7467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948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MICROSOFT'S "ACCESS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EIGHING GEMSTONES, A CARAT IS 200 mg.  WHAT IS 1% OF A CARA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TERNATIONAL  SPACE)  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76320" y="762120"/>
            <a:ext cx="719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ECOND "S" STAND FOR IN "I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76320" y="1136520"/>
            <a:ext cx="4162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 "S" STAND FOR IN THIS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4546440" y="990720"/>
            <a:ext cx="4116600" cy="32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71400" y="762120"/>
            <a:ext cx="780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IS HUGH LAURIE MOST FAMOU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8200" y="762120"/>
            <a:ext cx="7527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EVENT DOES NOT AFFECT YOUR BATTING AVERAGE BUT INCREASES YOUR ON-BASE-PERCENT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TITLE OF A PIXA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4880" y="4343400"/>
            <a:ext cx="593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POW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58400" y="761760"/>
            <a:ext cx="70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BRITS USE FOR "ELEV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20760" y="762120"/>
            <a:ext cx="6701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"TORTURE HORROR" FILM AND ITS 7 SEQUELS HAVE MADE OVER $1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00000" y="762120"/>
            <a:ext cx="73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MICROSOFT'S "ACCESS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EIGHING GEMSTONES, A CARAT IS 200 mg.  WHAT IS 1% OF A CARA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4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ECOND "S" STAND FOR IN "I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3752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 "S" STAND FOR IN THIS GRAP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4546440" y="990720"/>
            <a:ext cx="4116600" cy="32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44640" y="762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EVENT DOES NOT AFFECT YOUR BATTING AVERAGE BUT INCREASES YOUR ON-BASE-PERCENT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9:25Z</dcterms:modified>
  <cp:revision>452</cp:revision>
  <dc:subject/>
  <dc:title>Slide 1</dc:title>
</cp:coreProperties>
</file>