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D69F6-46C1-4F2F-9CC1-2652A273B7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BA80B-1E2E-4015-B3BA-64DCE4A09C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B23F8-62EE-4D36-99F6-8F43728995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EBF01-03DA-4325-9375-122908741D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AD383-D4ED-416C-9E9F-2E316CAF86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ED8F8-CE40-49FB-982D-D312E95811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B2E07-75EF-409B-98A3-618FE983B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A7E09-EE90-4F8C-8731-66287EDE33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2C673-EEDA-4A28-B1AB-B5807444C7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EB39A-6036-4AE5-8F93-764BFFA91E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D8348-6EE5-4B42-9B62-85CC938691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726D4-62B2-469B-8CEC-BEF4849BC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C834A-C721-4B34-B41A-1BA851A682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D7235-3D5F-4352-93C2-E1159FCB8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F9588-3BC9-4180-AFC6-D0131B9202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18E7F-5504-42BE-9BD8-3E4EDE0F3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46134-A7CB-4144-BDC8-479CF4FF51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FD495-1871-454F-87BE-12E621D463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FD441-5AD9-4D97-BF98-87219FC0A5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CEA38-7E75-4CAF-969C-D50560321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8EE40-5899-4103-867F-1A3F022AB5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EE906-FE35-4E91-B9DF-1EABFF8B97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2E597-C688-4AE7-A20A-3DF52507EE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HORTEST TITLE OF A PIXAR FIL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33240" y="762120"/>
            <a:ext cx="7877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V SHOW IS HUGH LAURIE MOST FAMOUS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1447920" y="4876920"/>
            <a:ext cx="6248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1135080" y="762120"/>
            <a:ext cx="6873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DO BRITS USE FOR "ELEVATO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1181160" y="762120"/>
            <a:ext cx="67816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3 "TORTURE HORROR" FILM AND ITS 7 SEQUELS HAVE MADE OVER $1 BILL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838080" y="4894200"/>
            <a:ext cx="746784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87948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GOOGLE'S VERSION OF MICROSOFT'S "ACCESS"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WEIGHING GEMSTONES, A CARAT IS 200 mg.  WHAT IS 1% OF A CARAT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INTERNATIONAL  SPACE)  S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976320" y="762120"/>
            <a:ext cx="71913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SECOND "S" STAND FOR IN "IS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110484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PP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76320" y="1136520"/>
            <a:ext cx="416232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 "S" STAND FOR IN THIS GRAP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4" descr=""/>
          <p:cNvPicPr/>
          <p:nvPr/>
        </p:nvPicPr>
        <p:blipFill>
          <a:blip r:embed="rId1"/>
          <a:stretch/>
        </p:blipFill>
        <p:spPr>
          <a:xfrm>
            <a:off x="4546440" y="990720"/>
            <a:ext cx="4116600" cy="322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71400" y="762120"/>
            <a:ext cx="7801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V SHOW IS HUGH LAURIE MOST FAMOUS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0288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08200" y="762120"/>
            <a:ext cx="7527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BASEBALL, WHAT EVENT DOES NOT AFFECT YOUR BATTING AVERAGE BUT INCREASES YOUR ON-BASE-PERCENTA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066680" y="762120"/>
            <a:ext cx="70106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HORTEST TITLE OF A PIXAR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604880" y="4343400"/>
            <a:ext cx="5934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FOLLOW  THE  WORD  "POWER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058400" y="761760"/>
            <a:ext cx="7024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DO BRITS USE FOR "ELEVATO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220760" y="762120"/>
            <a:ext cx="67010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3 "TORTURE HORROR" FILM AND ITS 7 SEQUELS HAVE MADE OVER $1 BILL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00000" y="762120"/>
            <a:ext cx="7344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GOOGLE'S VERSION OF MICROSOFT'S "ACCESS"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09760" y="762120"/>
            <a:ext cx="8124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WEIGHING GEMSTONES, A CARAT IS 200 mg.  WHAT IS 1% OF A CARAT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909720" y="761760"/>
            <a:ext cx="7324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SECOND "S" STAND FOR IN "IS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04920" y="1066320"/>
            <a:ext cx="37526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 "S" STAND FOR IN THIS GRAP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"/>
          <p:cNvPicPr/>
          <p:nvPr/>
        </p:nvPicPr>
        <p:blipFill>
          <a:blip r:embed="rId1"/>
          <a:stretch/>
        </p:blipFill>
        <p:spPr>
          <a:xfrm>
            <a:off x="4546440" y="990720"/>
            <a:ext cx="4116600" cy="322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44640" y="762120"/>
            <a:ext cx="72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BASEBALL, WHAT EVENT DOES NOT AFFECT YOUR BATTING AVERAGE BUT INCREASES YOUR ON-BASE-PERCENTAG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3T22:38:32Z</dcterms:created>
  <dc:creator>Jennifer Budzinski</dc:creator>
  <dc:description/>
  <dc:language>en-US</dc:language>
  <cp:lastModifiedBy>Erich Friedman</cp:lastModifiedBy>
  <dcterms:modified xsi:type="dcterms:W3CDTF">2020-08-31T16:39:25Z</dcterms:modified>
  <cp:revision>452</cp:revision>
  <dc:subject/>
  <dc:title>Slide 1</dc:title>
</cp:coreProperties>
</file>