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0BC1-CB8F-4445-AF9B-13905C3EB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93D-7E25-483F-BB3C-6EDC4B20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FEF-744C-40B8-82DD-D544040B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ECF5-C9D0-4D80-B74A-FAF97C0A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1689-5D7B-42EA-AB47-0DEF324D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4C02-5EC1-468A-A6FA-EB860B0B4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BF7C-6A2A-4C62-B9AD-A5BDC92E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8EE2-3EBC-4E64-85D6-5743D393B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B580-BB14-4BFC-8483-B927ED72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E6B1-DAFB-43A6-8B72-F33C09459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D472-03B9-4BF1-B486-13BFBCA2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E7DE-2C77-4A27-9307-0E2D70D8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8072-655E-4FC7-AB5A-A6CE47BB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51C6-A02B-481E-B7C2-AEF41F3F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4EA3-45DA-44BD-B352-1863B990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B534-1AF3-43A0-8FCD-FE457AC8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DF7-2E7E-4390-B95E-13BCD656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CD35-6377-4ECB-A9F1-D82C9A139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A268-CB3D-4090-BF5B-4F3F92082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600B-E19B-4A85-8B42-3745BA03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B0BE-AEA2-493C-BF1B-2976287F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77A9-171B-4482-BC18-7E7F9B2F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FC8-0766-41A4-96F8-BA80B1089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TITLE OF A PIXA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33240" y="762120"/>
            <a:ext cx="787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HUGH LAURIE MOST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35080" y="762120"/>
            <a:ext cx="6873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BRITS USE FOR "ELEV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"TORTURE HORROR" FILM AND ITS 7 SEQUELS HAVE MADE OVER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9420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94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IGHING GEMSTONES, A CARAT IS 200 mg.  WHAT IS 1% OF A CAR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TERNATIONAL  SPACE) 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76320" y="762120"/>
            <a:ext cx="719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ECOND "S" STAND FOR IN "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6320" y="1136520"/>
            <a:ext cx="4162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"S" STAND FOR IN THIS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546440" y="990720"/>
            <a:ext cx="4116600" cy="32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HUGH LAURIE MOST FAMOU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8200" y="762120"/>
            <a:ext cx="752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EVENT DOES NOT AFFECT YOUR BATTING AVERAGE BUT INCREASES YOUR ON-BASE-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TITLE OF A PIX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4880" y="4343400"/>
            <a:ext cx="59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POW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58400" y="761760"/>
            <a:ext cx="70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BRITS USE FOR "ELEV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0760" y="762120"/>
            <a:ext cx="6701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"TORTURE HORROR" FILM AND ITS 7 SEQUELS HAVE MADE OVER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0000" y="762120"/>
            <a:ext cx="73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IGHING GEMSTONES, A CARAT IS 200 mg.  WHAT IS 1% OF A CARA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ECOND "S" STAND FOR IN "I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3752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"S" STAND FOR IN THIS GRA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4546440" y="990720"/>
            <a:ext cx="411660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44640" y="762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EVENT DOES NOT AFFECT YOUR BATTING AVERAGE BUT INCREASES YOUR ON-BASE-PERCENT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25Z</dcterms:modified>
  <cp:revision>452</cp:revision>
  <dc:subject/>
  <dc:title>Slide 1</dc:title>
</cp:coreProperties>
</file>