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1937-34FD-4834-9D52-69459709F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EE97D-6212-46F8-8BF7-C4A56B783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ABBA-7452-47CA-8E6F-782C7126C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2078-EFBF-4373-9B2E-6D27E1B397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16F7-5955-4057-9441-4A98F74C46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24DF-D229-49FB-A750-B3C7A6C4B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4F8C3-CC16-45DA-A5BF-AEC4935B6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4F03B-AAED-4DD5-A45C-D69F298A6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6187-DE08-4146-93B3-F6469F2DB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8309-3C9B-4317-980F-544BB28E3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6ECA-CE2B-41F4-9C42-F960D9799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33A0-F29E-4C2A-AF36-055A0A30F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D0EE-7433-4498-BAC3-8E6117F531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5D33-6605-4391-B575-67203F3F3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7104-1685-4A73-BA15-D7018FFBA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C5A7-19DD-48D1-A05A-DC21171E1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76AD-F591-445D-AC83-7069189793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691B8-F9AE-473A-8A40-5DA4061BC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944A3-5194-435A-A5EE-DFE8B5CDA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0BC5-FD7F-47E4-9902-6209B2400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C7B0-796E-4EFD-95F4-318DE05B5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555A0-3154-43E1-95CA-696A59C16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EDA7-04F1-43F0-817A-D6CFE2324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876240" y="1066680"/>
            <a:ext cx="73915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MBER        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71480" y="762120"/>
            <a:ext cx="7601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JANIS IAN'S BIGGEST    HIT, HOW OLD IS THE CHARACTER IN THE SO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8380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NUMB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EARS DID "? AND THE MYSTERIANS" SH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1447920" y="4876920"/>
            <a:ext cx="62481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228680" y="762120"/>
            <a:ext cx="66866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NUMBER ON A ROULETTE WHE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57200" y="685800"/>
            <a:ext cx="82296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HOLE NUMBER HAS RECIPROCAL .01234567..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71680" y="68580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RUMP CARDS DOES A TAROT DECK H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6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52600" y="762120"/>
            <a:ext cx="8038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OLD WAS PAUL MCCARTNEY'S FATHER WHEN THE ALBUM "SGT. PEPPER" WAS RECORDED, LEADING TO A SONG ON THE ALBU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47640" y="762120"/>
            <a:ext cx="7848720" cy="30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MBER CAN BE    USED AS A VERB TO       MEAN GETTING RID OF SOMETHING OR SOME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04840" y="4876920"/>
            <a:ext cx="693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19040" y="685800"/>
            <a:ext cx="83059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RALLEL OF LATITUDE FORMS OVER 2000 MILES OF THE BORDER BETWEEN THE U.S. AND CANA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EARS DID "? AND THE MYSTERIANS" SH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1066680" y="4876920"/>
            <a:ext cx="7086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38080" y="609480"/>
            <a:ext cx="73152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SKIN-ROBBINS ADVERTISES HOW MANY FLAVORS OF ICE CR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28720" y="762120"/>
            <a:ext cx="7486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JANIS IAN'S BIGGEST    HIT, HOW OLD IS THE CHARACTER IN THE SO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57160" y="4267080"/>
            <a:ext cx="74296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AIN  EXACTLY  9  LETTERS  WHEN  SPELLED 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8640" indent="-188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NUMB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62080" y="761760"/>
            <a:ext cx="6819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RGEST NUMBER ON A ROULETTE WHEE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19040" y="762120"/>
            <a:ext cx="83059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HOLE NUMBER HAS RECIPROCAL .01234567..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TRUMP CARDS DOES A TAROT DECK HA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23800" y="762120"/>
            <a:ext cx="8096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OLD WAS PAUL MCCARTNEY'S FATHER WHEN THE ALBUM "SGT. PEPPER" WAS RECORDED, LEADING  TO A SONG ON THE ALBU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62120" y="761760"/>
            <a:ext cx="7619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UMBER CAN BE    USED AS A VERB TO       MEAN GETTING RID OF SOMETHING OR SOMEON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ARALLEL OF LATITUDE FORMS OVER 2000 MILES OF THE BORDER BETWEEN THE U.S. AND CANAD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SKIN-ROBBINS ADVERTISES HOW MANY FLAVORS OF ICE CR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22:38:32Z</dcterms:created>
  <dc:creator>Jennifer Budzinski</dc:creator>
  <dc:description/>
  <dc:language>en-US</dc:language>
  <cp:lastModifiedBy>Erich Friedman</cp:lastModifiedBy>
  <dcterms:modified xsi:type="dcterms:W3CDTF">2020-08-31T16:39:49Z</dcterms:modified>
  <cp:revision>433</cp:revision>
  <dc:subject/>
  <dc:title>Slide 1</dc:title>
</cp:coreProperties>
</file>