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F6A-CDAB-461F-929B-EEE8729D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2BF-3866-4662-93E4-E9ADFE3A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5CE-55E0-409B-8D61-65903D44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0F6-0F50-4AA8-9636-C9D1C496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F881-2748-4F4D-A45A-C0BD2303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13F-94E6-4790-AC06-695F305F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76A5-3CFB-45AE-9D02-CFAAD7F9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7C0D-6919-41B7-A069-043B0956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8CA-B1EF-4260-B735-96CAA24B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CE7-D3FE-4B68-93E5-A8EC8353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4DC-3BE6-459C-86C4-6C8C65F0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8702-FE5E-4AA7-9A5B-ED1C20DE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74E-6EE6-4C21-B33C-48A5D184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A90-A1A9-4D40-8063-28FCA67F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D51-DC19-498B-8C0B-B1066E1E3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8ECA-C908-4202-B354-A87CEF61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F26-BAB3-427D-A9C5-2AC1132A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C5FB-34F5-457B-B5A3-B6DBD461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EBD-2E96-4AE7-B8C7-570B6A5A3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CAE2-D447-462C-A0A7-FB7E785A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727-2702-494C-BEEF-1C854E5E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C23-CCA7-4ED7-91F0-3151D11E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67B5-591F-4C53-B235-E8C6B01B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28680" y="762120"/>
            <a:ext cx="668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TO A SONG ON TH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6858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60948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57160" y="4267080"/>
            <a:ext cx="742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XACTLY  9  LETTERS  WHEN  SPELLED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 TO A SONG ON THE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49Z</dcterms:modified>
  <cp:revision>433</cp:revision>
  <dc:subject/>
  <dc:title>Slide 1</dc:title>
</cp:coreProperties>
</file>