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346B-6B00-434F-AC0F-99CAFCF84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421E-7159-4E3D-BBE5-349D90CBE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74A0-21D8-4927-B265-DFB5383EF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BA77-09E1-4F12-8461-9E773EB02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3E0D-A9DE-4407-900F-C62F9E6A1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5652-E173-4430-8E0B-BB51C6512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9E18-39FF-4124-B865-72C0F0C34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FFF3-8954-4FE8-BC82-2C4D9DB01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66D6-111A-4D81-BCC8-E46ACC0EB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368E-3C5A-4C04-B241-1E2DC9BE2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C52B-A981-4128-96D6-B60CFBEE6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49FC-A09C-488C-BF97-D9D7C2B03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DF60-DB97-4339-9E66-981ECE3F1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6D16-7C90-433A-9718-53EE2BB49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7307-0385-4E8B-88F2-7006A911B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1805-ABFF-4BDA-A31D-0A609D03B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0233-096B-4DB9-9CB7-D9396B5B7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BE7E-879D-49C6-8E0B-489E6BC81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E078-5B46-4A39-8ABB-649FB4D77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E66E-AFEF-497C-94C3-F8799B418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AA62-9DD2-40AD-B5D4-92403998E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0F1B-B71B-424C-9BBE-756A21710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FDB2-34B8-401A-A8A0-51E4D3CC0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0666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MBER     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71480" y="762120"/>
            <a:ext cx="7601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JANIS IAN'S BIGGEST    HIT, HOW OLD IS THE CHARACTER IN THE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NUMB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EARS DID "? AND THE MYSTERIANS" SH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228680" y="762120"/>
            <a:ext cx="6686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NUMBER ON A ROULETTE WHE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685800"/>
            <a:ext cx="82296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HOLE NUMBER HAS RECIPROCAL .01234567..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68580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RUMP CARDS DOES A TAROT DECK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52600" y="762120"/>
            <a:ext cx="8038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OLD WAS PAUL MCCARTNEY'S FATHER WHEN THE ALBUM "SGT. PEPPER" WAS RECORDED, LEADING TO A SONG ON THE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30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 CAN BE    USED AS A VERB TO       MEAN GETTING RID OF SOMETHING OR SOME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19040" y="685800"/>
            <a:ext cx="83059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RALLEL OF LATITUDE FORMS OVER 2000 MILES OF THE BORDER BETWEEN THE U.S. AND CANA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EARS DID "? AND THE MYSTERIANS" SH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609480"/>
            <a:ext cx="73152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SKIN-ROBBINS ADVERTISES HOW MANY FLAVORS OF ICE CR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28720" y="762120"/>
            <a:ext cx="7486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JANIS IAN'S BIGGEST    HIT, HOW OLD IS THE CHARACTER IN THE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57160" y="4267080"/>
            <a:ext cx="74296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EXACTLY  9  LETTERS  WHEN  SPELLED 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NUMB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62080" y="761760"/>
            <a:ext cx="6819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NUMBER ON A ROULETTE WHE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19040" y="76212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HOLE NUMBER HAS RECIPROCAL .01234567..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RUMP CARDS DOES A TAROT DECK HA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23800" y="762120"/>
            <a:ext cx="8096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OLD WAS PAUL MCCARTNEY'S FATHER WHEN THE ALBUM "SGT. PEPPER" WAS RECORDED, LEADING  TO A SONG ON THE ALB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 CAN BE    USED AS A VERB TO       MEAN GETTING RID OF SOMETHING OR SOME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RALLEL OF LATITUDE FORMS OVER 2000 MILES OF THE BORDER BETWEEN THE U.S. AND CANA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SKIN-ROBBINS ADVERTISES HOW MANY FLAVORS OF ICE CR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31T16:39:49Z</dcterms:modified>
  <cp:revision>433</cp:revision>
  <dc:subject/>
  <dc:title>Slide 1</dc:title>
</cp:coreProperties>
</file>