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38B8-6C2A-4518-85B8-1578063B3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46DF-0668-473F-AD52-BFD2D5E41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9A9B-780C-42C7-9398-6ACDE35DC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78D9-0A36-459B-B55E-A6C361416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41E3-2DF1-4821-A9CD-62A792BFD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F3F7-060F-4C54-BA9D-BDFF3C81C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7528-3BD9-4D34-BD7B-EA2738BDE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7D3E-A9E4-48A8-A35C-8BA13AC75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2F46-2875-4C8D-A4B1-40F261856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8D26-6EEE-4D03-9067-C219CC82B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C5E5-6642-422A-B8DC-901FDF260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9F1D-D92B-4331-ADCD-736298BDE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E6E2-A459-4F43-BC1B-DA57E0669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DA21-2212-4326-B816-C2DF99D8C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C720-58E9-44D6-BE0B-EB237FD36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363E-BCF7-4295-914D-DB957BBE3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8134-AC7D-4E8F-87FF-AF6ED8A0C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9137-650B-4F3C-9B8F-AED7AE2F2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7ADA-A6DC-4294-ACEB-AF9967E99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3A10-1B41-407F-884E-C5217F1DC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FBBB-B0C0-4016-9693-75C381C27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E7A1-99D7-40EA-B66E-5E0D7A4ED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DF03-107C-47A7-AF9A-18C630940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FOR THE CONDITION SOMETIMES KNOWN AS "WINTER DEPRESS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1800360" y="762120"/>
            <a:ext cx="554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JOU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14280" y="762120"/>
            <a:ext cx="8515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PICTURED IN THE LOGO OF THE WORLD WIDE FUND FOR N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CHCOCK FILM SET A NEW LEVEL OF ACCEPTABILITY FOR VIOLENCE, DEVIANT BEHAVIOR, AND SEXUALITY    IN AMERICAN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9528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RR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4440" y="762120"/>
            <a:ext cx="81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HAS THIS 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JOHN TRAVOLTA AS A REPORTER AND JAMIE LEE CURTIS AS A WORKOUT INSTRU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38160" y="762120"/>
            <a:ext cx="7267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CKELBACK'S BEST-SELLING SINGLE, WHICH FEATURES THE VOICE OF BILLY GIBB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THE CARIBB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85880" y="762120"/>
            <a:ext cx="577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JOU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228600" y="1066680"/>
            <a:ext cx="5029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SEVEN DWARFS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5715000" y="762120"/>
            <a:ext cx="28256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95280" y="4419720"/>
            <a:ext cx="6553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D  (SEASONAL  AFFECTIVE  DISORD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FOR THE CONDITION SOMETIMES KNOWN AS "WINTER DEPRESS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305000" y="4267080"/>
            <a:ext cx="653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#1  SONGS  IN  THE  LAST  5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47680" y="761760"/>
            <a:ext cx="851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PICTURED IN THE LOGO OF THE WORLD WIDE FUND FOR N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28760" y="762120"/>
            <a:ext cx="8286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CHCOCK FILM SET A NEW LEVEL OF ACCEPTABILITY FOR VIOLENCE, DEVIANT BEHAVIOR, AND SEXUALITY    IN AMERICAN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HAS THIS BO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JOHN TRAVOLTA AS A REPORTER AND JAMIE LEE CURTIS AS A WORKOUT INSTRU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42840" y="761760"/>
            <a:ext cx="725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CKELBACK'S BEST-SELLING SINGLE, WHICH FEATURES THE VOICE OF BILLY GIBB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THE CARIBB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501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SEVEN DWARFS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715000" y="762120"/>
            <a:ext cx="2825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0:12Z</dcterms:modified>
  <cp:revision>445</cp:revision>
  <dc:subject/>
  <dc:title>Slide 1</dc:title>
</cp:coreProperties>
</file>