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E091-CAD3-4068-A0D3-BDE6EF1C0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CD19-E5FB-4110-B317-ED4DFD274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E59D-EB18-4AEE-9480-E00700DCE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B148-64DA-4797-9EB3-92742774E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FA5E-6B09-4D27-9071-7B4B04EBA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4F89-7FE3-4340-BF0A-C796F28EF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71A9-C718-456A-A6C5-E3AF8C49F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E7D1-114C-4594-97F4-E99F67B1F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E35E-7782-4463-8B76-AB65BB3B9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53C9-576D-4F62-BFCE-8FB1A475C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9B8E-6D24-4630-9C83-E1F69EF11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E885-FB66-45E2-8C1B-98EC58B92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E92C-3186-43DD-8608-A19175444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EB1F-9A47-4819-9849-AC000316D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729B-5F72-4B3F-BEAE-D12B216F6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62FB-8EDD-44C9-8504-C46661A00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6B52-7063-4D7C-9B83-40A8387F7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2EDE-95ED-4E1D-849A-B568AF924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B286-43A1-4C28-9632-D3A33D3D2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380A-42FD-4968-87D6-0876D36DC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3C04-B289-4EEE-8DC3-1E39285C4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0278-403B-4F4C-9B2D-23392EE99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451F-6F07-462D-98FF-B0B40EEC2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CRONYM FOR THE CONDITION SOMETIMES KNOWN AS "WINTER DEPRESSI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1800360" y="762120"/>
            <a:ext cx="554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MEASURED IN JOU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14280" y="762120"/>
            <a:ext cx="8515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S PICTURED IN THE LOGO OF THE WORLD WIDE FUND FOR NA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SYC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19040" y="76212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CHCOCK FILM SET A NEW LEVEL OF ACCEPTABILITY FOR VIOLENCE, DEVIANT BEHAVIOR, AND SEXUALITY    IN AMERICAN MOV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95288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RRY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14440" y="762120"/>
            <a:ext cx="8115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E HAS THIS BO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3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3047760" cy="30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R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552600" y="762120"/>
            <a:ext cx="8038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FILM STARS JOHN TRAVOLTA AS A REPORTER AND JAMIE LEE CURTIS AS A WORKOUT INSTRUC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CK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938160" y="762120"/>
            <a:ext cx="7267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NICKELBACK'S BEST-SELLING SINGLE, WHICH FEATURES THE VOICE OF BILLY GIBB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V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209520" y="762120"/>
            <a:ext cx="8724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TED CITY IN THE CARIBB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685880" y="762120"/>
            <a:ext cx="577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MEASURED IN JOU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P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228600" y="1066680"/>
            <a:ext cx="50292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NE OF THE SEVEN DWARFS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2" descr=""/>
          <p:cNvPicPr/>
          <p:nvPr/>
        </p:nvPicPr>
        <p:blipFill>
          <a:blip r:embed="rId1"/>
          <a:stretch/>
        </p:blipFill>
        <p:spPr>
          <a:xfrm>
            <a:off x="5715000" y="762120"/>
            <a:ext cx="282564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295280" y="4419720"/>
            <a:ext cx="65534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D  (SEASONAL  AFFECTIVE  DISORD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190440" y="762120"/>
            <a:ext cx="8763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CRONYM FOR THE CONDITION SOMETIMES KNOWN AS "WINTER DEPRESS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1305000" y="4267080"/>
            <a:ext cx="6534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TLES  OF  #1  SONGS  IN  THE  LAST  5  Y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247680" y="761760"/>
            <a:ext cx="8515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S PICTURED IN THE LOGO OF THE WORLD WIDE FUND FOR NA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28760" y="762120"/>
            <a:ext cx="8286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CHCOCK FILM SET A NEW LEVEL OF ACCEPTABILITY FOR VIOLENCE, DEVIANT BEHAVIOR, AND SEXUALITY    IN AMERICAN MOV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E HAS THIS BO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2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304776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FILM STARS JOHN TRAVOLTA AS A REPORTER AND JAMIE LEE CURTIS AS A WORKOUT INSTRUC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42840" y="761760"/>
            <a:ext cx="7258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NICKELBACK'S BEST-SELLING SINGLE, WHICH FEATURES THE VOICE OF BILLY GIBB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90440" y="7621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TED CITY IN THE CARIBBE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51920" y="914400"/>
            <a:ext cx="5010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NE OF THE SEVEN DWARFS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5715000" y="762120"/>
            <a:ext cx="2825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1T16:40:12Z</dcterms:modified>
  <cp:revision>445</cp:revision>
  <dc:subject/>
  <dc:title>Slide 1</dc:title>
</cp:coreProperties>
</file>