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EF1D-413F-4EAD-AABF-D77C9075C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D0D3-C25D-425D-B4D8-056DBD075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FD92-9A4D-468E-A9A8-C118E4C0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AAC6-1957-4160-9759-7137944E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FBBE-343C-4D8D-A4C1-027230D0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8D2D-2E1C-43CF-AB28-4EC6DE94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CA7B-607B-49C7-9F4A-F0C85A880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DEA4-BDC2-4366-8808-B1B61A8E5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687A-852F-4FE2-933F-0E0BC74F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C1F6-0E27-4D08-9D1B-94D45772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95FB-D47A-4F7F-B17A-4C8E4433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28C-EDA4-48E7-B879-5C18C5F4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7B7B-3403-4BCA-9246-79DC8D77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54B3-5AE9-4286-928E-3CF679933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B107-D441-484E-8501-35C32EF8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44D4-DBFE-4A34-B480-DE5C2AD1A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1D70-14EA-4EDC-92E9-48A515E6E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287E-71DB-478C-8687-8F2AF6DE5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0DF0-39EC-49F7-9A75-7B136F33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176A-9F5A-49F6-8551-4ABEE713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05F4-CB3E-4B3F-AF0A-4E4389626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D84F-3F30-4EC7-87B4-46CE4D7E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441E-79BA-48F0-A3F2-DDC1A831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CONDITION SOMETIMES KNOWN AS "WINTER DEPRESS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800360" y="762120"/>
            <a:ext cx="554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14280" y="762120"/>
            <a:ext cx="851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IN THE LOGO OF THE WORLD WIDE FUND FOR 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SET A NEW LEVEL OF ACCEPTABILITY FOR VIOLENCE, DEVIANT BEHAVIOR, AND SEXUALITY    IN AMERICAN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952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RR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JOHN TRAVOLTA AS A REPORTER AND JAMIE LEE CURTIS AS A WORKOUT INSTRU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38160" y="762120"/>
            <a:ext cx="7267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, WHICH FEATURES THE VOICE OF BILLY GIBB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THE CARIBB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85880" y="762120"/>
            <a:ext cx="577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28600" y="1066680"/>
            <a:ext cx="50292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SEVEN DWARF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28256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419720"/>
            <a:ext cx="6553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D  (SEASONAL  AFFECTIVE  DISOR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FOR THE CONDITION SOMETIMES KNOWN AS "WINTER DEPRES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305000" y="4267080"/>
            <a:ext cx="653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#1  SONGS  IN  THE  LAST  5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IN THE LOGO OF THE WORLD WIDE FUND FOR N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8760" y="762120"/>
            <a:ext cx="82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CHCOCK FILM SET A NEW LEVEL OF ACCEPTABILITY FOR VIOLENCE, DEVIANT BEHAVIOR, AND SEXUALITY    IN AMERICAN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JOHN TRAVOLTA AS A REPORTER AND JAMIE LEE CURTIS AS A WORKOUT INSTRU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42840" y="761760"/>
            <a:ext cx="725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, WHICH FEATURES THE VOICE OF BILLY GIBB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THE CARIBB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501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SEVEN DWARFS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715000" y="762120"/>
            <a:ext cx="2825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12Z</dcterms:modified>
  <cp:revision>445</cp:revision>
  <dc:subject/>
  <dc:title>Slide 1</dc:title>
</cp:coreProperties>
</file>