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A1A0-AAB8-4871-8D1D-EB8A564BA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EF24-564B-46C1-B96A-952CD135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5765-DE71-458F-ABD0-9735BC9CF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D561-98E6-4E60-B3F4-39A9084A1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5B39-F137-407F-8ED2-00A94E2613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1EC2-235E-41CC-B664-401CBD33A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DD76-A268-41E6-AAED-664E6F89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AAEA-B0EC-4E62-8F8E-F5305256E1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F9FD-4860-481C-B6E4-FCB98CAC8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6E09-1884-4F48-8472-0BCCA1B02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1E70-BD56-4988-9E43-21D0BA237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2044-7722-4E51-9F6D-51B02CD7F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3671-766E-4250-AB64-65008B686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6B14-A1A1-4DAF-B687-C878B4E2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92725-C438-4958-87FD-1F8167355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C792-8C86-4AC4-9E14-29CDBF84A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1C3E1-779F-4530-A2CB-4B2B92AA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CAE6-ABC5-43F0-9D94-A475137A4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DBF4-170A-4F13-A8A8-414555E13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4949-C269-4DF8-82F7-3C7B32393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B43F-A30F-498E-BE0F-6D1EF2BF5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9253-351D-4526-A96B-894D00034C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340-9B3D-419B-867E-03CBD8DE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IN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52600" y="762120"/>
            <a:ext cx="803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LSEA  (CLINT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14520" y="762120"/>
            <a:ext cx="7914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INA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RO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A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ANISH  HAR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09520" y="762120"/>
            <a:ext cx="8724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NLY ONE OF "THE BIG FOUR" PIANO MAKERS THAT DOES NOT BEGIN WITH THE LETTER "B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C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447920" y="762120"/>
            <a:ext cx="6248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D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380880" y="762120"/>
            <a:ext cx="83822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SUBURBS OF BOTH PHOENIX AND LOS ANGELES, EACH WITH OVER 200,000 PEO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433520" y="4267080"/>
            <a:ext cx="62769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EIGHBORHOODS  OF  NEW  YORK 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14280" y="761760"/>
            <a:ext cx="8515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ONLY PERSON WHOSE PARENTS BOTH GOT THE DEMOCRATIC NOMINATION FOR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57160" y="762120"/>
            <a:ext cx="7429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OLDEST JESUIT-AFFILIATED UNIVERSITY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 FILM STARRED JACK NICHOLSON AND FAYE DUNAW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SELLING IMPORTED BEER IN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90400" y="761760"/>
            <a:ext cx="7963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'S BOBSLED TEAM WAS FEATURED IN THE FILM "COOL RUNNING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OP-20 BEN E. KING SONG OF 1960 WAS COVERED IN 1971 BY ARETHA FRANKLIN, WHOSE VERSION TOPPED THE CHAR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67000" y="762120"/>
            <a:ext cx="6210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APITAL OF NEW HAMPSHI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40:31Z</dcterms:modified>
  <cp:revision>439</cp:revision>
  <dc:subject/>
  <dc:title>Slide 1</dc:title>
</cp:coreProperties>
</file>