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7AC0-6459-48FB-AC98-368215C8A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BB04-D6D9-4983-A6B9-77FFB0C7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5245-1219-48B1-95E0-C48E3CAE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AEBD-CB26-4B38-8AA1-79BB87E4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4BA7-DCB4-4999-849A-C8FCD0FA3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0FF5-D116-4322-B331-595873FE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8257-B178-4634-98DA-FF3815965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E869-B6D6-4C97-95BE-EA6CCBEB0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9D1E-10B5-4A97-B799-B560CEE9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093-C476-436A-A687-314E57AF1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7C1-6B79-4284-A307-5211B4735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7299-9B53-4022-8000-1806E88C9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D5E1-56F6-424E-986C-9CBA1882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009B-A5FC-4C9B-9A97-BD73575D2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AE64-D68B-4785-BDFE-0FBD093B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B38C-0895-4DC9-AE74-2413B522B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DCC5-FCE5-4AB9-855C-D635CD748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22E4-7F5E-4B94-83F7-3688FCCE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0BE1-CF66-498B-A622-A45FC19B6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10BA-515D-4CDC-9F0D-7614A3DE3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2874-8438-4BD2-9CD3-1BEBAAF80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C199-D524-4025-B2DB-E5A8716E4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FAD-5FC0-4AEE-8A40-BD581908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UBURBS OF BOTH PHOENIX AND LOS ANGELES, EACH WITH OVER 200,000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IN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"THE BIG FOUR" PIANO MAKERS THAT DOES NOT BEGIN WITH THE LETTER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LSEA  (CLIN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14520" y="762120"/>
            <a:ext cx="79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ONLY PERSON WHOSE PARENTS BOTH GOT THE DEMOCRATIC NOMINATION FOR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JESUIT-AFFILIATED UNIVERSIT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FILM STARRED JACK NICHOLSON AND FAYE DUN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IMPORTED BEE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A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BOBSLED TEAM WAS FEATURED IN THE FILM "COOL RUNN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  HAR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EN E. KING SONG OF 1960 WAS COVERED IN 1971 BY ARETHA FRANKLIN, WHOSE VERSION TOPPED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"THE BIG FOUR" PIANO MAKERS THAT DOES NOT BEGIN WITH THE LETTER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HAMPSH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UBURBS OF BOTH PHOENIX AND LOS ANGELES, EACH WITH OVER 200,000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33520" y="4267080"/>
            <a:ext cx="62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GHBORHOODS  OF  NEW  YORK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ONLY PERSON WHOSE PARENTS BOTH GOT THE DEMOCRATIC NOMINATION FOR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JESUIT-AFFILIATED UNIVERSIT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FILM STARRED JACK NICHOLSON AND FAYE DUNAW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IMPORTED BEE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BOBSLED TEAM WAS FEATURED IN THE FILM "COOL RUNN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EN E. KING SONG OF 1960 WAS COVERED IN 1971 BY ARETHA FRANKLIN, WHOSE VERSION TOPPED TH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67000" y="762120"/>
            <a:ext cx="6210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HAMPSH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0:31Z</dcterms:modified>
  <cp:revision>439</cp:revision>
  <dc:subject/>
  <dc:title>Slide 1</dc:title>
</cp:coreProperties>
</file>