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3431-6951-430D-BAAB-3793C26C0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0CED-099D-4B54-82BE-FFFC9C972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577F-10A9-4EA2-8538-60B04275B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D493-1F67-4F0C-BDF1-976C5FCE5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BC6E-B336-423B-885E-F524FBBFA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8595-104B-4D08-B65E-2EABC4E48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1BB3-FE17-471C-B425-C81846215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17CF-D472-4B99-A6DB-D9E9E7D7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A7C9-BD60-44F3-B82C-4654067D0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1CFD-5B97-413E-A50F-7CEC4FA69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248C-BE77-4C30-B26E-37B626196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4182-9386-4DE3-AE18-BB609597A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7A8C-F46C-461A-BDAD-6E3AF0E79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4C96-2BD3-4BB6-8ED3-78091E95D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3679-000F-440C-B8FB-4AC27E67A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BB5D-D466-4290-810E-E5E24FBE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A1C9-50A6-442B-8139-9230EC871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56E9-02CA-444D-9FD9-6EB1CEB23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268F-A2B1-4322-9B00-69E09255E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8A2C-1C8C-40E6-B315-A38CC6F69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F7A1-0C2D-480E-AD04-31922DC40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530F-838F-45A4-B3A1-B5B709D8D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852B-9989-485A-A836-FE8BE240F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UBURBS OF BOTH PHOENIX AND LOS ANGELES, EACH WITH OVER 200,000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IN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NE OF "THE BIG FOUR" PIANO MAKERS THAT DOES NOT BEGIN WITH THE LETTER "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LSEA  (CLIN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14520" y="762120"/>
            <a:ext cx="791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ONLY PERSON WHOSE PARENTS BOTH GOT THE DEMOCRATIC NOMINATION FOR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JESUIT-AFFILIATED UNIVERSIT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FILM STARRED JACK NICHOLSON AND FAYE DUN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IMPORTED BEER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A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BOBSLED TEAM WAS FEATURED IN THE FILM "COOL RUNN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NISH  HAR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BEN E. KING SONG OF 1960 WAS COVERED IN 1971 BY ARETHA FRANKLIN, WHOSE VERSION TOPPED TH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NE OF "THE BIG FOUR" PIANO MAKERS THAT DOES NOT BEGIN WITH THE LETTER "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HAMPSH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D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UBURBS OF BOTH PHOENIX AND LOS ANGELES, EACH WITH OVER 200,000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33520" y="4267080"/>
            <a:ext cx="6276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GHBORHOODS  OF  NEW  YORK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ONLY PERSON WHOSE PARENTS BOTH GOT THE DEMOCRATIC NOMINATION FOR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57160" y="762120"/>
            <a:ext cx="7429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JESUIT-AFFILIATED UNIVERSIT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FILM STARRED JACK NICHOLSON AND FAYE DUNAW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IMPORTED BEER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BOBSLED TEAM WAS FEATURED IN THE FILM "COOL RUNN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BEN E. KING SONG OF 1960 WAS COVERED IN 1971 BY ARETHA FRANKLIN, WHOSE VERSION TOPPED THE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67000" y="762120"/>
            <a:ext cx="6210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HAMPSH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0:31Z</dcterms:modified>
  <cp:revision>439</cp:revision>
  <dc:subject/>
  <dc:title>Slide 1</dc:title>
</cp:coreProperties>
</file>