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71A-7A21-41C6-82DA-8BB1AC5F4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167-BEDA-4FD4-A2F9-376D174B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335-612E-4AEC-BA75-40D420CF5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F714-FE5D-41E0-8D81-AECA582C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A6C2-C5C3-43AB-933F-70430EC7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67EE-9AD3-429C-B4AC-8FD9210D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566D-01A0-434A-830D-C584B3D5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91B-7A7E-44E1-8FE3-3E514B50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7B5-E115-4B0E-88F0-7F7AD43D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369-5F6B-4ECA-A76B-0698CC24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67B9-7CEE-4135-86A2-6B055C4F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416-A267-4008-82FD-35C276FE8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472-2E10-4466-BE08-2F4C2348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C459-6850-4C0F-874B-4AABE278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8B50-9423-4E03-BDFB-2C1421B8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1F64-E389-481C-9DC0-C1A77A11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08D6-5BB5-4EC6-9EFB-ADB7073B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967-3481-4688-B186-9ECE3E8E6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7E9-DF9A-4D87-B56F-F84EAC76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806A-A17E-4B07-AA58-520E35EA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E362-2696-4EE2-8B33-DD2CB29B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7EC0-BE69-44DD-8D17-61B86AF77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6CD-C53A-47FC-A37B-059DC024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76280" y="106668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SINGS THE THEME SONGS TO 3 DIFFERENT "CSI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HIT WAS "YOUR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IN THE 1989 FILM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– MARG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174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CARNAL KNOWLEDGE", STARRING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942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 DON'T NEED ANOTHER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68580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"THE TRAP", "THE DEVILS", "WOMEN IN LOVE", "OLIVER!", "HANNIBAL BROOKS", AND "THE THREE MUSKET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8720" y="762120"/>
            <a:ext cx="748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HO PASSED OUT ON STAGE SEVERAL TIMES DUE TO    AN ALCOHOL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HIT WAS "YOUR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TOWNSH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WROTE MOST OF THEIR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DALT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SINGS THE THEME SONGS TO 3 DIFFERENT "CSI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95600" y="4267080"/>
            <a:ext cx="5752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PPEARED  IN  THE  FILM  "TOMM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IN THE 1989 FILM "BAT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CARNAL KNOWLEDGE", STARRING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 DON'T NEED ANOTHER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"THE TRAP", "THE DEVILS", "WOMEN IN LOVE", "OLIVER!", "HANNIBAL BROOKS", AND "THE THREE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HO PASSED OUT ON STAGE SEVERAL TIMES DUE TO    AN ALCOHOL PROB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WROTE MOST OF THEIR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57Z</dcterms:modified>
  <cp:revision>435</cp:revision>
  <dc:subject/>
  <dc:title>Slide 1</dc:title>
</cp:coreProperties>
</file>