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794B-C84B-401D-B228-DDF57D804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AD4F-DB26-433F-A0F1-D8369A082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7C01-199A-42B4-B700-0A16F233A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4F1A-F909-49E4-82FD-ADFFE224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0899-A81D-43CE-B592-72DF5926C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32E-FA5F-4BE6-9EFB-67C059DF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8B5-9B2F-42BA-9323-98704146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511-BB2C-4FF5-9829-AA11ABB0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41CC-3182-4C19-A6F1-6B0EEDB51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036-9D17-4CEA-87A6-C63F71D1E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B56B-4DBD-425A-A0C0-09E58A677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90A6-5A2D-4C8A-9F4E-DADB09C1B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2002-F833-4A57-8922-DBB2A489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45B7-711E-468E-863D-DDA65A267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3A6-6E01-46F5-B504-E6AB6392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5C95-F429-40AB-93E8-320DBFD1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F233-3327-49DC-8269-8B14476D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B794-B7E3-4141-B8E0-4D5B0E6D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879F-543C-497E-96BA-122D9F800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7E68-D2C7-4DEE-95F7-2E7D9817D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DC570-82A0-4307-AC23-4E2D9AE3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6F6D-81EE-4808-B325-BFF87D6D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276-6ADB-4E40-86FE-8F3E718C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76280" y="106668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– MAR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942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68580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8720" y="762120"/>
            <a:ext cx="748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HIT WAS "YOUR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TOWNSH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DALT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SINGS THE THEME SONGS TO 3 DIFFERENT "CSI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PPEARED  IN  THE  FILM  "TOMM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IN THE 1989 FILM "BAT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CARNAL KNOWLEDGE", STARRING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"THE TRAP", "THE DEVILS", "WOMEN IN LOVE", "OLIVER!", "HANNIBAL BROOKS", AND "THE THREE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HO PASSED OUT ON STAGE SEVERAL TIMES DUE TO    AN ALCOHOL PROB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THE WHO WROTE MOST OF THEIR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57Z</dcterms:modified>
  <cp:revision>435</cp:revision>
  <dc:subject/>
  <dc:title>Slide 1</dc:title>
</cp:coreProperties>
</file>