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59D0-5755-4D22-8037-79F77971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C3B8-E7E0-4526-8519-E035F2F7F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7C66-703E-4E5B-9240-B460320E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4C47-F8C4-43E4-8197-54390E57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8470-196B-4728-BFB2-0D36FE7A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9B1D-71F7-4053-8D13-3DF777D7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9FE9-C9D1-444D-A33A-9428B0FC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540-ED35-48B6-B6A0-30AC0BCA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83B2-AD58-425E-B44C-B6DE2299F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4E6E-5EA8-402A-AACA-A26D19D0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C559-AC25-438B-984F-AD5CD6520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9A81-F082-4F67-BF1C-C17C4CC86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9129-3446-4920-B793-A73BB501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9ED0-B02C-4C56-8FC7-E9086B98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3811-566C-427A-851D-7A35488C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0A35-8814-4A3E-9E53-F7B1858F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2D98-66A2-4323-AD3C-91964C22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7846-A858-4B12-BB34-1E5CD6222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9109-8DCC-43E6-BDFC-6F0795519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75D-6042-4AC8-9432-26DDF708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3BD9-E542-41E9-AC9A-07BFAFB5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4506-B915-47F0-8639-C345739CB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03D-3182-4F84-8D6F-9366AA476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76280" y="1066680"/>
            <a:ext cx="8191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SINGS THE THEME SONGS TO 3 DIFFERENT "CSI"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HIT WAS "YOUR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IN THE 1989 FILM "BAT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 – MARG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174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CARNAL KNOWLEDGE", STARRING THE ANSWER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942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 DON'T NEED ANOTHER H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685800"/>
            <a:ext cx="7848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"THE TRAP", "THE DEVILS", "WOMEN IN LOVE", "OLIVER!", "HANNIBAL BROOKS", AND "THE THREE MUSKET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28720" y="762120"/>
            <a:ext cx="7486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HO PASSED OUT ON STAGE SEVERAL TIMES DUE TO    AN ALCOHOL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HIT WAS "YOUR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TOWNSH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WROTE MOST OF THEIR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DALT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SINGS THE THEME SONGS TO 3 DIFFERENT "CSI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95600" y="4267080"/>
            <a:ext cx="5752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PPEARED  IN  THE  FILM  "TOMM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IN THE 1989 FILM "BAT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CARNAL KNOWLEDGE", STARRING THE ANSWER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 DON'T NEED ANOTHER H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"THE TRAP", "THE DEVILS", "WOMEN IN LOVE", "OLIVER!", "HANNIBAL BROOKS", AND "THE THREE MUSKET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HO PASSED OUT ON STAGE SEVERAL TIMES DUE TO    AN ALCOHOL PROBL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WROTE MOST OF THEIR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0:57Z</dcterms:modified>
  <cp:revision>435</cp:revision>
  <dc:subject/>
  <dc:title>Slide 1</dc:title>
</cp:coreProperties>
</file>