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38F7A-E26A-4AA6-866E-733EB222BB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2B0B4-F1E2-4A52-BD32-D2FE90C80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CD8D-C977-4B83-A779-D2287017C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69602-E62E-4641-89D4-028122958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8B47C-7847-4C6A-A2D7-D468DC02F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A46E3-B5A4-406F-A66F-5CBF2339F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B8FFD-DBFF-4043-8086-BB3B3EFC9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DD58F-FC63-4F5F-BE5B-5C7B8930B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0815A-D8E3-4CF6-8962-03E70C1C4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D85C2-1896-427C-8B1B-F43F1DA6F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B431D-A310-4B82-A5F0-3734DE520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929C4-6F00-451D-AF0E-D54A2016A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AEAB9-8C7C-47D6-B95D-0663BAD86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14D02-191E-468A-80E3-11933F176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7CD43-F636-40B5-A1F2-D98EA2EC9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98D62-8EB8-4E10-96A9-6CC2C127B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AAE94-9F1A-413C-81C7-7A01DB086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FC37A-F095-4CBC-9C01-373C2E451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2C400-6199-4036-A892-603503C80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6AF09-5E1C-4227-8AAF-2ADB6B5A8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47821-F8CB-4BC8-A639-0C1349CAB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F3B21-4202-48B2-B87B-004EA17FA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3ADAC-7B95-46E3-9A7C-322BBA5C2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MICROSOFT'S RASTER GRAPHICS EDIT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SI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57200" y="762120"/>
            <a:ext cx="8153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5 MOB FILM STARRED ROBERT DE NIRO, SHARON STONE, AND JOE PESC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447920" y="4876920"/>
            <a:ext cx="6248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76240" y="762120"/>
            <a:ext cx="739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GOOGLE LOGO, WHAT COLOR IS THE "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RTIL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XICAN FOOD INGREDIENT MEANS "SMALL CAKE" IN SPANI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88080"/>
            <a:ext cx="8534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OCOL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0% OF THE WORLD'S ALMONDS AND 20% OF THE WORLD'S PEANUTS ARE USED TO MANUFACTURE WHAT SORT OF PRODU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GAI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5 STAGES OF GRIEF ARE DEPRESSION, DENIAL, ANGER, ACCEPTANCE,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TA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DID VICE PRESIDENT DAN QUAYLE FAMOUSLY MISSPE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COHOLICS  ANONYM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09480" y="762120"/>
            <a:ext cx="7925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L WILSON AND BOB SMITH CO-FOUNDED WHAT ORGANIZATION WITH NEARLY 2 MILLION MEMB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5 MOB FILM STARRED ROBERT DE NIRO, SHARON STONE, AND JOE PESC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TROJAN HORSE MADE O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MICROSOFT'S RASTER GRAPHICS EDIT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0" y="48769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YPES  OF  C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57160" y="761760"/>
            <a:ext cx="7429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GOOGLE LOGO, WHAT COLOR IS THE "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95360" y="762120"/>
            <a:ext cx="8153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XICAN FOOD INGREDIENT MEANS "SMALL CAKE" IN SPANI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0% OF THE WORLD'S ALMONDS AND 20% OF THE WORLD'S PEANUTS ARE USED TO MANUFACTURE WHAT SORT OF PRODUC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5 STAGES OF GRIEF ARE DEPRESSION, DENIAL, ANGER, ACCEPTANCE, AN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DID VICE PRESIDENT DAN QUAYLE FAMOUSLY MISSPE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L WILSON AND BOB SMITH CO-FOUNDED WHAT ORGANIZATION WITH NEARLY 2 MILLION MEMB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TROJAN HORSE MADE O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22:38:32Z</dcterms:created>
  <dc:creator>Jennifer Budzinski</dc:creator>
  <dc:description/>
  <dc:language>en-US</dc:language>
  <cp:lastModifiedBy>Erich Friedman</cp:lastModifiedBy>
  <dcterms:modified xsi:type="dcterms:W3CDTF">2020-08-31T16:41:18Z</dcterms:modified>
  <cp:revision>426</cp:revision>
  <dc:subject/>
  <dc:title>Slide 1</dc:title>
</cp:coreProperties>
</file>