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255E9-4327-42D3-A27B-63DDA7CBA9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D6DA2-910C-4FCE-9545-77E6BF28A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F590F-231C-4A6A-A149-5AB41CDFD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4534E-9F2D-457E-BE01-88B9A6776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C9E9A-B7C8-4E31-94B5-9DE06AB81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9442C-AF7D-40B9-97AB-F4F08D658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48C72-C125-4816-B416-170C6CF61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A4E6E-1D98-4F9A-B59C-D7F39857D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3C626-B1CC-42B7-96FC-AD8A2B8D8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60613-02DC-4615-B75C-9E92DD6E7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2FA39-A592-4518-936C-7375F650D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44B57-21EA-47D5-8557-2ADC945FC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313A0-53B5-497F-A02B-4880011EE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2B832-4A69-458F-97F7-0D4E281DC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37CD0-8AD6-4256-B19E-3C8E5AA60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84EEA-D2D2-4AF9-A8B3-257A3522F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ECFA6-2452-4BBC-96D5-592AC0C08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F0C4C-CC61-40C9-B80D-97AED857E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81BDF-129E-4C50-8E0C-FC8A96398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A20C1-A05B-4A21-BFE7-BB5A44DB7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CDAAF-6C3A-4005-9BA7-CFA6C628D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31F36-022F-4D02-B211-116D58755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26002-0B63-4232-87B4-4A73C2995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MICROSOFT'S RASTER GRAPHICS EDIT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SI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57200" y="762120"/>
            <a:ext cx="8153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5 MOB FILM STARRED ROBERT DE NIRO, SHARON STONE, AND JOE PESC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447920" y="4876920"/>
            <a:ext cx="6248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76240" y="762120"/>
            <a:ext cx="739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GOOGLE LOGO, WHAT COLOR IS THE "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RTIL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XICAN FOOD INGREDIENT MEANS "SMALL CAKE" IN SPANIS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88080"/>
            <a:ext cx="8534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OCOL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0% OF THE WORLD'S ALMONDS AND 20% OF THE WORLD'S PEANUTS ARE USED TO MANUFACTURE WHAT SORT OF PRODUC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GAI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5 STAGES OF GRIEF ARE DEPRESSION, DENIAL, ANGER, ACCEPTANCE,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TA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DID VICE PRESIDENT DAN QUAYLE FAMOUSLY MISSPE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COHOLICS  ANONYM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09480" y="762120"/>
            <a:ext cx="7925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LL WILSON AND BOB SMITH CO-FOUNDED WHAT ORGANIZATION WITH NEARLY 2 MILLION MEMB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5 MOB FILM STARRED ROBERT DE NIRO, SHARON STONE, AND JOE PESC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TROJAN HORSE MADE O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MICROSOFT'S RASTER GRAPHICS EDIT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0" y="48769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YPES  OF  C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57160" y="761760"/>
            <a:ext cx="7429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GOOGLE LOGO, WHAT COLOR IS THE "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95360" y="762120"/>
            <a:ext cx="8153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XICAN FOOD INGREDIENT MEANS "SMALL CAKE" IN SPANIS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0% OF THE WORLD'S ALMONDS AND 20% OF THE WORLD'S PEANUTS ARE USED TO MANUFACTURE WHAT SORT OF PRODUC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5 STAGES OF GRIEF ARE DEPRESSION, DENIAL, ANGER, ACCEPTANCE, AN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DID VICE PRESIDENT DAN QUAYLE FAMOUSLY MISSPE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LL WILSON AND BOB SMITH CO-FOUNDED WHAT ORGANIZATION WITH NEARLY 2 MILLION MEMB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TROJAN HORSE MADE OF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3T22:38:32Z</dcterms:created>
  <dc:creator>Jennifer Budzinski</dc:creator>
  <dc:description/>
  <dc:language>en-US</dc:language>
  <cp:lastModifiedBy>Erich Friedman</cp:lastModifiedBy>
  <dcterms:modified xsi:type="dcterms:W3CDTF">2020-08-31T16:41:18Z</dcterms:modified>
  <cp:revision>426</cp:revision>
  <dc:subject/>
  <dc:title>Slide 1</dc:title>
</cp:coreProperties>
</file>