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672D-9626-4025-8610-16507A32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17DE-0FA7-44DA-8D55-8EC00F82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309B-6589-4182-9B2E-A772B438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CE50-DDD9-466B-A140-8CB6F7793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88E1-0A5A-4DF3-8880-0C102E1B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6EDC-BBFB-4743-BAF3-FB76D4C19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7AC-107E-4841-9CF1-3DBD1C939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995B-C751-4B83-9CBA-0966A0BE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C50-2DE4-4592-9E94-2B05C362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4AAD-18CF-4200-83DD-98F232AFA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FF04-DBBA-4BE8-AE93-C3487C3C2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E1A1-3619-41A6-BBA2-FD80796D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91A-9DA5-4791-B35D-7031648F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0B0E-6619-4881-97BE-7A63BC28A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56BC-7AE9-4B12-A223-A29ED2F4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5E6-5FCE-4C73-8845-597DE93A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C19F-DA3D-42DE-AF7E-89993BF9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087B-2AE0-41D1-90B8-B993FA1F3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8D8F-DBE7-4EBD-966A-231D5528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D203-6205-4FEA-8351-41855A24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73B8-D641-435B-A53C-20A8BF9EB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8C4-9032-422C-A315-FD9BC781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7B5E-08E0-42FB-AB14-364CDC14D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MOB FILM STARRED ROBERT DE NIRO, SHARON STONE, AND JOE PES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T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OOD INGREDIENT MEANS "SMALL CAKE"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8808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 OF THE WORLD'S ALMONDS AND 20% OF THE WORLD'S PEANUTS ARE USED TO MANUFACTURE WHAT SORT OF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G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STAGES OF GRIEF ARE DEPRESSION, DENIAL, ANGER, ACCEPTANC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COHOLICS  ANONY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WILSON AND BOB SMITH CO-FOUNDED WHAT ORGANIZATION WITH NEARLY 2 MILLION ME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MOB FILM STARRED ROBERT DE NIRO, SHARON STONE, AND JOE PESC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ROJAN HORSE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OOD INGREDIENT MEANS "SMALL CAKE"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 OF THE WORLD'S ALMONDS AND 20% OF THE WORLD'S PEANUTS ARE USED TO MANUFACTURE WHAT SORT OF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STAGES OF GRIEF ARE DEPRESSION, DENIAL, ANGER, ACCEPTANC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WILSON AND BOB SMITH CO-FOUNDED WHAT ORGANIZATION WITH NEARLY 2 MILLION ME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ROJAN HORSE MAD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1:18Z</dcterms:modified>
  <cp:revision>426</cp:revision>
  <dc:subject/>
  <dc:title>Slide 1</dc:title>
</cp:coreProperties>
</file>